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0CA-FA51-4DFA-A58C-02819A5A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36D-36B1-462E-BB9F-0290BCD4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2AA-4803-4452-A4CC-271492CA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6FF-D0EC-4040-875F-C25E31AD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F726-3B31-480B-8C34-3087DB49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5A87-8B5D-494C-92B1-0F49340E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AF5A-C6CC-40F6-8EB3-87FCF00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7E85-2CB2-4E6E-B4F5-13F54D2B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7B2A-9AC1-44ED-AC97-1234A525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AB3F-2D32-438B-91E9-B24E2C73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C1FD-66D1-4B33-A46B-45A0C63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28D-86B2-4640-902F-4B3510DD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B6AD-7A3D-4018-9691-668F24D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2FBF-60C5-4161-A42E-B22BCAFA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B4AD-475F-48D6-ABD1-7A77E52C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4872-27FB-4F4E-A876-F3515C67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2744-1B2A-45C8-BEE3-908BFB6F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C13-AF29-467D-B5A1-1F9DB267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7F4-0126-4148-BEDE-66846BC7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C5F-D9CD-43F4-9491-9A725270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5D9-FB3D-4F22-96D7-86882D50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CA7-8173-4052-9896-EF19D7C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1C0-7F1C-4674-9D52-8A6E1C91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AB6-652F-493E-81CF-5122BE3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57CB-E712-451E-9A5E-8C01DB22DC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AC26-A586-448A-95E2-C998BFF496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2960" y="764640"/>
            <a:ext cx="823104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6000" spc="-1" strike="noStrike">
                <a:solidFill>
                  <a:srgbClr val="003366"/>
                </a:solidFill>
                <a:latin typeface="Times New Roman"/>
              </a:rPr>
              <a:t>Тема собрания</a:t>
            </a:r>
            <a:br>
              <a:rPr sz="6000"/>
            </a:b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«Как помочь ребёнку стать внимательным?»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6011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Times New Roman"/>
              </a:rPr>
              <a:t>Переключение внимания-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это перемещение внимания с одного объекта на другой или с одной деятельности на другую в связи с постановкой новой задачи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880" y="2205000"/>
            <a:ext cx="8529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Times New Roman"/>
              </a:rPr>
              <a:t>Внимание </a:t>
            </a:r>
            <a:br>
              <a:rPr sz="6600"/>
            </a:br>
            <a:r>
              <a:rPr b="1" lang="en-US" sz="6600" spc="-1" strike="noStrike">
                <a:solidFill>
                  <a:srgbClr val="006666"/>
                </a:solidFill>
                <a:latin typeface="Times New Roman"/>
              </a:rPr>
              <a:t>можно и нужно развивать!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240" y="2205000"/>
            <a:ext cx="86738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imes New Roman"/>
              </a:rPr>
              <a:t>«Сегодня на родительском собрании мы поняли, что внимание…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3284280"/>
            <a:ext cx="76932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en-US" sz="6000" spc="-1" strike="noStrike">
                <a:solidFill>
                  <a:srgbClr val="003366"/>
                </a:solidFill>
                <a:latin typeface="Times New Roman"/>
              </a:rPr>
              <a:t>Желаю вам успехов!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Цели:</a:t>
            </a: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)  осмыслить то, что называют  «вниманием» и  познакомиться   основными свойствами внимания;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2) изучить в ходе собрания  упражнения и игры, которые способствуют  развитию внимания учащихс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565000"/>
            <a:ext cx="83134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6666"/>
                </a:solidFill>
                <a:latin typeface="Times New Roman"/>
              </a:rPr>
              <a:t>Внимательный ребёнок</a:t>
            </a:r>
            <a:r>
              <a:rPr b="1" lang="en-US" sz="7200" spc="-1" strike="noStrike">
                <a:solidFill>
                  <a:srgbClr val="006666"/>
                </a:solidFill>
                <a:latin typeface="Times New Roman"/>
              </a:rPr>
              <a:t> – это …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Результаты анкетирования родителей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2565360"/>
          <a:ext cx="619128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65360"/>
                    <a:ext cx="61912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2349360"/>
            <a:ext cx="7775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6666"/>
                </a:solidFill>
                <a:uFillTx/>
                <a:latin typeface="Times New Roman"/>
              </a:rPr>
              <a:t> </a:t>
            </a:r>
            <a:r>
              <a:rPr b="1" i="1" lang="en-US" sz="5400" spc="-1" strike="noStrike" u="sng">
                <a:solidFill>
                  <a:srgbClr val="006666"/>
                </a:solidFill>
                <a:uFillTx/>
                <a:latin typeface="Times New Roman"/>
              </a:rPr>
              <a:t>Внимание</a:t>
            </a: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 – это способность человека сосредоточиться на определенных объектах и явлениях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707920"/>
            <a:ext cx="83134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66"/>
                </a:solidFill>
                <a:latin typeface="Times New Roman"/>
              </a:rPr>
              <a:t>Основные свойства внимания</a:t>
            </a: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 -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6666"/>
                </a:solidFill>
                <a:latin typeface="Times New Roman"/>
              </a:rPr>
              <a:t>концентрация, объём, устойчивость, распределение и переключение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3716280"/>
            <a:ext cx="86421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Times New Roman"/>
              </a:rPr>
              <a:t>Концентрация внимания-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умение сосредоточиться на нужном объекте, отдельных его частях или признаках, способность вникнуть в проблему, задачу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2491920"/>
            <a:ext cx="80643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Times New Roman"/>
              </a:rPr>
              <a:t>Объём внимания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характеризуется количеством одновременно воспринимаемых и удерживаемых в сознании объектов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1483920"/>
            <a:ext cx="8745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66"/>
                </a:solidFill>
                <a:latin typeface="Times New Roman"/>
              </a:rPr>
              <a:t>Устойчивость внимания-</a:t>
            </a: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66"/>
                </a:solidFill>
                <a:latin typeface="Times New Roman"/>
              </a:rPr>
              <a:t>это одновременное внимание к двум или нескольким объектам при одновременном выполнении действий с ними или наблюдения за ними.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21:23:48Z</dcterms:created>
  <dc:creator> Admin</dc:creator>
  <dc:description/>
  <dc:language>en-US</dc:language>
  <cp:lastModifiedBy> Admin</cp:lastModifiedBy>
  <dcterms:modified xsi:type="dcterms:W3CDTF">2009-11-17T21:18:35Z</dcterms:modified>
  <cp:revision>4</cp:revision>
  <dc:subject/>
  <dc:title> Тема собрания «Как помочь ребёнку стать внимательным?»</dc:title>
</cp:coreProperties>
</file>