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.wmf" ContentType="image/x-wmf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5436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541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43213-6E92-494F-9820-7366952067A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1CF30107-145C-4AE1-A6FB-2A6B23CDF5A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BFCF17C-64CF-42E9-BC11-F7089EE7BF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9B4433E-66BA-4919-A5EB-467C080B2F7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E42B380-EE18-4FBA-B2BA-346733A074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594FCE4-DB7C-4663-A7D0-4CB06897E01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41A1FB31-AFC5-4068-B3C0-275AEDBA751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07138DC-FADD-4D72-B52E-2291C9A6C4D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33" name=""/>
          <p:cNvSpPr/>
          <p:nvPr/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253F74B-0930-4F0C-AFC4-E6B81CB11A9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0CD5A56-A424-4B4F-834A-5D32F4CCD4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37" name=""/>
          <p:cNvSpPr/>
          <p:nvPr/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15E92283-2DE0-425D-9D30-44E654F0A1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DBB3ACB3-0AE2-4044-9B8A-6F90E05AC18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41" name=""/>
          <p:cNvSpPr/>
          <p:nvPr/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D03323B-1C02-4E11-AA22-98A477D082C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3D4E45E0-79D1-45DD-A782-2227EED8437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45" name=""/>
          <p:cNvSpPr/>
          <p:nvPr/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828E46A0-359A-4674-A7DD-0D7E37B17CC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DD4A359C-AFFF-47FD-8820-B8CF2B7DDB0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A63867E2-DF11-4B89-994B-0488BDD2394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5B8E367-68F5-48B5-B3DB-FF41EC94973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C70FA3E-177B-4CC8-A550-90D9AE51C5C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E9129D7-1CD9-4097-AD97-8B1A3463685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47D7D13-8060-4D26-BC24-28D948B9F8E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8B3CDCF-FD26-45D5-A9F5-6F2E578F6F5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D6C4651-00F8-454E-BA6E-DC72D124E17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0DBAAAB-7300-4F88-9BBB-FE91F4D16D0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C7A02685-B2DA-4A41-8242-C3F31E78E53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66B9F848-0B89-42FB-AE2F-D8191EAA555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18246B4-6677-4DB4-8551-90B22FA0389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AFD9B3CB-6E4F-4885-937E-E6110FCC7F7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F92C145-8B25-4EFA-879C-6FD8FDB1477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81F47AA-AFA9-41D5-BDFB-72DE511BABB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4517C777-62ED-49F2-9D89-C0B3E1AE005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BE92E2FC-0344-4EB3-AA5A-97506935DEF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0F5894A8-9491-4E77-9565-9AF3A43136E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3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5947C30D-A8ED-41AA-8461-FA52E3F96A6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26BB15A6-A822-48C3-B732-25BE931E5E4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17" name=""/>
          <p:cNvSpPr/>
          <p:nvPr/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FF607EE-73BA-4916-81BF-DB0BD3BC024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76A07C69-1C46-4B90-9F49-1943E4F90B4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621" name=""/>
          <p:cNvSpPr/>
          <p:nvPr/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EF227C47-44E7-4D3C-B268-BB66E9C330D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24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884760" y="8685360"/>
            <a:ext cx="2958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8D35CC3-8AF9-45EC-AF6F-196989E25DC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FD3618D6-DF91-40B0-9CAC-CA1185135D4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00160" algn="r">
              <a:lnSpc>
                <a:spcPct val="100000"/>
              </a:lnSpc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fld id="{18A26763-FD5D-4E68-94AD-327E6BB4B7E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629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3D14-191C-46AC-ABB7-6A0BEDA43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89F0B-8485-425A-A8ED-AD7371313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C8C5-F793-4666-9917-685161DA5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95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13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95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13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FDAC-7727-4BA6-A726-A4C44C522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07EB-10C5-4F31-8BB5-9964433B12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FBCD-E0A3-48EE-8EF4-A9F58CE759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4341-3737-48B8-95E7-F836541DC0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5803-8D39-497E-A2AC-70171917EE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2D9B8-9190-4EDD-BEF0-11478E918B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678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B511-4291-4EAB-8946-461744CE76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533F-38F3-401D-A434-EB7915045C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73806-02CA-48FF-9CA8-775D5169E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5FA7A-ABBD-4F99-8F9A-1B56FDA8FF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96D2-1620-4E71-8CA0-74EE2864E9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70EB-B558-48B8-AE1B-FBC838E862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9F2DA-D7AD-44BC-B57E-04E155D3A3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395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2413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395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2413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8C3E-F8D5-4E20-B6AD-EFD6A326E5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8B2-7739-42F1-A665-E3C9294C4B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9A2-6535-40A4-9EC1-81E9278A21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E6F-46ED-4FA2-94DA-BAE5C3DD75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D3E-5467-4C17-9FC2-63597B1328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D57-F2BC-4EE2-9BC6-4CD9FFE02A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36D6-772C-4165-ADFA-691B665BAA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678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4B2-4911-465A-BDBA-F3310B590A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DC5-A43D-4BC1-B3FB-942FB638C8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5FE-CEC6-4968-BA04-BBF77154B9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4C2-53B5-4032-AB17-C7B4228271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CBC-2BA0-46BA-9D60-916D12121D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058-5B89-4E09-975D-D832C42472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95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413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83808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95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413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C21-B8A9-4179-87B4-6368C14A12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4CD36-D4F6-406E-AD59-D1C31F2B85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ED19B-496D-4927-96FD-7B1F4DC606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F3BF7-3512-4A3F-A907-03A549E1F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9827-CFEE-4EC7-A86C-ABF5C603F0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6DA6C-92FE-4466-B27E-F4CE89BBC2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71F8F-6175-4372-A2E4-3FC56DB90D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678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1DB2C-5834-4C8F-ACD6-A6F3BDA9D0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151B4-3525-439F-B9F0-A84640C98A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206E3-C41A-4863-B90E-03EBBFDF3C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8351F-DC31-4DF5-AE57-6BB2E5D0D8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273B4-49B8-417C-8D9F-A5780FA57E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40BCE-C9F0-4F54-A124-28825A3CE9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395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413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808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395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2413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BDA31-5D05-4EB3-BBAE-C8DF5F2E97A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5B10C-F465-47E6-A1C1-06DCD7441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F8A1-3784-45FB-BD9A-45FFB9F1A8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CD677-37AA-40E0-8033-347634325A2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35374-9D6C-42FF-BA91-C05FBF5651D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F9462-15C1-48EA-8246-E13A00399CB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91747-A4F1-4B63-B780-593FF94828A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678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3562F-49CF-45B6-B4C0-A8D86D261E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1674F-EEC7-46F3-88EE-F1E0A29085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E48AC-C6CC-45D1-B0EA-FB696CD4951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77316-B9C6-48DE-8BD7-A6B1673CE5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B6174-846C-47AE-BA2D-4724F6FA03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096C5-C02E-4594-89B7-1CF46C06A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678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4E68-FBBC-4BCB-ABD0-D929A96E732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395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413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5395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2413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79997-4867-4158-8475-38A08DF7A26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BA8E-00CE-422B-BCC4-648D214D0F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33C4-FB74-473A-A1B7-55E5505568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2413-E0EB-4687-AE9B-B758729D3EB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164F-88C6-4BBB-8C32-4532486D2E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3F9C-88C4-4460-9A05-759CAA62B1C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678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DEB8-AE7A-421A-B481-BCB612840AD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7808-F48E-4848-8EC1-F871A1F2B2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071A-6BBE-4A31-8275-E07BD27664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71AC-4715-4414-B13E-4C715DD19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813E-058F-4415-886E-4E42BD2C18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F6DD-A4FD-44B3-A573-865EE66322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3F5D-91F5-4825-895B-83DDD06D01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395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413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83808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5395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2413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D6BD-73BB-4D46-B1F6-DF48E1E538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5E136-513A-4CFE-BA8E-FFB9852D87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07810-8712-4181-B3FA-A39E0B735A3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FCFA4-99E3-459F-A4DD-907FEFBE2C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4FD4ED-1BA2-43AA-826C-E84BE9BE58E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6932FC-04B9-4C85-B46F-21BE5F09C6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678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42C0F6-B732-4CF3-BBEA-58EA0D6EE4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CAF45-818F-4F1B-A971-D6CEEF40D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4E9C-47BF-49A1-AA99-B6BA32052C8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40E5F3-80F1-400B-9532-94F8C0961E6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8188C-D66F-4AED-9567-DDE420324E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9FD0F-70DB-4D5A-B63B-44B384D3A0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555D1-7A39-422C-98A7-23275BDEB7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395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413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395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413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021F21-0CB4-43EA-8A1D-06AB31BDF9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3AC35D-FCB9-4809-8C7B-3CFB43B5504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09EDE-363E-4ADB-8D26-99EE8205A7D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B9009-C48D-4CED-ABB0-CE12BE3958B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F5E29-9B4D-490F-BFEF-B32106C3D4F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F45F4-5E0D-480C-BF9E-12D22C5CB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3896-E1F9-455E-BEB5-26DD1C32B10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44080"/>
            <a:ext cx="8367840" cy="65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003AC-2291-4513-B1F0-CC9E3384B2B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1385E-C26E-46DB-B03A-BFF76BB04B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DCDC5-F0DF-4639-9025-261EBDC195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00F97-3269-4332-9A5C-1EB69EB67CD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838080" y="4084560"/>
            <a:ext cx="798984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E2C2DA-F0F1-4D92-909F-BB102B72B3B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32360" y="19047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808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932360" y="4084560"/>
            <a:ext cx="38988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5D9CF-292E-407A-83CF-894AE244279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5395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41320" y="19047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83808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5395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241320" y="4084560"/>
            <a:ext cx="25725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3C277-19CE-4BEF-8725-48CA59531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49.xml"/><Relationship Id="rId32" Type="http://schemas.openxmlformats.org/officeDocument/2006/relationships/slideLayout" Target="../slideLayouts/slideLayout50.xml"/><Relationship Id="rId33" Type="http://schemas.openxmlformats.org/officeDocument/2006/relationships/slideLayout" Target="../slideLayouts/slideLayout51.xml"/><Relationship Id="rId34" Type="http://schemas.openxmlformats.org/officeDocument/2006/relationships/slideLayout" Target="../slideLayouts/slideLayout52.xml"/><Relationship Id="rId35" Type="http://schemas.openxmlformats.org/officeDocument/2006/relationships/slideLayout" Target="../slideLayouts/slideLayout53.xml"/><Relationship Id="rId36" Type="http://schemas.openxmlformats.org/officeDocument/2006/relationships/slideLayout" Target="../slideLayouts/slideLayout54.xml"/><Relationship Id="rId37" Type="http://schemas.openxmlformats.org/officeDocument/2006/relationships/slideLayout" Target="../slideLayouts/slideLayout55.xml"/><Relationship Id="rId38" Type="http://schemas.openxmlformats.org/officeDocument/2006/relationships/slideLayout" Target="../slideLayouts/slideLayout56.xml"/><Relationship Id="rId39" Type="http://schemas.openxmlformats.org/officeDocument/2006/relationships/slideLayout" Target="../slideLayouts/slideLayout57.xml"/><Relationship Id="rId40" Type="http://schemas.openxmlformats.org/officeDocument/2006/relationships/slideLayout" Target="../slideLayouts/slideLayout58.xml"/><Relationship Id="rId41" Type="http://schemas.openxmlformats.org/officeDocument/2006/relationships/slideLayout" Target="../slideLayouts/slideLayout59.xml"/><Relationship Id="rId4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19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6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AA81F-1668-463C-89B5-DD5A29C032E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2560" cy="6853320"/>
            <a:chOff x="0" y="0"/>
            <a:chExt cx="9142560" cy="685332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61480" cy="20808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6148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18584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080"/>
              <a:ext cx="1277640" cy="6291720"/>
              <a:chOff x="7848720" y="1080"/>
              <a:chExt cx="1277640" cy="629172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080"/>
                <a:ext cx="744480" cy="2253240"/>
                <a:chOff x="8381880" y="1080"/>
                <a:chExt cx="744480" cy="225324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080"/>
                  <a:ext cx="261720" cy="258840"/>
                  <a:chOff x="8704440" y="1080"/>
                  <a:chExt cx="261720" cy="25884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080"/>
                    <a:ext cx="261720" cy="258840"/>
                    <a:chOff x="8704440" y="1080"/>
                    <a:chExt cx="261720" cy="25884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05880" y="-360"/>
                      <a:ext cx="258840" cy="2617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" name=""/>
                  <p:cNvSpPr/>
                  <p:nvPr/>
                </p:nvSpPr>
                <p:spPr>
                  <a:xfrm rot="16200000">
                    <a:off x="8824680" y="139320"/>
                    <a:ext cx="9720" cy="93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739720" y="81360"/>
                    <a:ext cx="2556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825400" y="72000"/>
                    <a:ext cx="46080" cy="19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95600" y="119520"/>
                    <a:ext cx="6120" cy="42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22520" y="197640"/>
                    <a:ext cx="46080" cy="9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754120" y="171720"/>
                    <a:ext cx="20520" cy="252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7756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7756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4" name=""/>
              <p:cNvGrpSpPr/>
              <p:nvPr/>
            </p:nvGrpSpPr>
            <p:grpSpPr>
              <a:xfrm>
                <a:off x="7848720" y="1600200"/>
                <a:ext cx="811080" cy="4692600"/>
                <a:chOff x="7848720" y="1600200"/>
                <a:chExt cx="811080" cy="4692600"/>
              </a:xfrm>
            </p:grpSpPr>
            <p:pic>
              <p:nvPicPr>
                <p:cNvPr id="6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7792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7756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7792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7756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7792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4" name=""/>
            <p:cNvSpPr/>
            <p:nvPr/>
          </p:nvSpPr>
          <p:spPr>
            <a:xfrm>
              <a:off x="7953480" y="4908600"/>
              <a:ext cx="1172880" cy="19224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39080" y="4857840"/>
              <a:ext cx="1201680" cy="1982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27920" y="2817720"/>
              <a:ext cx="1214640" cy="40197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10360" y="3538440"/>
              <a:ext cx="962280" cy="21672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44000" y="426960"/>
              <a:ext cx="896760" cy="50310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50120" y="262080"/>
              <a:ext cx="892440" cy="30542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43760" y="0"/>
              <a:ext cx="558720" cy="33354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1440"/>
              <a:ext cx="282600" cy="33354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866000" y="1440"/>
              <a:ext cx="71640" cy="68407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58160" y="6229440"/>
              <a:ext cx="1147680" cy="6015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0C8B2B8-5CAF-4A77-9092-54AB202A9D50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2649600" cy="6840360"/>
            <a:chOff x="0" y="0"/>
            <a:chExt cx="2649600" cy="6840360"/>
          </a:xfrm>
        </p:grpSpPr>
        <p:sp>
          <p:nvSpPr>
            <p:cNvPr id="136" name=""/>
            <p:cNvSpPr/>
            <p:nvPr/>
          </p:nvSpPr>
          <p:spPr>
            <a:xfrm>
              <a:off x="1981080" y="0"/>
              <a:ext cx="668520" cy="6840360"/>
            </a:xfrm>
            <a:prstGeom prst="rect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5d74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22560" cy="684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83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8352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3"/>
          </p:nvPr>
        </p:nvSpPr>
        <p:spPr>
          <a:xfrm>
            <a:off x="693396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B7CBB-D81E-4D55-BB8E-FF2EA0C11E94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18960" y="1828800"/>
            <a:ext cx="8807400" cy="5011560"/>
            <a:chOff x="318960" y="1828800"/>
            <a:chExt cx="8807400" cy="5011560"/>
          </a:xfrm>
        </p:grpSpPr>
        <p:sp>
          <p:nvSpPr>
            <p:cNvPr id="180" name=""/>
            <p:cNvSpPr/>
            <p:nvPr/>
          </p:nvSpPr>
          <p:spPr>
            <a:xfrm>
              <a:off x="838080" y="4618080"/>
              <a:ext cx="8288280" cy="222228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3360" y="1828800"/>
              <a:ext cx="8793000" cy="501156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4654440"/>
              <a:ext cx="8288280" cy="218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8080" y="1828800"/>
              <a:ext cx="7296120" cy="28440"/>
            </a:xfrm>
            <a:prstGeom prst="pie">
              <a:avLst/>
            </a:prstGeom>
            <a:gradFill rotWithShape="0">
              <a:gsLst>
                <a:gs pos="0">
                  <a:srgbClr val="46784a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1828800"/>
              <a:ext cx="28800" cy="281628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6640" y="4610160"/>
              <a:ext cx="28440" cy="223020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8960" y="4610160"/>
              <a:ext cx="4552920" cy="28440"/>
            </a:xfrm>
            <a:prstGeom prst="pie">
              <a:avLst/>
            </a:prstGeom>
            <a:gradFill rotWithShape="0">
              <a:gsLst>
                <a:gs pos="0">
                  <a:srgbClr val="46784a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8960" y="4610160"/>
              <a:ext cx="30240" cy="223020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Num" idx="4"/>
          </p:nvPr>
        </p:nvSpPr>
        <p:spPr>
          <a:xfrm>
            <a:off x="6936840" y="6245280"/>
            <a:ext cx="1884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A39FB-ECC1-46B4-971A-11296F504C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body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0"/>
            <a:ext cx="9142560" cy="6853320"/>
            <a:chOff x="0" y="0"/>
            <a:chExt cx="9142560" cy="6853320"/>
          </a:xfrm>
        </p:grpSpPr>
        <p:sp>
          <p:nvSpPr>
            <p:cNvPr id="230" name=""/>
            <p:cNvSpPr/>
            <p:nvPr/>
          </p:nvSpPr>
          <p:spPr>
            <a:xfrm>
              <a:off x="0" y="6645240"/>
              <a:ext cx="8061480" cy="20808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0"/>
              <a:ext cx="806148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53480" y="0"/>
              <a:ext cx="1185840" cy="684036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7848720" y="1080"/>
              <a:ext cx="1277640" cy="6291720"/>
              <a:chOff x="7848720" y="1080"/>
              <a:chExt cx="1277640" cy="62917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8381880" y="1080"/>
                <a:ext cx="744480" cy="2253240"/>
                <a:chOff x="8381880" y="1080"/>
                <a:chExt cx="744480" cy="225324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8704440" y="1080"/>
                  <a:ext cx="261720" cy="258840"/>
                  <a:chOff x="8704440" y="1080"/>
                  <a:chExt cx="261720" cy="258840"/>
                </a:xfrm>
              </p:grpSpPr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8704440" y="1080"/>
                    <a:ext cx="261720" cy="258840"/>
                    <a:chOff x="8704440" y="1080"/>
                    <a:chExt cx="261720" cy="25884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6200000">
                      <a:off x="8705880" y="-360"/>
                      <a:ext cx="258840" cy="26172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8" name=""/>
                  <p:cNvSpPr/>
                  <p:nvPr/>
                </p:nvSpPr>
                <p:spPr>
                  <a:xfrm rot="16200000">
                    <a:off x="8824680" y="139320"/>
                    <a:ext cx="9720" cy="93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16200000">
                    <a:off x="8739720" y="81360"/>
                    <a:ext cx="25560" cy="396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16200000">
                    <a:off x="8825400" y="72000"/>
                    <a:ext cx="46080" cy="19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16200000">
                    <a:off x="8895600" y="119520"/>
                    <a:ext cx="6120" cy="42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16200000">
                    <a:off x="8822520" y="197640"/>
                    <a:ext cx="46080" cy="9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rot="16200000">
                    <a:off x="8754120" y="171720"/>
                    <a:ext cx="20520" cy="252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7756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7756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2" name=""/>
              <p:cNvGrpSpPr/>
              <p:nvPr/>
            </p:nvGrpSpPr>
            <p:grpSpPr>
              <a:xfrm>
                <a:off x="7848720" y="1600200"/>
                <a:ext cx="811080" cy="4692600"/>
                <a:chOff x="7848720" y="1600200"/>
                <a:chExt cx="811080" cy="4692600"/>
              </a:xfrm>
            </p:grpSpPr>
            <p:pic>
              <p:nvPicPr>
                <p:cNvPr id="25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7792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7756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7756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7792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7756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7792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77920" cy="2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2" name=""/>
            <p:cNvSpPr/>
            <p:nvPr/>
          </p:nvSpPr>
          <p:spPr>
            <a:xfrm>
              <a:off x="7953480" y="4908600"/>
              <a:ext cx="1172880" cy="19224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39080" y="4857840"/>
              <a:ext cx="1201680" cy="198252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27920" y="2817720"/>
              <a:ext cx="1214640" cy="401976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10360" y="3538440"/>
              <a:ext cx="962280" cy="21672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44000" y="426960"/>
              <a:ext cx="896760" cy="50310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50120" y="262080"/>
              <a:ext cx="892440" cy="30542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43760" y="0"/>
              <a:ext cx="558720" cy="33354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43760" y="1440"/>
              <a:ext cx="282600" cy="33354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66000" y="1440"/>
              <a:ext cx="71640" cy="68407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58160" y="6229440"/>
              <a:ext cx="1147680" cy="6015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5"/>
          </p:nvPr>
        </p:nvSpPr>
        <p:spPr>
          <a:xfrm>
            <a:off x="586692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ABC09C4-7C84-4756-9AD4-88E46F44CEB1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1"/>
    <p:sldLayoutId id="2147483702" r:id="rId32"/>
    <p:sldLayoutId id="2147483703" r:id="rId33"/>
    <p:sldLayoutId id="2147483704" r:id="rId34"/>
    <p:sldLayoutId id="2147483705" r:id="rId35"/>
    <p:sldLayoutId id="2147483706" r:id="rId36"/>
    <p:sldLayoutId id="2147483707" r:id="rId37"/>
    <p:sldLayoutId id="2147483708" r:id="rId38"/>
    <p:sldLayoutId id="2147483709" r:id="rId39"/>
    <p:sldLayoutId id="2147483710" r:id="rId40"/>
    <p:sldLayoutId id="2147483711" r:id="rId41"/>
    <p:sldLayoutId id="2147483712" r:id="rId4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383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99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38352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6"/>
          </p:nvPr>
        </p:nvSpPr>
        <p:spPr>
          <a:xfrm>
            <a:off x="70099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75A26-22BD-48CB-B1DA-B7D8A53F8406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318960" y="1752480"/>
            <a:ext cx="8807400" cy="5112000"/>
            <a:chOff x="318960" y="1752480"/>
            <a:chExt cx="8807400" cy="5112000"/>
          </a:xfrm>
        </p:grpSpPr>
        <p:sp>
          <p:nvSpPr>
            <p:cNvPr id="366" name=""/>
            <p:cNvSpPr/>
            <p:nvPr/>
          </p:nvSpPr>
          <p:spPr>
            <a:xfrm>
              <a:off x="333360" y="1752480"/>
              <a:ext cx="8793000" cy="5087880"/>
            </a:xfrm>
            <a:prstGeom prst="pie">
              <a:avLst/>
            </a:pr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38080" y="3809880"/>
              <a:ext cx="8288280" cy="3030480"/>
            </a:xfrm>
            <a:prstGeom prst="pie">
              <a:avLst/>
            </a:pr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8960" y="3773520"/>
              <a:ext cx="5467320" cy="28440"/>
            </a:xfrm>
            <a:prstGeom prst="pie">
              <a:avLst/>
            </a:prstGeom>
            <a:gradFill rotWithShape="0">
              <a:gsLst>
                <a:gs pos="0">
                  <a:srgbClr val="46784a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8080" y="1752480"/>
              <a:ext cx="7751880" cy="28800"/>
            </a:xfrm>
            <a:prstGeom prst="pie">
              <a:avLst/>
            </a:prstGeom>
            <a:gradFill rotWithShape="0">
              <a:gsLst>
                <a:gs pos="0">
                  <a:srgbClr val="46784a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960" y="3773520"/>
              <a:ext cx="30240" cy="309096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1752480"/>
              <a:ext cx="28800" cy="5102280"/>
            </a:xfrm>
            <a:prstGeom prst="pie">
              <a:avLst/>
            </a:prstGeom>
            <a:gradFill rotWithShape="0">
              <a:gsLst>
                <a:gs pos="0">
                  <a:srgbClr val="6b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6784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98984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7"/>
          </p:nvPr>
        </p:nvSpPr>
        <p:spPr>
          <a:xfrm>
            <a:off x="6936840" y="6245280"/>
            <a:ext cx="1884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86D8E-0114-4E43-B3A8-879526C044AD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733104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6840" y="1654200"/>
            <a:ext cx="821196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sldNum" idx="8"/>
          </p:nvPr>
        </p:nvSpPr>
        <p:spPr>
          <a:xfrm>
            <a:off x="6555960" y="6246720"/>
            <a:ext cx="21128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roid Sans Fallback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1BF8A-2906-4012-B363-E12CCD95EF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73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7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17400" y="1233360"/>
            <a:ext cx="6966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d320"/>
                </a:solidFill>
                <a:latin typeface="Arial"/>
              </a:rPr>
              <a:t>МКС(К)ОУ школа №10.</a:t>
            </a:r>
            <a:br>
              <a:rPr sz="3600"/>
            </a:br>
            <a:r>
              <a:rPr b="0" lang="ru-RU" sz="3600" spc="-1" strike="noStrike">
                <a:solidFill>
                  <a:srgbClr val="ffd320"/>
                </a:solidFill>
                <a:latin typeface="Arial"/>
              </a:rPr>
              <a:t>г. Ступино, Ступинский район</a:t>
            </a:r>
            <a:br>
              <a:rPr sz="3600"/>
            </a:br>
            <a:r>
              <a:rPr b="0" lang="ru-RU" sz="3600" spc="-1" strike="noStrike">
                <a:solidFill>
                  <a:srgbClr val="ffd320"/>
                </a:solidFill>
                <a:latin typeface="Arial"/>
              </a:rPr>
              <a:t>Московская обла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600360" y="3370320"/>
            <a:ext cx="3867120" cy="31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rcRect l="0" t="1972" r="4441" b="0"/>
          <a:stretch/>
        </p:blipFill>
        <p:spPr>
          <a:xfrm>
            <a:off x="111240" y="71280"/>
            <a:ext cx="4640040" cy="64803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rcRect l="42520" t="8611" r="43300" b="69896"/>
          <a:stretch/>
        </p:blipFill>
        <p:spPr>
          <a:xfrm>
            <a:off x="1822320" y="1955880"/>
            <a:ext cx="720720" cy="10792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rcRect l="20317" t="55910" r="64099" b="23990"/>
          <a:stretch/>
        </p:blipFill>
        <p:spPr>
          <a:xfrm>
            <a:off x="4824360" y="151128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rcRect l="22040" t="82813" r="60952" b="0"/>
          <a:stretch/>
        </p:blipFill>
        <p:spPr>
          <a:xfrm>
            <a:off x="863640" y="647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rcRect l="83027" t="77072" r="4252" b="1435"/>
          <a:stretch/>
        </p:blipFill>
        <p:spPr>
          <a:xfrm>
            <a:off x="576360" y="1944720"/>
            <a:ext cx="647640" cy="10796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6"/>
          <a:srcRect l="25987" t="4241" r="58423" b="71396"/>
          <a:stretch/>
        </p:blipFill>
        <p:spPr>
          <a:xfrm>
            <a:off x="3311640" y="1008000"/>
            <a:ext cx="792000" cy="12240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7"/>
          <a:srcRect l="25987" t="4241" r="58423" b="71396"/>
          <a:stretch/>
        </p:blipFill>
        <p:spPr>
          <a:xfrm>
            <a:off x="4824360" y="144360"/>
            <a:ext cx="792360" cy="12240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8"/>
          <a:srcRect l="20317" t="55910" r="64099" b="23990"/>
          <a:stretch/>
        </p:blipFill>
        <p:spPr>
          <a:xfrm>
            <a:off x="2016000" y="720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9"/>
          <a:srcRect l="42520" t="8611" r="43300" b="69896"/>
          <a:stretch/>
        </p:blipFill>
        <p:spPr>
          <a:xfrm>
            <a:off x="4896000" y="2664000"/>
            <a:ext cx="720720" cy="107928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10"/>
          <a:srcRect l="83027" t="77072" r="4252" b="1435"/>
          <a:stretch/>
        </p:blipFill>
        <p:spPr>
          <a:xfrm>
            <a:off x="4967280" y="3887640"/>
            <a:ext cx="647640" cy="107964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11"/>
          <a:srcRect l="22040" t="82813" r="60952" b="0"/>
          <a:stretch/>
        </p:blipFill>
        <p:spPr>
          <a:xfrm>
            <a:off x="4819680" y="506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12"/>
          <a:stretch/>
        </p:blipFill>
        <p:spPr>
          <a:xfrm>
            <a:off x="5616720" y="647640"/>
            <a:ext cx="1008000" cy="4590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6551640" y="71280"/>
            <a:ext cx="287964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кг винограда — 60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3"/>
          <a:stretch/>
        </p:blipFill>
        <p:spPr>
          <a:xfrm>
            <a:off x="5616720" y="1728720"/>
            <a:ext cx="1008000" cy="459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14"/>
          <a:stretch/>
        </p:blipFill>
        <p:spPr>
          <a:xfrm>
            <a:off x="5672160" y="2952720"/>
            <a:ext cx="1008000" cy="4586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15"/>
          <a:stretch/>
        </p:blipFill>
        <p:spPr>
          <a:xfrm>
            <a:off x="5688000" y="4176720"/>
            <a:ext cx="1008000" cy="4586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16"/>
          <a:stretch/>
        </p:blipFill>
        <p:spPr>
          <a:xfrm>
            <a:off x="5688000" y="5256360"/>
            <a:ext cx="1008000" cy="4586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6551640" y="172872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г слив - 50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635880" y="2952720"/>
            <a:ext cx="23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г груш — 45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75400" y="4176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г огурцов — 30р.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51640" y="52563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г помидор — 25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01480" y="216000"/>
            <a:ext cx="734724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312840" y="604800"/>
          <a:ext cx="8690040" cy="2828880"/>
        </p:xfrm>
        <a:graphic>
          <a:graphicData uri="http://schemas.openxmlformats.org/drawingml/2006/table">
            <a:tbl>
              <a:tblPr/>
              <a:tblGrid>
                <a:gridCol w="4346640"/>
                <a:gridCol w="4343400"/>
              </a:tblGrid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-99=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-77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-84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3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12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-11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+16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-34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+30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+41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+41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-29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+22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+53=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236520" y="4071960"/>
          <a:ext cx="8766360" cy="2828880"/>
        </p:xfrm>
        <a:graphic>
          <a:graphicData uri="http://schemas.openxmlformats.org/drawingml/2006/table">
            <a:tbl>
              <a:tblPr/>
              <a:tblGrid>
                <a:gridCol w="4384800"/>
                <a:gridCol w="4381560"/>
              </a:tblGrid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6928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- е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-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- 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- 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- 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-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- 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- 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- 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- 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60520"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- 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332640" bIns="46800" anchor="t">
                      <a:noAutofit/>
                    </a:bodyPr>
                    <a:p>
                      <a:pPr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- 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575" name=""/>
          <p:cNvSpPr/>
          <p:nvPr/>
        </p:nvSpPr>
        <p:spPr>
          <a:xfrm>
            <a:off x="431640" y="3240000"/>
            <a:ext cx="24480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ын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813200" y="3287880"/>
            <a:ext cx="397044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3366"/>
                </a:solidFill>
                <a:latin typeface="Arial"/>
              </a:rPr>
              <a:t>доч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1280" y="144360"/>
            <a:ext cx="8977320" cy="63356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2952720" y="4751280"/>
            <a:ext cx="43927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527280" y="3240000"/>
            <a:ext cx="1656000" cy="1511280"/>
          </a:xfrm>
          <a:prstGeom prst="smileyFace">
            <a:avLst>
              <a:gd name="adj" fmla="val 4653"/>
            </a:avLst>
          </a:prstGeom>
          <a:solidFill>
            <a:srgbClr val="729fcf"/>
          </a:solidFill>
          <a:ln cap="sq"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autoRev="1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" dur="500" autoRev="1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" dur="500" autoRev="1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47920" y="149400"/>
            <a:ext cx="6400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b3600"/>
                </a:solidFill>
                <a:latin typeface="Arial Black"/>
              </a:rPr>
              <a:t>Урок математики в 3 класс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63640" y="976320"/>
            <a:ext cx="6335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544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14004"/>
                </a:solidFill>
                <a:latin typeface="Arial"/>
              </a:rPr>
              <a:t>Тема: сложение и вычитание двузначных чисе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 algn="ctr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14004"/>
                </a:solidFill>
                <a:latin typeface="Arial"/>
              </a:rPr>
              <a:t>Урок — игра. По сказке«Гуси — лебеди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254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-3291840" y="-4458600"/>
            <a:ext cx="11728080" cy="11728080"/>
            <a:chOff x="-3291840" y="-4458600"/>
            <a:chExt cx="11728080" cy="11728080"/>
          </a:xfrm>
        </p:grpSpPr>
        <p:sp>
          <p:nvSpPr>
            <p:cNvPr id="480" name=""/>
            <p:cNvSpPr txBox="1"/>
            <p:nvPr/>
          </p:nvSpPr>
          <p:spPr>
            <a:xfrm rot="17820000">
              <a:off x="-1588320" y="-516240"/>
              <a:ext cx="761040" cy="52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 rot="18960000">
              <a:off x="-1574640" y="-2741760"/>
              <a:ext cx="8294040" cy="8294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Wave1">
                <a:avLst>
                  <a:gd name="adj1" fmla="val 0"/>
                  <a:gd name="adj2" fmla="val 1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3</a:t>
              </a:r>
              <a:endParaRPr b="0" lang="en-US" sz="1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51880" y="1175040"/>
            <a:ext cx="1089360" cy="1268280"/>
            <a:chOff x="551880" y="1175040"/>
            <a:chExt cx="1089360" cy="1268280"/>
          </a:xfrm>
        </p:grpSpPr>
        <p:sp>
          <p:nvSpPr>
            <p:cNvPr id="483" name=""/>
            <p:cNvSpPr txBox="1"/>
            <p:nvPr/>
          </p:nvSpPr>
          <p:spPr>
            <a:xfrm rot="15960000">
              <a:off x="334080" y="1457640"/>
              <a:ext cx="1222200" cy="70308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bcbcb">
                        <a:alpha val="80000"/>
                      </a:srgbClr>
                    </a:outerShdw>
                  </a:effectLst>
                  <a:latin typeface="Times New Roman"/>
                </a:rPr>
                <a:t>4</a:t>
              </a:r>
              <a:endParaRPr b="0" lang="en-US" sz="12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 rot="16200000">
              <a:off x="679320" y="1445760"/>
              <a:ext cx="1221840" cy="701640"/>
            </a:xfrm>
            <a:prstGeom prst="rect">
              <a:avLst/>
            </a:prstGeom>
          </p:spPr>
          <p:txBody>
            <a:bodyPr wrap="none" lIns="90000" rIns="90000" tIns="46800" bIns="46800" anchor="ctr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1" strike="noStrike">
                  <a:ln cap="sq" w="1260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bcbcb">
                        <a:alpha val="80000"/>
                      </a:srgbClr>
                    </a:outerShdw>
                  </a:effectLst>
                  <a:latin typeface="Times New Roman"/>
                </a:rPr>
                <a:t>4</a:t>
              </a:r>
              <a:endParaRPr b="0" lang="en-US" sz="12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485" name=""/>
          <p:cNvSpPr txBox="1"/>
          <p:nvPr/>
        </p:nvSpPr>
        <p:spPr>
          <a:xfrm>
            <a:off x="6000840" y="3214800"/>
            <a:ext cx="2735280" cy="13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"/>
              </a:rPr>
              <a:t> </a:t>
            </a:r>
            <a:endParaRPr b="0" lang="en-US" sz="1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"/>
              <a:ea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549600" y="1959840"/>
            <a:ext cx="2157120" cy="2289600"/>
            <a:chOff x="3549600" y="1959840"/>
            <a:chExt cx="2157120" cy="2289600"/>
          </a:xfrm>
        </p:grpSpPr>
        <p:sp>
          <p:nvSpPr>
            <p:cNvPr id="487" name=""/>
            <p:cNvSpPr txBox="1"/>
            <p:nvPr/>
          </p:nvSpPr>
          <p:spPr>
            <a:xfrm rot="720000">
              <a:off x="3723840" y="2054160"/>
              <a:ext cx="1096200" cy="17942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4866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4482000" y="2694600"/>
              <a:ext cx="1224720" cy="1554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738120" y="457920"/>
            <a:ext cx="2757960" cy="3951000"/>
            <a:chOff x="6738120" y="457920"/>
            <a:chExt cx="2757960" cy="3951000"/>
          </a:xfrm>
        </p:grpSpPr>
        <p:sp>
          <p:nvSpPr>
            <p:cNvPr id="490" name=""/>
            <p:cNvSpPr txBox="1"/>
            <p:nvPr/>
          </p:nvSpPr>
          <p:spPr>
            <a:xfrm rot="21420000">
              <a:off x="6796080" y="520560"/>
              <a:ext cx="2457720" cy="2284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9</a:t>
              </a:r>
              <a:endParaRPr b="0" lang="en-US" sz="1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 rot="540000">
              <a:off x="7090920" y="1560240"/>
              <a:ext cx="2208240" cy="2692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2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9</a:t>
              </a:r>
              <a:endParaRPr b="0" lang="en-US" sz="1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792000" y="4511520"/>
            <a:ext cx="7848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мма носа 4+4=8;  ног 6+6=12;                хвоста 9+9=18;   шеи и крыла 3+7=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4143240" y="785880"/>
            <a:ext cx="301644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044960" y="2754360"/>
            <a:ext cx="114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5143680" y="32860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5111640" y="349200"/>
            <a:ext cx="973080" cy="947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195880" y="1376280"/>
            <a:ext cx="944640" cy="1719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rcRect l="26056" t="16861" r="25662" b="30964"/>
          <a:stretch/>
        </p:blipFill>
        <p:spPr>
          <a:xfrm>
            <a:off x="5094360" y="4824360"/>
            <a:ext cx="1224000" cy="1150920"/>
          </a:xfrm>
          <a:prstGeom prst="rect">
            <a:avLst/>
          </a:prstGeom>
          <a:ln w="0">
            <a:noFill/>
          </a:ln>
        </p:spPr>
      </p:pic>
      <p:grpSp>
        <p:nvGrpSpPr>
          <p:cNvPr id="499" name=""/>
          <p:cNvGrpSpPr/>
          <p:nvPr/>
        </p:nvGrpSpPr>
        <p:grpSpPr>
          <a:xfrm>
            <a:off x="-801720" y="409680"/>
            <a:ext cx="5850000" cy="5925960"/>
            <a:chOff x="-801720" y="409680"/>
            <a:chExt cx="5850000" cy="5925960"/>
          </a:xfrm>
        </p:grpSpPr>
        <p:sp>
          <p:nvSpPr>
            <p:cNvPr id="500" name=""/>
            <p:cNvSpPr/>
            <p:nvPr/>
          </p:nvSpPr>
          <p:spPr>
            <a:xfrm>
              <a:off x="-801720" y="409680"/>
              <a:ext cx="5850000" cy="5925960"/>
            </a:xfrm>
            <a:custGeom>
              <a:avLst/>
              <a:gdLst>
                <a:gd name="textAreaLeft" fmla="*/ 360 w 5850000"/>
                <a:gd name="textAreaRight" fmla="*/ 5849640 w 5850000"/>
                <a:gd name="textAreaTop" fmla="*/ 360 h 5925960"/>
                <a:gd name="textAreaBottom" fmla="*/ 5925600 h 5925960"/>
              </a:gdLst>
              <a:ahLst/>
              <a:rect l="textAreaLeft" t="textAreaTop" r="textAreaRight" b="textAreaBottom"/>
              <a:pathLst>
                <a:path w="21600" h="21880">
                  <a:moveTo>
                    <a:pt x="5" y="0"/>
                  </a:moveTo>
                  <a:arcTo wR="5" hR="5" stAng="16200000" swAng="-5400000"/>
                  <a:lnTo>
                    <a:pt x="0" y="21875"/>
                  </a:lnTo>
                  <a:arcTo wR="5" hR="5" stAng="10800000" swAng="-5400000"/>
                  <a:lnTo>
                    <a:pt x="21595" y="21880"/>
                  </a:lnTo>
                  <a:arcTo wR="5" hR="5" stAng="5400000" swAng="-5400000"/>
                  <a:lnTo>
                    <a:pt x="21600" y="5"/>
                  </a:lnTo>
                  <a:arcTo wR="5" hR="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69880" y="409680"/>
              <a:ext cx="3486240" cy="5468760"/>
              <a:chOff x="569880" y="409680"/>
              <a:chExt cx="3486240" cy="5468760"/>
            </a:xfrm>
          </p:grpSpPr>
          <p:sp>
            <p:nvSpPr>
              <p:cNvPr id="502" name=""/>
              <p:cNvSpPr/>
              <p:nvPr/>
            </p:nvSpPr>
            <p:spPr>
              <a:xfrm>
                <a:off x="569880" y="2809800"/>
                <a:ext cx="3486240" cy="3068640"/>
              </a:xfrm>
              <a:prstGeom prst="cube">
                <a:avLst>
                  <a:gd name="adj" fmla="val 25000"/>
                </a:avLst>
              </a:prstGeom>
              <a:solidFill>
                <a:srgbClr val="ffcc99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484280" y="5324400"/>
                <a:ext cx="897120" cy="327240"/>
              </a:xfrm>
              <a:prstGeom prst="rect">
                <a:avLst/>
              </a:prstGeom>
              <a:solidFill>
                <a:srgbClr val="339966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27280" y="3838680"/>
                <a:ext cx="439920" cy="438120"/>
              </a:xfrm>
              <a:prstGeom prst="pie">
                <a:avLst/>
              </a:prstGeom>
              <a:solidFill>
                <a:srgbClr val="0000ff"/>
              </a:solidFill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2160" y="3838680"/>
                <a:ext cx="439920" cy="439560"/>
              </a:xfrm>
              <a:prstGeom prst="pie">
                <a:avLst/>
              </a:prstGeom>
              <a:solidFill>
                <a:srgbClr val="0000ff"/>
              </a:solidFill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32000" y="4067280"/>
                <a:ext cx="1125360" cy="668160"/>
              </a:xfrm>
              <a:prstGeom prst="triangle">
                <a:avLst>
                  <a:gd name="adj" fmla="val 50000"/>
                </a:avLst>
              </a:prstGeom>
              <a:solidFill>
                <a:srgbClr val="33cccc"/>
              </a:solidFill>
              <a:ln cap="sq" w="381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32000" y="4867200"/>
                <a:ext cx="1125360" cy="96840"/>
              </a:xfrm>
              <a:prstGeom prst="rect">
                <a:avLst/>
              </a:prstGeom>
              <a:solidFill>
                <a:srgbClr val="ffffff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9880" y="3610080"/>
                <a:ext cx="2724120" cy="96840"/>
              </a:xfrm>
              <a:prstGeom prst="rect">
                <a:avLst/>
              </a:prstGeom>
              <a:solidFill>
                <a:srgbClr val="ffffff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65160" y="5438880"/>
                <a:ext cx="135000" cy="96840"/>
              </a:xfrm>
              <a:prstGeom prst="rect">
                <a:avLst/>
              </a:prstGeom>
              <a:solidFill>
                <a:srgbClr val="ffffff"/>
              </a:solidFill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640000">
                <a:off x="1266480" y="1557360"/>
                <a:ext cx="1962000" cy="2003400"/>
              </a:xfrm>
              <a:prstGeom prst="diamond">
                <a:avLst/>
              </a:prstGeom>
              <a:solidFill>
                <a:srgbClr val="ff99cc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017800" y="409680"/>
                <a:ext cx="592200" cy="1468440"/>
              </a:xfrm>
              <a:prstGeom prst="rect">
                <a:avLst/>
              </a:prstGeom>
              <a:solidFill>
                <a:srgbClr val="ff99cc"/>
              </a:solidFill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2019240" y="982800"/>
              <a:ext cx="5922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3" name="" descr=""/>
          <p:cNvPicPr/>
          <p:nvPr/>
        </p:nvPicPr>
        <p:blipFill>
          <a:blip r:embed="rId5"/>
          <a:stretch/>
        </p:blipFill>
        <p:spPr>
          <a:xfrm>
            <a:off x="6159600" y="4987800"/>
            <a:ext cx="1442880" cy="77328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6"/>
          <a:stretch/>
        </p:blipFill>
        <p:spPr>
          <a:xfrm>
            <a:off x="6215040" y="3357720"/>
            <a:ext cx="1443240" cy="77292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7"/>
          <a:stretch/>
        </p:blipFill>
        <p:spPr>
          <a:xfrm>
            <a:off x="6048360" y="1944720"/>
            <a:ext cx="1442880" cy="7729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8"/>
          <a:stretch/>
        </p:blipFill>
        <p:spPr>
          <a:xfrm>
            <a:off x="6048360" y="503280"/>
            <a:ext cx="1442880" cy="77292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7489800" y="573120"/>
            <a:ext cx="461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458120" y="2031840"/>
            <a:ext cx="4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72240" y="3357720"/>
            <a:ext cx="462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601040" y="4967280"/>
            <a:ext cx="4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08000" y="1792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6000" y="4967280"/>
            <a:ext cx="621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 раз - 36 я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раз- ? на 4 яб. меньше ч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00880" y="5072040"/>
            <a:ext cx="304560" cy="860400"/>
          </a:xfrm>
          <a:custGeom>
            <a:avLst/>
            <a:gdLst>
              <a:gd name="textAreaLeft" fmla="*/ 0 w 304560"/>
              <a:gd name="textAreaRight" fmla="*/ 109800 w 304560"/>
              <a:gd name="textAreaTop" fmla="*/ 39240 h 860400"/>
              <a:gd name="textAreaBottom" fmla="*/ 821160 h 86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82"/>
                  <a:pt x="10800" y="3164"/>
                </a:cubicBezTo>
                <a:lnTo>
                  <a:pt x="10800" y="7636"/>
                </a:lnTo>
                <a:cubicBezTo>
                  <a:pt x="10800" y="9218"/>
                  <a:pt x="16200" y="10800"/>
                  <a:pt x="21600" y="10800"/>
                </a:cubicBezTo>
                <a:cubicBezTo>
                  <a:pt x="16200" y="10800"/>
                  <a:pt x="10800" y="12382"/>
                  <a:pt x="10800" y="13964"/>
                </a:cubicBezTo>
                <a:lnTo>
                  <a:pt x="10800" y="18436"/>
                </a:lnTo>
                <a:cubicBezTo>
                  <a:pt x="10800" y="20018"/>
                  <a:pt x="5400" y="21600"/>
                  <a:pt x="0" y="21600"/>
                </a:cubicBezTo>
              </a:path>
            </a:pathLst>
          </a:custGeom>
          <a:noFill/>
          <a:ln cap="sq" w="28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0" y="5143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51280" y="360360"/>
            <a:ext cx="4319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а трясла яблоню два раза. В первый раз с яблони упало 36 яблок, во второй - на 4 яблока меньше, чем в первый раз. Сколько всего яблок упало?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7" name=""/>
          <p:cNvCxnSpPr/>
          <p:nvPr/>
        </p:nvCxnSpPr>
        <p:spPr>
          <a:xfrm flipH="1" flipV="1">
            <a:off x="2857320" y="5284440"/>
            <a:ext cx="335808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8" name=""/>
          <p:cNvSpPr/>
          <p:nvPr/>
        </p:nvSpPr>
        <p:spPr>
          <a:xfrm flipH="1" flipV="1">
            <a:off x="5924520" y="5852880"/>
            <a:ext cx="295200" cy="111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215040" y="5281200"/>
            <a:ext cx="1440" cy="5828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70000" y="147600"/>
            <a:ext cx="8584920" cy="61167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76360" y="341280"/>
            <a:ext cx="78278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SimSun"/>
              </a:rPr>
              <a:t>чис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SimSu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SimSun"/>
              </a:rPr>
              <a:t>10к., 5р., 10 р., 50 к., 1 р., 2 р., 50 р., 100 р.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99280" y="792000"/>
            <a:ext cx="1576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SimSun"/>
              </a:rPr>
              <a:t>14 ябл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4068720" y="2206800"/>
            <a:ext cx="500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11240" y="96840"/>
            <a:ext cx="8889840" cy="6311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87280" y="1758960"/>
            <a:ext cx="5327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5000b"/>
                </a:solidFill>
                <a:latin typeface="Arial"/>
              </a:rPr>
              <a:t>Физкультминутка.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"/>
              </a:rPr>
              <a:t>Лебеди летели и на воду сел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"/>
              </a:rPr>
              <a:t>Сели, посидели, снова полетел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"/>
              </a:rPr>
              <a:t>Лебеди летят, крыльями машут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"/>
              </a:rPr>
              <a:t>прогнулись над водой, качают голов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"/>
              </a:rPr>
              <a:t>Прямо и гордо умеют держаться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"/>
              </a:rPr>
              <a:t>Очень бесшумно на воду садят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rcRect l="0" t="1972" r="4441" b="0"/>
          <a:stretch/>
        </p:blipFill>
        <p:spPr>
          <a:xfrm>
            <a:off x="111240" y="71280"/>
            <a:ext cx="4640040" cy="6480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rcRect l="83027" t="77072" r="4252" b="1435"/>
          <a:stretch/>
        </p:blipFill>
        <p:spPr>
          <a:xfrm>
            <a:off x="576360" y="1944720"/>
            <a:ext cx="647640" cy="10796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rcRect l="22040" t="82813" r="60952" b="0"/>
          <a:stretch/>
        </p:blipFill>
        <p:spPr>
          <a:xfrm>
            <a:off x="863640" y="6476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rcRect l="42520" t="8611" r="43300" b="69896"/>
          <a:stretch/>
        </p:blipFill>
        <p:spPr>
          <a:xfrm>
            <a:off x="1822320" y="1955880"/>
            <a:ext cx="720720" cy="10792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5"/>
          <a:srcRect l="20317" t="55910" r="64099" b="23990"/>
          <a:stretch/>
        </p:blipFill>
        <p:spPr>
          <a:xfrm>
            <a:off x="2087640" y="72072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6"/>
          <a:srcRect l="25987" t="4241" r="58423" b="71396"/>
          <a:stretch/>
        </p:blipFill>
        <p:spPr>
          <a:xfrm>
            <a:off x="3311640" y="1008000"/>
            <a:ext cx="792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4464000" y="277920"/>
            <a:ext cx="4176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143600" cy="31435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549680" y="71280"/>
            <a:ext cx="4248360" cy="8748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rcRect l="83027" t="77072" r="4252" b="1435"/>
          <a:stretch/>
        </p:blipFill>
        <p:spPr>
          <a:xfrm>
            <a:off x="4622760" y="2160720"/>
            <a:ext cx="792360" cy="10792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rcRect l="22040" t="82813" r="60952" b="0"/>
          <a:stretch/>
        </p:blipFill>
        <p:spPr>
          <a:xfrm>
            <a:off x="4611600" y="125892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rcRect l="42520" t="8611" r="43300" b="69896"/>
          <a:stretch/>
        </p:blipFill>
        <p:spPr>
          <a:xfrm>
            <a:off x="4751280" y="4392720"/>
            <a:ext cx="720720" cy="10792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rcRect l="20317" t="55910" r="64099" b="23990"/>
          <a:stretch/>
        </p:blipFill>
        <p:spPr>
          <a:xfrm>
            <a:off x="4680000" y="331164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616720" y="1347840"/>
            <a:ext cx="3456000" cy="53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г помидор — 25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г огурцов — 30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г слив — 50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кг груш — 45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кг винограда — 60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7"/>
          <a:srcRect l="25987" t="4241" r="58423" b="71396"/>
          <a:stretch/>
        </p:blipFill>
        <p:spPr>
          <a:xfrm>
            <a:off x="4751280" y="5543640"/>
            <a:ext cx="792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5T17:39:33Z</dcterms:created>
  <dc:creator>Татьяна</dc:creator>
  <dc:description/>
  <dc:language>en-US</dc:language>
  <cp:lastModifiedBy>admin</cp:lastModifiedBy>
  <dcterms:modified xsi:type="dcterms:W3CDTF">2014-03-11T11:38:43Z</dcterms:modified>
  <cp:revision>41</cp:revision>
  <dc:subject/>
  <dc:title>Слайд 1</dc:title>
</cp:coreProperties>
</file>