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4C4-B124-463C-B6C2-EF26E2BD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C5D-6EB4-45CB-86DD-1E7D6A01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F04-5545-4D35-8985-F5B20146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E98-A740-4AFB-AA9A-F4817C73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49C-C3E5-435D-B01F-C589DB70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C82-D6AB-4655-A609-0A6DF9B2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76C-10C6-4444-9579-13F58152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E51-0C80-40E4-816A-45F4FBD7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116-7370-496B-AAD1-85AEA992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223-2CD4-4E5C-9E08-2019143C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0B0-E9C8-473F-B544-8A82B702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91D-01F7-4087-9D1C-2D90E33A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413A-33A2-4606-91A5-AFC1F511F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hyperlink" Target="http://www.solnet.ee/sol/001/s_341.html" TargetMode="External"/><Relationship Id="rId5" Type="http://schemas.openxmlformats.org/officeDocument/2006/relationships/hyperlink" Target="http://www.lenagold.ru/" TargetMode="External"/><Relationship Id="rId6" Type="http://schemas.openxmlformats.org/officeDocument/2006/relationships/hyperlink" Target="http://www.kalyamalya.ru/modules/myarticles/article.php?storyid=106" TargetMode="External"/><Relationship Id="rId7" Type="http://schemas.openxmlformats.org/officeDocument/2006/relationships/hyperlink" Target="http://www.kalyamalya.ru/modules/myarticles/article.php?storyid=106" TargetMode="External"/><Relationship Id="rId8" Type="http://schemas.openxmlformats.org/officeDocument/2006/relationships/hyperlink" Target="http://www.kalyamalya.ru/modules/myarticles/article.php?storyid=106" TargetMode="External"/><Relationship Id="rId9" Type="http://schemas.openxmlformats.org/officeDocument/2006/relationships/hyperlink" Target="http://www.kalyamalya.ru/modules/myarticles/article.php?storyid=106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962600"/>
            <a:ext cx="2743200" cy="1895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391520" y="4724280"/>
            <a:ext cx="1358640" cy="1419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505320" y="51055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3960" y="152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афарова Ирина Адамовна, учитель начальных классов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ГБОУ СОШ №569 Невского района Санкт -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77960" y="1600200"/>
            <a:ext cx="75294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26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Eras Demi ITC"/>
              </a:rPr>
              <a:t> </a:t>
            </a:r>
            <a:r>
              <a:rPr b="0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Eras Demi ITC"/>
              </a:rPr>
              <a:t>Урок рисования</a:t>
            </a:r>
            <a:endParaRPr b="0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Eras Demi ITC"/>
              <a:ea typeface="Eras Demi ITC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05120" y="2819520"/>
            <a:ext cx="1914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Georgia"/>
              </a:rPr>
              <a:t> </a:t>
            </a: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Georgia"/>
              </a:rPr>
              <a:t>Тема: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Georgia"/>
              <a:ea typeface="Georgi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1"/>
          <a:stretch/>
        </p:blipFill>
        <p:spPr>
          <a:xfrm>
            <a:off x="4191120" y="2209680"/>
            <a:ext cx="2352600" cy="210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847880"/>
            <a:ext cx="3733920" cy="348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1919160"/>
            <a:ext cx="380988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808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Самостоятельная работа: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раскрась бабочку</a:t>
            </a: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362320" y="38088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Источники: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13372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lnet.ee/sol/001/s_34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enagol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kalyamalya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Я у жёлтой бабочки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Тихо - тихо спрашивал: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 Бабочка, скажи мне,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Кто тебя раскрашива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9810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ожет, это лютик?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ожет, одуванчик?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ожет, жёлтой краской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Тот соседский мальчи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42900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Или это солнышко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После скуки зимней?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Кто тебя раскрашивал?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Бабочка, скажи мн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487692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Прошептала бабочка,</a:t>
            </a:r>
            <a:br>
              <a:rPr sz="2000"/>
            </a:b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В золото одета:</a:t>
            </a:r>
            <a:br>
              <a:rPr sz="2000"/>
            </a:b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- Всю меня раскрасило</a:t>
            </a:r>
            <a:br>
              <a:rPr sz="2000"/>
            </a:b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то, лето, л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63244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(Авторы: Алёна Павлова и</a:t>
            </a:r>
            <a:r>
              <a:rPr b="1" i="1" lang="en-US" sz="1600" spc="-1" strike="noStrike">
                <a:solidFill>
                  <a:srgbClr val="660033"/>
                </a:solidFill>
                <a:latin typeface="Arial"/>
              </a:rPr>
              <a:t> трёхлетняя дочь Анастасия</a:t>
            </a: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6019920" cy="54100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6520" y="457200"/>
            <a:ext cx="5638680" cy="48769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219320" y="54864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исуем круж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5120" y="380880"/>
            <a:ext cx="5257800" cy="4800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523880" y="54100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47840" y="5562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исуем ов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410080" cy="4343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0" y="487692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исуем треугольни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н  поможет изобразить крыл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76480" y="457200"/>
            <a:ext cx="4991040" cy="47242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0" y="5486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круглим края у треугольн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76520" y="457200"/>
            <a:ext cx="5562360" cy="48769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838080" y="56386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трём ненужные  ли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52480" y="380880"/>
            <a:ext cx="5715000" cy="4724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43080" y="51055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рисуем усики, ножки, носик, глаз и ро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t</cp:lastModifiedBy>
  <dcterms:modified xsi:type="dcterms:W3CDTF">2012-10-27T21:05:3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