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11.gif" ContentType="image/gif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30.gif" ContentType="image/gif"/>
  <Override PartName="/ppt/media/image28.gif" ContentType="image/gif"/>
  <Override PartName="/ppt/media/image31.gif" ContentType="image/gif"/>
  <Override PartName="/ppt/media/image5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image7.jpeg" ContentType="image/jpeg"/>
  <Override PartName="/ppt/media/image1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32.jpeg" ContentType="image/jpe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D97-F9F5-4312-8366-71703F8C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C4D-37B0-4873-9CF0-F3ADD48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02A-79A9-49AF-9D73-D2E067C9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929-5627-429E-BEF9-8AD7E02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91C-C00B-42CD-BAAD-37A98346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39E-CEE9-4AA7-9634-E253AE0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7F5-CA0B-46EA-9C54-CE87A33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22F-1046-4187-89AD-12444C1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BE5-6890-4BFF-9F4A-C9656C8B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B4E-FA34-4651-AF81-B2654F0A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CF1-3558-41A0-9208-5282C99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E21-F6AC-4133-8CA0-03E1ED26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6A54-C351-41C7-840F-A4B602246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estgif.su/photo/animashki_blestjashki/malysh_i_karlson/47-0-7423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kids/kids044jpg.htm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mayli.ru/data/smiles/vkusnosti-16.gif" TargetMode="Externa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003.radikal.ru/1102/6c/b26fdf38809a.gif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dphotographer.co.uk/wp-content/uploads/2012/thank-you-gif-animation" TargetMode="External"/><Relationship Id="rId2" Type="http://schemas.openxmlformats.org/officeDocument/2006/relationships/image" Target="../media/image31.gif"/><Relationship Id="rId3" Type="http://schemas.openxmlformats.org/officeDocument/2006/relationships/hyperlink" Target="http://nkozlov.ru/upload/images/0909/0909141644260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stgif.su/photo/animashki_blestjashki/malysh_i_karlson/47-0-7423" TargetMode="External"/><Relationship Id="rId2" Type="http://schemas.openxmlformats.org/officeDocument/2006/relationships/hyperlink" Target="http://bestgif.su/photo/animashki_blestjashki/malysh_i_karlson/47-0-7423" TargetMode="External"/><Relationship Id="rId3" Type="http://schemas.openxmlformats.org/officeDocument/2006/relationships/hyperlink" Target="http://www.proza.ru/pics/2013/10/03/1878.jpg" TargetMode="External"/><Relationship Id="rId4" Type="http://schemas.openxmlformats.org/officeDocument/2006/relationships/hyperlink" Target="http://www.proza.ru/pics/2013/10/03/1878.jpg" TargetMode="External"/><Relationship Id="rId5" Type="http://schemas.openxmlformats.org/officeDocument/2006/relationships/hyperlink" Target="http://www.stephanshausen.de/images/theaterexpress.gif" TargetMode="External"/><Relationship Id="rId6" Type="http://schemas.openxmlformats.org/officeDocument/2006/relationships/hyperlink" Target="http://i035.radikal.ru/1109/6e/339da4a47e5a.jpg" TargetMode="External"/><Relationship Id="rId7" Type="http://schemas.openxmlformats.org/officeDocument/2006/relationships/hyperlink" Target="http://i035.radikal.ru/1109/6e/339da4a47e5a.jpg" TargetMode="External"/><Relationship Id="rId8" Type="http://schemas.openxmlformats.org/officeDocument/2006/relationships/hyperlink" Target="http://my.germany.ru/477982" TargetMode="External"/><Relationship Id="rId9" Type="http://schemas.openxmlformats.org/officeDocument/2006/relationships/hyperlink" Target="http://dalance.ru/UserFiles/portfolio/014/990/516ab1a7ad.jpg" TargetMode="External"/><Relationship Id="rId10" Type="http://schemas.openxmlformats.org/officeDocument/2006/relationships/hyperlink" Target="http://myfarm-online.ru/pchelovodstvo/rozliv-meda.html" TargetMode="External"/><Relationship Id="rId11" Type="http://schemas.openxmlformats.org/officeDocument/2006/relationships/hyperlink" Target="http://g.io.ua/img_aa/large/2047/97/20479746.jpg" TargetMode="External"/><Relationship Id="rId12" Type="http://schemas.openxmlformats.org/officeDocument/2006/relationships/hyperlink" Target="http://www.pronowosti.ru/archives/91438" TargetMode="External"/><Relationship Id="rId13" Type="http://schemas.openxmlformats.org/officeDocument/2006/relationships/hyperlink" Target="http://alfaday.net/clipart/raster-clipart/300666-maslo-slivochnoe-i-maslo-arahisovoe.html" TargetMode="External"/><Relationship Id="rId14" Type="http://schemas.openxmlformats.org/officeDocument/2006/relationships/hyperlink" Target="http://www.edu54.ru/node/116307" TargetMode="External"/><Relationship Id="rId15" Type="http://schemas.openxmlformats.org/officeDocument/2006/relationships/hyperlink" Target="http://www.proshkolu.ru/user/Nazarova1969O/file/2861277/" TargetMode="External"/><Relationship Id="rId16" Type="http://schemas.openxmlformats.org/officeDocument/2006/relationships/hyperlink" Target="http://ratatui.org/12711-varene-iz-chereshni-s-mindalem.html" TargetMode="External"/><Relationship Id="rId17" Type="http://schemas.openxmlformats.org/officeDocument/2006/relationships/hyperlink" Target="http://applifto.ru/app/world_cheese_encyclopedia" TargetMode="External"/><Relationship Id="rId18" Type="http://schemas.openxmlformats.org/officeDocument/2006/relationships/hyperlink" Target="http://www.oreninform.ru/list/detail.php?SECTION_ID=4426&amp;ID=46572" TargetMode="External"/><Relationship Id="rId19" Type="http://schemas.openxmlformats.org/officeDocument/2006/relationships/hyperlink" Target="http://foodclean.ru/novosti/krasnoe-myaso-povyshaet-risk-vozniknoveniya-diabeta.html" TargetMode="External"/><Relationship Id="rId20" Type="http://schemas.openxmlformats.org/officeDocument/2006/relationships/hyperlink" Target="http://www.ylova.net/825-nemnogo-o-rybah-okun.html" TargetMode="External"/><Relationship Id="rId21" Type="http://schemas.openxmlformats.org/officeDocument/2006/relationships/hyperlink" Target="https://svadiba.wordpress.com/2013/05/" TargetMode="External"/><Relationship Id="rId22" Type="http://schemas.openxmlformats.org/officeDocument/2006/relationships/hyperlink" Target="http://img825.imageshack.us/img825/1470/90872736ce8af6feed811e3.gif" TargetMode="External"/><Relationship Id="rId2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iubavyshka.ru/photo/14-0-51306" TargetMode="External"/><Relationship Id="rId2" Type="http://schemas.openxmlformats.org/officeDocument/2006/relationships/hyperlink" Target="http://liubavyshka.ru/photo/64-0-14039" TargetMode="External"/><Relationship Id="rId3" Type="http://schemas.openxmlformats.org/officeDocument/2006/relationships/hyperlink" Target="http://smayli.ru/smile/edaa-1004.html" TargetMode="External"/><Relationship Id="rId4" Type="http://schemas.openxmlformats.org/officeDocument/2006/relationships/hyperlink" Target="http://smayli.ru/smile/edaa-1004.html" TargetMode="External"/><Relationship Id="rId5" Type="http://schemas.openxmlformats.org/officeDocument/2006/relationships/hyperlink" Target="http://smayli.ru/smile/edaa-902.html" TargetMode="External"/><Relationship Id="rId6" Type="http://schemas.openxmlformats.org/officeDocument/2006/relationships/hyperlink" Target="http://smayli.ru/data/smiles/edaa-803.gif" TargetMode="External"/><Relationship Id="rId7" Type="http://schemas.openxmlformats.org/officeDocument/2006/relationships/hyperlink" Target="http://allforchildren.ru/pictures/showimg/kids/kids044jpg.htm" TargetMode="External"/><Relationship Id="rId8" Type="http://schemas.openxmlformats.org/officeDocument/2006/relationships/hyperlink" Target="http://allforchildren.ru/pictures/showimg/kids/kids044jpg.htm" TargetMode="External"/><Relationship Id="rId9" Type="http://schemas.openxmlformats.org/officeDocument/2006/relationships/hyperlink" Target="http://smayli.ru/data/smiles/vkusnosti-16.gif" TargetMode="External"/><Relationship Id="rId10" Type="http://schemas.openxmlformats.org/officeDocument/2006/relationships/hyperlink" Target="http://smayli.ru/data/smiles/vkusnosti-16.gif" TargetMode="External"/><Relationship Id="rId11" Type="http://schemas.openxmlformats.org/officeDocument/2006/relationships/hyperlink" Target="http://news.dphotographer.co.uk/wp-content/uploads/2012/thank-you-gif-animation" TargetMode="External"/><Relationship Id="rId12" Type="http://schemas.openxmlformats.org/officeDocument/2006/relationships/hyperlink" Target="http://news.dphotographer.co.uk/wp-content/uploads/2012/thank-you-gif-animation" TargetMode="External"/><Relationship Id="rId13" Type="http://schemas.openxmlformats.org/officeDocument/2006/relationships/hyperlink" Target="http://nkozlov.ru/upload/images/0909/0909141644260.jpg" TargetMode="External"/><Relationship Id="rId14" Type="http://schemas.openxmlformats.org/officeDocument/2006/relationships/hyperlink" Target="http://i003.radikal.ru/1102/6c/b26fdf38809a.gif" TargetMode="External"/><Relationship Id="rId15" Type="http://schemas.openxmlformats.org/officeDocument/2006/relationships/hyperlink" Target="http://i003.radikal.ru/1102/6c/b26fdf38809a.gif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za.ru/pics/2013/10/03/187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ephanshausen.de/images/theaterexpress.gif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035.radikal.ru/1109/6e/339da4a47e5a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my.germany.ru/47798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alance.ru/UserFiles/portfolio/014/990/516ab1a7ad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myfarm-online.ru/pchelovodstvo/rozliv-meda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g.io.ua/img_aa/large/2047/97/20479746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pronowosti.ru/archives/91438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alfaday.net/clipart/raster-clipart/300666-maslo-slivochnoe-i-maslo-arahisovoe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roshkolu.ru/user/Nazarova1969O/file/2861277/" TargetMode="External"/><Relationship Id="rId12" Type="http://schemas.openxmlformats.org/officeDocument/2006/relationships/image" Target="../media/image10.gif"/><Relationship Id="rId13" Type="http://schemas.openxmlformats.org/officeDocument/2006/relationships/hyperlink" Target="http://www.edu54.ru/node/116307" TargetMode="External"/><Relationship Id="rId14" Type="http://schemas.openxmlformats.org/officeDocument/2006/relationships/image" Target="../media/image11.gif"/><Relationship Id="rId15" Type="http://schemas.openxmlformats.org/officeDocument/2006/relationships/hyperlink" Target="http://ratatui.org/12711-varene-iz-chereshni-s-mindalem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applifto.ru/app/world_cheese_encyclopedia" TargetMode="External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eninform.ru/list/detail.php?SECTION_ID=4426&amp;ID=46572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foodclean.ru/novosti/krasnoe-myaso-povyshaet-risk-vozniknoveniya-diabeta.html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ylova.net/825-nemnogo-o-rybah-okun.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s://svadiba.wordpress.com/2013/05/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g825.imageshack.us/img825/1470/90872736ce8af6feed811e3.gif" TargetMode="External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ubavyshka.ru/photo/14-0-51306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liubavyshka.ru/photo/64-0-14039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mayli.ru/smile/edaa-1004.html" TargetMode="External"/><Relationship Id="rId2" Type="http://schemas.openxmlformats.org/officeDocument/2006/relationships/image" Target="../media/image21.gif"/><Relationship Id="rId3" Type="http://schemas.openxmlformats.org/officeDocument/2006/relationships/hyperlink" Target="http://smayli.ru/smile/edaa-902.html" TargetMode="Externa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mayli.ru/data/smiles/edaa-803.gif" TargetMode="External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21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- путешеств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тем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FOOD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лас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&amp;Mcy;&amp;acy;&amp;lcy;&amp;ycy;&amp;shcy; &amp;icy; &amp;Kcy;&amp;acy;&amp;rcy;&amp;lcy;&amp;scy;&amp;ocy;&amp;ncy; &amp;acy;&amp;ncy;&amp;icy;&amp;mcy;&amp;acy;&amp;shcy;&amp;kcy;&amp;a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3048120" cy="556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657600" y="1143000"/>
            <a:ext cx="4648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LET'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AV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 REST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30492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alogu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" descr="&amp;Vcy;&amp;iecy;&amp;scy;&amp;iecy;&amp;lcy;&amp;ycy;&amp;iecy; &amp;kcy;&amp;acy;&amp;rcy;&amp;tcy;&amp;icy;&amp;ncy;&amp;kcy;&amp;icy; &amp;dcy;&amp;lcy;&amp;yacy; &amp;dcy;&amp;iecy;&amp;tcy;&amp;iecy;&amp;jcy;. &amp;Ocy;&amp;bcy;&amp;ocy;&amp;icy; &amp;dcy;&amp;lcy;&amp;yacy; &amp;rcy;&amp;acy;&amp;bcy;&amp;ocy;&amp;chcy;&amp;iecy;&amp;gcy;&amp;ocy; &amp;scy;&amp;tcy;&amp;ocy;&amp;lcy;&amp;acy; &amp;scy; &amp;pcy;&amp;iecy;&amp;rcy;&amp;scy;&amp;ocy;&amp;ncy;&amp;acy;&amp;zhcy;&amp;acy;&amp;mcy;&amp;icy; &amp;mcy;&amp;ucy;&amp;lcy;&amp;softcy;&amp;tcy;&amp;fcy;&amp;icy;&amp;lcy;&amp;softcy;&amp;mcy;&amp;ocy;&amp;vcy; &amp;icy; &amp;dcy;&amp;iecy;&amp;tcy;&amp;scy;&amp;kcy;&amp;icy;&amp;khcy; &amp;kcy;&amp;ncy;&amp;icy;&amp;g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577880"/>
            <a:ext cx="7467840" cy="510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030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68508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Dino, would you like some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68960" y="6850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0600" y="13708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Yes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9640" y="1370880"/>
            <a:ext cx="16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1680" y="21326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5560" y="2742120"/>
            <a:ext cx="72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nk you. May I have some  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?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13080" y="27424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m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" y="3809160"/>
            <a:ext cx="53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Of course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!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p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0200" y="449496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         you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71200"/>
            <a:ext cx="15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nk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120" y="51044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You are welcome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http://smayli.ru/data/smiles/vkusnosti-1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68960" y="3352680"/>
            <a:ext cx="2479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8080" y="838080"/>
            <a:ext cx="723924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any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uch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920" y="25920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e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640" y="2592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ffe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92880" y="2592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ee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77840" y="2275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5440" y="227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ro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2120" y="22752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k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4440" y="227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r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8160" y="227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7480" y="227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tato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4480" y="913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tte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4520" y="16754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mato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360" y="9133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l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71600" y="9133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e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15520" y="91332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nan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2760" y="91332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mo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5440" y="913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k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9040" y="9133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ui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06960" y="913320"/>
            <a:ext cx="7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15360" y="913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6754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ridg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67080" y="21333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3981 L -0.02795 0.38426 E">
                                      <p:cBhvr>
                                        <p:cTn id="38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33 0.41111 E">
                                      <p:cBhvr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51667 0.38889 E">
                                      <p:cBhvr>
                                        <p:cTn id="391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0.04444 L -0.05312 0.42222 E">
                                      <p:cBhvr>
                                        <p:cTn id="3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666 0.46667 E">
                                      <p:cBhvr>
                                        <p:cTn id="39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5555 L 0.10712 0.45555 E">
                                      <p:cBhvr>
                                        <p:cTn id="40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5555 L -0.5908 0.56666 E">
                                      <p:cBhvr>
                                        <p:cTn id="40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0.04444 L -0.4901 0.6 E">
                                      <p:cBhvr>
                                        <p:cTn id="41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5 0.64445 E">
                                      <p:cBhvr>
                                        <p:cTn id="41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0.04444 L 0.14184 0.61111 E">
                                      <p:cBhvr>
                                        <p:cTn id="41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4 0.4 E">
                                      <p:cBhvr>
                                        <p:cTn id="42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05 0.04444 L 0.08872 0.66666 E">
                                      <p:cBhvr>
                                        <p:cTn id="42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0.05555 L 0.46424 0.52222 E">
                                      <p:cBhvr>
                                        <p:cTn id="43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555 L 0.35729 0.67777 E">
                                      <p:cBhvr>
                                        <p:cTn id="43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0.05555 L -0.59496 0.7 E">
                                      <p:cBhvr>
                                        <p:cTn id="43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04444 L -0.51129 0.7 E">
                                      <p:cBhvr>
                                        <p:cTn id="44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6 0.04444 L -0.12361 0.51111 E">
                                      <p:cBhvr>
                                        <p:cTn id="44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4444 L -0.33976 0.66666 E">
                                      <p:cBhvr>
                                        <p:cTn id="45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57 0.04444 L 0.49757 0.65555 E">
                                      <p:cBhvr>
                                        <p:cTn id="45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09 0.04444 L 0.08542 0.62222 E">
                                      <p:cBhvr>
                                        <p:cTn id="45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4920"/>
            <a:ext cx="8001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Country of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ealthy Food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" descr="&amp;Ncy;&amp;acy;&amp;zhcy;&amp;mcy;&amp;icy;&amp;tcy;&amp;iecy; &amp;ncy;&amp;acy; &amp;vcy;&amp;ocy;&amp;rcy;&amp;ocy;&amp;tcy;&amp;acy;, &amp;chcy;&amp;tcy;&amp;ocy;&amp;bcy;&amp;ycy; &amp;vcy;&amp;ocy;&amp;jcy;&amp;tcy;&amp;icy;"/>
          <p:cNvPicPr/>
          <p:nvPr/>
        </p:nvPicPr>
        <p:blipFill>
          <a:blip r:embed="rId1"/>
          <a:stretch/>
        </p:blipFill>
        <p:spPr>
          <a:xfrm>
            <a:off x="1066680" y="2209680"/>
            <a:ext cx="6934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http://i003.radikal.ru/1102/6c/b26fdf38809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533520"/>
            <a:ext cx="6934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http://news.dphotographer.co.uk/wp-content/uploads/2012/thank-you-gif-animation-i1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23720"/>
            <a:ext cx="5029200" cy="361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http://nkozlov.ru/upload/images/0909/0909141644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38640" y="2590920"/>
            <a:ext cx="374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арлсон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bestgif.su/photo/animashki_blestjashki/malysh_i_karlson/47-0-742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арлсон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www.proza.ru/pics/2013/10/03/187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имация «Поезд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tephanshausen.de/images/theaterexpress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арлсон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i035.radikal.ru/1109/6e/339da4a47e5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арлсон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y.germany.ru/47798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рех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dalance.ru/UserFiles/portfolio/014/990/516ab1a7a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ёд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yfarm-online.ru/pchelovodstvo/rozliv-meda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Еда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g.io.ua/img_aa/large/2047/97/2047974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Сахар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pronowosti.ru/archives/914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асло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alfaday.net/clipart/raster-clipart/300666-maslo-slivochnoe-i-maslo-arahisovoe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Хлеб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edu54.ru/node/1163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онфет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oshkolu.ru/user/Nazarova1969O/file/2861277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Варенье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ratatui.org/12711-varene-iz-chereshni-s-mindalem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Сыр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applifto.ru/app/world_cheese_encycloped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локо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oreninform.ru/list/detail.php?SECTION_ID=4426&amp;ID=4657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ясо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foodclean.ru/novosti/krasnoe-myaso-povyshaet-risk-vozniknoveniya-diabeta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Рыба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ylova.net/825-nemnogo-o-rybah-okun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Торт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s://svadiba.wordpress.com/2013/05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оженое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img825.imageshack.us/img825/1470/90872736ce8af6feed811e3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304920"/>
            <a:ext cx="8077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Resources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Печенье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ubavyshka.ru/photo/14-0-513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Книга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ubavyshka.ru/photo/64-0-140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Сэндвич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smayli.ru/smile/edaa-1004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Вишня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mayli.ru/smile/edaa-9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Смайлик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mayli.ru/data/smiles/edaa-803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е «Девочки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allforchildren.ru/pictures/showimg/kids/kids044j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Банан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smayli.ru/data/smiles/vkusnosti-16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news.dphotographer.co.uk/wp-content/uploads/2012/thank-you-gif-an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е «Карлсон»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nkozlov.ru/upload/images/0909/090914164426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i003.radikal.ru/1102/6c/b26fdf38809a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«Ворота» http://moyakaluga.jimdo.com/%D1%8D%D1%82%D0%BE-%D0%B2%D0%B0%D0%B6%D0%BD%D0%BE/%D0%B3%D0%BE%D1%81%D1%82%D1%8F%D0%BC-%D0%BA%D0%B0%D0%BB%D1%83%D0%B3%D0%B8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 Клубника» http://smayli.ru/smile/vkusnosti-12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&amp;Scy;&amp;kcy;&amp;acy;&amp;chcy;&amp;acy;&amp;tcy;&amp;softcy; HD &amp;Kcy;&amp;acy;&amp;rcy;&amp;lcy;&amp;scy;&amp;ocy;&amp;ncy; v1.1, &amp;Kcy;&amp;ncy;&amp;icy;&amp;gcy;&amp;icy;, iOS 3.2, RUS torrent - Torre…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8600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143000"/>
            <a:ext cx="815328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CARL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228600"/>
            <a:ext cx="815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Map of a Trip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89600" y="1705680"/>
            <a:ext cx="262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кур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фмовок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80080" y="306144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итател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10444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дых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4960" y="510444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икет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0320" y="2772360"/>
            <a:ext cx="20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533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676520" y="38095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20570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086600" y="38098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0574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0381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ttp://www.stephanshausen.de/images/theaterexpres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457200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http://www.stephanshausen.de/images/theaterexpress.gif"/>
          <p:cNvPicPr/>
          <p:nvPr/>
        </p:nvPicPr>
        <p:blipFill>
          <a:blip r:embed="rId3"/>
          <a:stretch/>
        </p:blipFill>
        <p:spPr>
          <a:xfrm>
            <a:off x="4724280" y="5715000"/>
            <a:ext cx="419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2000" y="426600"/>
            <a:ext cx="221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r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8520" y="2590200"/>
            <a:ext cx="244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ʒ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3680" y="4343040"/>
            <a:ext cx="17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http://i035.radikal.ru/1109/6e/339da4a47e5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28600"/>
            <a:ext cx="2943000" cy="358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00400"/>
            <a:ext cx="2971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dalance.ru/UserFiles/portfolio/014/990/516ab1a7a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http://g.io.ua/img_aa/large/2047/97/2047974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243828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Vcy;&amp;rcy;&amp;acy;&amp;chcy;&amp;icy; &amp;ncy;&amp;acy;&amp;shcy;&amp;lcy;&amp;icy; &amp;pcy;&amp;ocy;&amp;lcy;&amp;iecy;&amp;zcy;&amp;ncy;&amp;ocy;&amp;iecy; &amp;scy;&amp;vcy;&amp;ocy;&amp;jcy;&amp;scy;&amp;tcy;&amp;vcy;&amp;ocy; &amp;scy;&amp;acy;&amp;khcy;&amp;acy;&amp;rcy;&amp;acy;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724280"/>
            <a:ext cx="1981080" cy="1933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&amp;Scy;&amp;lcy;&amp;icy;&amp;vcy;&amp;ocy;&amp;chcy;&amp;ncy;&amp;ocy;&amp;iecy; &amp;icy; &amp;acy;&amp;rcy;&amp;acy;&amp;khcy;&amp;icy;&amp;scy;&amp;ocy;&amp;vcy;&amp;ocy;&amp;iecy; &amp;mcy;&amp;acy;&amp;scy;&amp;lcy;&amp;ocy; - &amp;fcy;&amp;ocy;&amp;tcy;&amp;ocy; &amp;icy; PNG &amp;kcy;&amp;lcy;&amp;icy;&amp;pcy;&amp;acy;&amp;rcy;&amp;tcy;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4648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&amp;kcy;&amp;ocy;&amp;ncy;&amp;fcy;&amp;iecy;&amp;tcy;&amp;ycy; - &amp;Ocy;&amp;lcy;&amp;softcy;&amp;gcy;&amp;acy; &amp;Vcy;&amp;lcy;&amp;acy;&amp;dcy;&amp;icy;&amp;mcy;&amp;icy;&amp;rcy;&amp;ocy;&amp;vcy;&amp;ncy;&amp;acy; &amp;Ncy;&amp;acy;&amp;zcy;&amp;acy;&amp;rcy;&amp;ocy;&amp;vcy;&amp;acy;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4724280"/>
            <a:ext cx="285768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ood_loa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124080" y="228600"/>
            <a:ext cx="28958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&amp;Vcy;&amp;acy;&amp;rcy;&amp;iecy;&amp;ncy;&amp;softcy;&amp;iecy; &amp;icy;&amp;zcy; &amp;chcy;&amp;iecy;&amp;rcy;&amp;iecy;&amp;shcy;&amp;ncy;&amp;icy; &amp;scy; &amp;mcy;&amp;icy;&amp;ncy;&amp;dcy;&amp;acy;&amp;lcy;&amp;iecy;&amp;mcy;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600" y="2362320"/>
            <a:ext cx="1981080" cy="217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World Cheese Encyclopedia - &amp;icy;&amp;ncy;&amp;tcy;&amp;iecy;&amp;rcy;&amp;iecy;&amp;scy;&amp;ncy;&amp;ycy;&amp;iecy; &amp;scy;&amp;tcy;&amp;acy;&amp;tcy;&amp;softcy;&amp;icy; &amp;ocy; &amp;gcy;&amp;acy;&amp;dcy;&amp;zhcy;&amp;iecy;&amp;tcy;&amp;acy;&amp;khcy; &amp;icy; i…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934320" y="2362320"/>
            <a:ext cx="19810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&amp;Vcy; &amp;Ocy;&amp;rcy;&amp;iecy;&amp;ncy;&amp;bcy;&amp;ucy;&amp;rcy;&amp;zhcy;&amp;softcy;&amp;iecy; &amp;vcy;&amp;ycy;&amp;rcy;&amp;acy;&amp;scy;&amp;tcy;&amp;ucy;&amp;tcy; &amp;zcy;&amp;acy;&amp;kcy;&amp;ucy;&amp;pcy;&amp;ocy;&amp;chcy;&amp;ncy;&amp;ycy;&amp;iecy; &amp;tscy;&amp;iecy;&amp;ncy;&amp;ycy; &amp;ncy;&amp;acy; &amp;mcy;&amp;ocy;&amp;lcy;&amp;ocy;&amp;kcy;&amp;o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97180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Kcy;&amp;rcy;&amp;acy;&amp;scy;&amp;ncy;&amp;ocy;&amp;iecy; &amp;mcy;&amp;yacy;&amp;scy;&amp;ocy; &amp;pcy;&amp;ocy;&amp;vcy;&amp;ycy;&amp;shcy;&amp;acy;&amp;iecy;&amp;tcy; &amp;rcy;&amp;icy;&amp;scy;&amp;kcy; &amp;vcy;&amp;ocy;&amp;zcy;&amp;ncy;&amp;icy;&amp;kcy;&amp;ncy;&amp;ocy;&amp;vcy;&amp;iecy;&amp;ncy;&amp;icy;&amp;yacy; &amp;dcy;&amp;icy;&amp;acy;&amp;bcy;&amp;iecy;&amp;tcy;&amp;acy;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81280"/>
            <a:ext cx="3048120" cy="3095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2286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505320"/>
            <a:ext cx="2971800" cy="308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http://img825.imageshack.us/img825/1470/90872736ce8af6feed811e3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1676520"/>
            <a:ext cx="259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914400"/>
            <a:ext cx="3429000" cy="113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EA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838080"/>
            <a:ext cx="3657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UNEA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87" name="" descr="&amp;Pcy;&amp;ocy;&amp;dcy;&amp;mcy;&amp;icy;&amp;gcy;&amp;icy;&amp;vcy;&amp;acy;&amp;yucy;&amp;shchcy;&amp;iecy;&amp;iecy; &amp;pcy;&amp;iecy;&amp;chcy;&amp;iecy;&amp;ncy;&amp;softcy;&amp;iecy; &amp;scy; &amp;mcy;&amp;acy;&amp;lcy;&amp;icy;&amp;ncy;&amp;ocy;&amp;vcy;&amp;ycy;&amp;mcy; &amp;vcy;&amp;acy;&amp;rcy;&amp;iecy;&amp;ncy;&amp;softcy;&amp;iecy;&amp;m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14640"/>
            <a:ext cx="3886200" cy="403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Mcy;&amp;ucy;&amp;dcy;&amp;rcy;&amp;acy;&amp;yacy;&amp;acy;&amp;yacy; &amp;kcy;&amp;ncy;&amp;icy;&amp;gcy;&amp;acy;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75248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 bear li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jam    b) honey   c) 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Rabbits don’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nut    b) carrot    c)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 monkey likes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banana    b) cake    c) m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ts don’t lik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fish    b) apple    c)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 dog doesn’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soup    b) bread    c) sw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219320"/>
            <a:ext cx="784872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REA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92" name="" descr="&amp;Acy;&amp;ncy;&amp;icy;&amp;mcy;&amp;acy;&amp;shcy;&amp;kcy;&amp;icy; &amp;iecy;&amp;dcy;&amp;acy;, &amp;IEcy;&amp;dcy;&amp;acy; &amp;acy;&amp;ncy;&amp;icy;&amp;mcy;&amp;acy;&amp;shcy;&amp;kcy;&amp;icy;, &amp;rcy;&amp;acy;&amp;zcy;&amp;ncy;&amp;ycy;&amp;iecy; &amp;acy;&amp;ncy;&amp;icy;&amp;mcy;&amp;acy;&amp;shcy;&amp;kcy;&amp;icy; | Smayli.r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4648320"/>
            <a:ext cx="1371600" cy="1714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&amp;Acy;&amp;ncy;&amp;icy;&amp;mcy;&amp;acy;&amp;shcy;&amp;kcy;&amp;icy; &amp;iecy;&amp;dcy;&amp;acy;, &amp;IEcy;&amp;dcy;&amp;acy; &amp;acy;&amp;ncy;&amp;icy;&amp;mcy;&amp;acy;&amp;shcy;&amp;kcy;&amp;icy;, &amp;rcy;&amp;acy;&amp;zcy;&amp;ncy;&amp;ycy;&amp;iecy; &amp;acy;&amp;ncy;&amp;icy;&amp;mcy;&amp;acy;&amp;shcy;&amp;kcy;&amp;icy; | Smayli.r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343400"/>
            <a:ext cx="1305000" cy="166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6400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7520" y="351720"/>
            <a:ext cx="175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mil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3040" y="3801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92952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kæbɪdʒ] –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9640" y="98964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bbag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537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mi:t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40400" y="15231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a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5920" y="214848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pɒrɪdʒ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78880" y="2132640"/>
            <a:ext cx="20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rid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832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su:p] 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75400" y="28947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p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3320" y="3520080"/>
            <a:ext cx="27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sænwɪdʒ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06440" y="350424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ndwich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2960" y="412992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kɒfɪ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12640" y="411408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ffe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5280" y="38016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ɒrɪndʒ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71560" y="380160"/>
            <a:ext cx="17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ang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26000" y="114228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ney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9880" y="114228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hʌnɪ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70520" y="18280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m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51080" y="1828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dʒæm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560" y="251388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ro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49880" y="251388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kærət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2600" y="31996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r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4200" y="3199680"/>
            <a:ext cx="15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kɔːn]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86920" y="380916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91480" y="38091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'æpl] 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45800" y="4418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tato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38760" y="441864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[pə'teɪtəu]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http://smayli.ru/data/smiles/edaa-80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5159520"/>
            <a:ext cx="4876920" cy="1508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&amp;Vcy;&amp;kcy;&amp;ucy;&amp;scy;&amp;ncy;&amp;ocy;&amp;scy;&amp;tcy;&amp;icy;, &amp;acy;&amp;ncy;&amp;icy;&amp;mcy;&amp;acy;&amp;shcy;&amp;kcy;&amp;icy; &amp;vcy;&amp;kcy;&amp;ucy;&amp;scy;&amp;ncy;&amp;ocy;&amp;scy;&amp;tcy;&amp;iecy;&amp;jcy;, &amp;bcy;&amp;lcy;&amp;iecy;&amp;scy;&amp;tcy;&amp;yacy;&amp;shchcy;&amp;icy;&amp;iecy; &amp;vcy;&amp;kcy;&amp;ucy;&amp;scy;&amp;ncy;&amp;ocy;&amp;scy;&amp;tcy;&amp;icy; | Smayli.ru"/>
          <p:cNvPicPr/>
          <p:nvPr/>
        </p:nvPicPr>
        <p:blipFill>
          <a:blip r:embed="rId3"/>
          <a:stretch/>
        </p:blipFill>
        <p:spPr>
          <a:xfrm>
            <a:off x="7238880" y="5143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&amp;Vcy;&amp;kcy;&amp;ucy;&amp;scy;&amp;ncy;&amp;ocy;&amp;scy;&amp;tcy;&amp;icy;, &amp;acy;&amp;ncy;&amp;icy;&amp;mcy;&amp;acy;&amp;shcy;&amp;kcy;&amp;icy; &amp;vcy;&amp;kcy;&amp;ucy;&amp;scy;&amp;ncy;&amp;ocy;&amp;scy;&amp;tcy;&amp;iecy;&amp;jcy;, &amp;bcy;&amp;lcy;&amp;iecy;&amp;scy;&amp;tcy;&amp;yacy;&amp;shchcy;&amp;icy;&amp;iecy; &amp;vcy;&amp;kcy;&amp;ucy;&amp;scy;&amp;ncy;&amp;ocy;&amp;scy;&amp;tcy;&amp;icy; | Smayli.ru"/>
          <p:cNvPicPr/>
          <p:nvPr/>
        </p:nvPicPr>
        <p:blipFill>
          <a:blip r:embed="rId4"/>
          <a:stretch/>
        </p:blipFill>
        <p:spPr>
          <a:xfrm>
            <a:off x="304920" y="5067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20:03:03Z</dcterms:created>
  <dc:creator>Еленка</dc:creator>
  <dc:description/>
  <dc:language>en-US</dc:language>
  <cp:lastModifiedBy>мама</cp:lastModifiedBy>
  <dcterms:modified xsi:type="dcterms:W3CDTF">2014-08-01T12:02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