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700-8CBF-4592-AEFC-0017759F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FFC-5946-46D0-BBED-236BF264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474-6E81-4761-A4A5-F7C48B05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AEE-D659-46EF-BE5A-8403976B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921-55E0-4E34-9753-B298776E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9630-E253-49FA-9B67-FF04545F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4BA-6FE0-425F-BE84-3E632A9D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CB7-57C9-41F5-ADE9-169AD221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333-3F2E-455A-813C-2FB921BF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C04-FA96-42CE-9475-BB4487A5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9B3D-C9EE-4777-8797-255A849C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696-D10B-459F-AC0D-2E735D5D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F7C5-7C4E-42DB-97A9-8A3E65C303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oiko-nv.ru/wp-content/uploads/2012/04/&#1074;&#1086;&#1088;&#1086;&#1085;&#1072;6.gi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boiko-nv.ru/wp-content/uploads/2012/04/&#1074;&#1086;&#1088;&#1086;&#1085;&#1072;6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boiko-nv.ru/wp-content/uploads/2012/04/&#1074;&#1086;&#1088;&#1086;&#1085;&#1072;6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boiko-nv.ru/wp-content/uploads/2012/04/&#1074;&#1086;&#1088;&#1086;&#1085;&#1072;6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boiko-nv.ru/wp-content/uploads/2012/04/&#1074;&#1086;&#1088;&#1086;&#1085;&#1072;6.gif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Рисуем ворону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72040" y="4357800"/>
            <a:ext cx="35719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Автор: учитель начальных классов ГБОУ СОШ №840 Зыкова Галина Ильинич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pticyrus.info/wp-content/uploads/2012/03/vorona1.jpg"/>
          <p:cNvPicPr/>
          <p:nvPr/>
        </p:nvPicPr>
        <p:blipFill>
          <a:blip r:embed="rId1"/>
          <a:stretch/>
        </p:blipFill>
        <p:spPr>
          <a:xfrm>
            <a:off x="357120" y="2428920"/>
            <a:ext cx="4762440" cy="3286080"/>
          </a:xfrm>
          <a:prstGeom prst="rect">
            <a:avLst/>
          </a:prstGeom>
          <a:ln w="0">
            <a:noFill/>
          </a:ln>
        </p:spPr>
      </p:pic>
      <p:pic>
        <p:nvPicPr>
          <p:cNvPr id="44" name="bnrds1.mp3" descr=""/>
          <p:cNvPicPr/>
          <p:nvPr/>
        </p:nvPicPr>
        <p:blipFill>
          <a:blip r:embed="rId2"/>
          <a:stretch/>
        </p:blipFill>
        <p:spPr>
          <a:xfrm>
            <a:off x="521496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1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3" descr="http://boiko-nv.ru/wp-content/uploads/2012/04/ворона6.gif"/>
          <p:cNvPicPr/>
          <p:nvPr/>
        </p:nvPicPr>
        <p:blipFill>
          <a:blip r:embed="rId2"/>
          <a:srcRect l="21547" t="72048" r="32396" b="-669"/>
          <a:stretch/>
        </p:blipFill>
        <p:spPr>
          <a:xfrm>
            <a:off x="1214280" y="12859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http://boiko-nv.ru/wp-content/uploads/2012/04/ворона6.gif">
            <a:hlinkClick r:id="rId1"/>
          </p:cNvPr>
          <p:cNvPicPr/>
          <p:nvPr/>
        </p:nvPicPr>
        <p:blipFill>
          <a:blip r:embed="rId2"/>
          <a:srcRect l="0" t="0" r="51403" b="78772"/>
          <a:stretch/>
        </p:blipFill>
        <p:spPr>
          <a:xfrm>
            <a:off x="1214280" y="1500120"/>
            <a:ext cx="69296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http://boiko-nv.ru/wp-content/uploads/2012/04/ворона6.gif">
            <a:hlinkClick r:id="rId2"/>
          </p:cNvPr>
          <p:cNvPicPr/>
          <p:nvPr/>
        </p:nvPicPr>
        <p:blipFill>
          <a:blip r:embed="rId3"/>
          <a:srcRect l="50369" t="0" r="5552" b="74013"/>
          <a:stretch/>
        </p:blipFill>
        <p:spPr>
          <a:xfrm>
            <a:off x="1285920" y="1643040"/>
            <a:ext cx="67150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http://boiko-nv.ru/wp-content/uploads/2012/04/ворона6.gif">
            <a:hlinkClick r:id="rId2"/>
          </p:cNvPr>
          <p:cNvPicPr/>
          <p:nvPr/>
        </p:nvPicPr>
        <p:blipFill>
          <a:blip r:embed="rId3"/>
          <a:srcRect l="1451" t="20653" r="46547" b="54911"/>
          <a:stretch/>
        </p:blipFill>
        <p:spPr>
          <a:xfrm>
            <a:off x="1285920" y="1714680"/>
            <a:ext cx="6429240" cy="42861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7286760" y="2786040"/>
            <a:ext cx="64296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6858000" y="1857240"/>
            <a:ext cx="71424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http://boiko-nv.ru/wp-content/uploads/2012/04/ворона6.gif">
            <a:hlinkClick r:id="rId2"/>
          </p:cNvPr>
          <p:cNvPicPr/>
          <p:nvPr/>
        </p:nvPicPr>
        <p:blipFill>
          <a:blip r:embed="rId3"/>
          <a:srcRect l="46287" t="21232" r="18" b="53424"/>
          <a:stretch/>
        </p:blipFill>
        <p:spPr>
          <a:xfrm>
            <a:off x="1071720" y="1714680"/>
            <a:ext cx="6929280" cy="42145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928800" y="4000680"/>
            <a:ext cx="100008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http://boiko-nv.ru/wp-content/uploads/2012/04/ворона6.gif">
            <a:hlinkClick r:id="rId2"/>
          </p:cNvPr>
          <p:cNvPicPr/>
          <p:nvPr/>
        </p:nvPicPr>
        <p:blipFill>
          <a:blip r:embed="rId3"/>
          <a:srcRect l="1808" t="47071" r="47109" b="27475"/>
          <a:stretch/>
        </p:blipFill>
        <p:spPr>
          <a:xfrm>
            <a:off x="1214280" y="1643040"/>
            <a:ext cx="6715440" cy="42148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7143840" y="2714760"/>
            <a:ext cx="121428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7143840" y="1714680"/>
            <a:ext cx="1071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http://boiko-nv.ru/wp-content/uploads/2012/04/ворона6.gif"/>
          <p:cNvPicPr/>
          <p:nvPr/>
        </p:nvPicPr>
        <p:blipFill>
          <a:blip r:embed="rId2"/>
          <a:srcRect l="45809" t="46785" r="-3550" b="27377"/>
          <a:stretch/>
        </p:blipFill>
        <p:spPr>
          <a:xfrm>
            <a:off x="1000080" y="1428840"/>
            <a:ext cx="6858000" cy="442908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-357120" y="4000680"/>
            <a:ext cx="2143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http://boiko-nv.ru/wp-content/uploads/2012/04/ворона6.gif"/>
          <p:cNvPicPr/>
          <p:nvPr/>
        </p:nvPicPr>
        <p:blipFill>
          <a:blip r:embed="rId1"/>
          <a:srcRect l="21547" t="72048" r="32396" b="-669"/>
          <a:stretch/>
        </p:blipFill>
        <p:spPr>
          <a:xfrm>
            <a:off x="1214280" y="157176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4" descr="http://boiko-nv.ru/wp-content/uploads/2012/04/ворона6.gif"/>
          <p:cNvPicPr/>
          <p:nvPr/>
        </p:nvPicPr>
        <p:blipFill>
          <a:blip r:embed="rId2"/>
          <a:srcRect l="-2171" t="0" r="0" b="27283"/>
          <a:stretch/>
        </p:blipFill>
        <p:spPr>
          <a:xfrm>
            <a:off x="1535040" y="366840"/>
            <a:ext cx="607392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9T14:24:56Z</dcterms:created>
  <dc:creator>Дмитрий</dc:creator>
  <dc:description/>
  <dc:language>en-US</dc:language>
  <cp:lastModifiedBy>Дмитрий</cp:lastModifiedBy>
  <dcterms:modified xsi:type="dcterms:W3CDTF">2013-07-29T15:05:09Z</dcterms:modified>
  <cp:revision>6</cp:revision>
  <dc:subject/>
  <dc:title>Слайд 1</dc:title>
</cp:coreProperties>
</file>