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68E-CD5C-4A6F-B579-4DA0AEF8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600-86CE-470F-8D5C-DBFA55C0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769-BD45-452A-8C5D-CE449863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F3D-0720-4AF3-8ACB-BE802C27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17E-691A-4001-80BC-0AF4FB91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2D2-D00B-4CC6-A745-F41CFB2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64B-EFFB-4F88-AB4F-ACAFA956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EB5-E512-4F60-9397-1751E4E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1A4-9DA1-47FB-AF28-0C7EB71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2E7-8874-4A9B-90C8-863767D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B3A-7A98-4DB3-9445-A614B65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656-177F-4586-BF59-2FBF6E62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94D-4F07-46B9-8AE3-7C9A66C7B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ff0000"/>
                </a:solidFill>
                <a:latin typeface="Calibri"/>
              </a:rPr>
              <a:t>Рисуем кошку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0440" y="3886200"/>
            <a:ext cx="31431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: учитель начальных классов ГБОУ СОШ №840 Зыкова Галина Ильинич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vivacat.ru/images2/DSC_9086.jpg"/>
          <p:cNvPicPr/>
          <p:nvPr/>
        </p:nvPicPr>
        <p:blipFill>
          <a:blip r:embed="rId1"/>
          <a:stretch/>
        </p:blipFill>
        <p:spPr>
          <a:xfrm>
            <a:off x="214200" y="2428920"/>
            <a:ext cx="5477040" cy="3792600"/>
          </a:xfrm>
          <a:prstGeom prst="rect">
            <a:avLst/>
          </a:prstGeom>
          <a:ln w="0">
            <a:noFill/>
          </a:ln>
        </p:spPr>
      </p:pic>
      <p:pic>
        <p:nvPicPr>
          <p:cNvPr id="44" name="Myaukane.mp3" descr=""/>
          <p:cNvPicPr/>
          <p:nvPr/>
        </p:nvPicPr>
        <p:blipFill>
          <a:blip r:embed="rId2"/>
          <a:stretch/>
        </p:blipFill>
        <p:spPr>
          <a:xfrm>
            <a:off x="6858000" y="20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5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071800" y="1000080"/>
            <a:ext cx="52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883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00160" y="928800"/>
            <a:ext cx="5429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71760" y="571680"/>
            <a:ext cx="6929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71760" y="857160"/>
            <a:ext cx="6072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7143840" cy="4643280"/>
          </a:xfrm>
          <a:prstGeom prst="rect">
            <a:avLst/>
          </a:prstGeom>
          <a:ln w="0">
            <a:noFill/>
          </a:ln>
        </p:spPr>
      </p:pic>
      <p:pic>
        <p:nvPicPr>
          <p:cNvPr id="51" name="Kot_myaukaet.mp3" descr=""/>
          <p:cNvPicPr/>
          <p:nvPr/>
        </p:nvPicPr>
        <p:blipFill>
          <a:blip r:embed="rId2"/>
          <a:stretch/>
        </p:blipFill>
        <p:spPr>
          <a:xfrm>
            <a:off x="7643880" y="5072040"/>
            <a:ext cx="109044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4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http://boiko-nv.ru/wp-content/uploads/2012/04/кошка.gif"/>
          <p:cNvPicPr/>
          <p:nvPr/>
        </p:nvPicPr>
        <p:blipFill>
          <a:blip r:embed="rId1"/>
          <a:stretch/>
        </p:blipFill>
        <p:spPr>
          <a:xfrm>
            <a:off x="2286000" y="285840"/>
            <a:ext cx="45277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6:11:00Z</dcterms:created>
  <dc:creator>Дмитрий</dc:creator>
  <dc:description/>
  <dc:language>en-US</dc:language>
  <cp:lastModifiedBy>Дмитрий</cp:lastModifiedBy>
  <dcterms:modified xsi:type="dcterms:W3CDTF">2013-07-29T16:28:14Z</dcterms:modified>
  <cp:revision>3</cp:revision>
  <dc:subject/>
  <dc:title>Слайд 1</dc:title>
</cp:coreProperties>
</file>