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7.png" ContentType="image/png"/>
  <Override PartName="/ppt/media/image4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50F-3D51-4F37-8D85-7FB48170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F0E-5558-4392-9189-B95085F5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D37-67C2-4A0D-91F0-6B114A81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437-FD87-44F3-A0D7-892E5393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C04-3072-4473-AE22-1D2465D1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5D5-E949-4DEF-824F-7A433943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6B4-03F4-4F1E-AE99-5FF86992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B35-CC7B-456A-A929-8623F1E1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157-0797-4678-B60B-4F0D6899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0A7-9F07-456D-B964-ADB4C347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476-F80E-4033-92FE-06BEAED7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72B-3147-4CE3-A5E3-C1915368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344C-2708-43E9-890F-3B72B47691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etersburg-tourism.com/?cat=1&amp;lang=ru" TargetMode="External"/><Relationship Id="rId2" Type="http://schemas.openxmlformats.org/officeDocument/2006/relationships/hyperlink" Target="http://ruskerealie.zcu.cz/r2-9A.php" TargetMode="External"/><Relationship Id="rId3" Type="http://schemas.openxmlformats.org/officeDocument/2006/relationships/hyperlink" Target="http://www.art-spb.ru/goods/2158" TargetMode="External"/><Relationship Id="rId4" Type="http://schemas.openxmlformats.org/officeDocument/2006/relationships/hyperlink" Target="http://www.hermitagemuseum.org/html_" TargetMode="External"/><Relationship Id="rId5" Type="http://schemas.openxmlformats.org/officeDocument/2006/relationships/hyperlink" Target="http://artpo.ru/254/info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298440" y="1712880"/>
            <a:ext cx="84916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leo_bridge.jpg"/>
          <p:cNvPicPr/>
          <p:nvPr/>
        </p:nvPicPr>
        <p:blipFill>
          <a:blip r:embed="rId1"/>
          <a:stretch/>
        </p:blipFill>
        <p:spPr>
          <a:xfrm>
            <a:off x="928800" y="1643040"/>
            <a:ext cx="7289640" cy="4357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214720" y="500040"/>
            <a:ext cx="43574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ьвиный мост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143000" y="1214280"/>
            <a:ext cx="7143840" cy="435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анит суровый, величавы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Обломок довременных скал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Как знак побед, как вестник слав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Ты перед царским домом ст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ы выше, чем колонна Рим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Поставил знаменье крест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Несокрушима, недвижим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Твоя тяжелая пя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лерий Брюсов    9 апреля 19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C:\Documents and Settings\Марина\Local Settings\Temporary Internet Files\Content.IE5\GCY438I1\MC900078711[1].wmf"/>
          <p:cNvPicPr/>
          <p:nvPr/>
        </p:nvPicPr>
        <p:blipFill>
          <a:blip r:embed="rId1"/>
          <a:stretch/>
        </p:blipFill>
        <p:spPr>
          <a:xfrm>
            <a:off x="7564320" y="566640"/>
            <a:ext cx="604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428840" y="642960"/>
            <a:ext cx="6286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ександровская  колон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hm12_3_4_13_3_1_big.jpg"/>
          <p:cNvPicPr/>
          <p:nvPr/>
        </p:nvPicPr>
        <p:blipFill>
          <a:blip r:embed="rId1"/>
          <a:stretch/>
        </p:blipFill>
        <p:spPr>
          <a:xfrm>
            <a:off x="963720" y="1714680"/>
            <a:ext cx="72165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00040" y="1428840"/>
            <a:ext cx="8215200" cy="435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рожу среди героев и бог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Как небо первозданно и бездонно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Как не бездумно!. . Статуи - строг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Дворец Петра . . .Но где ж хозяин дома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В каких веках гремят его ша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уршат    и    шепчут    листья, осыпаяс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Блуждают блики солнца по траве . .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                                  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ячеслав Кузне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C:\Documents and Settings\Марина\Local Settings\Temporary Internet Files\Content.IE5\GCY438I1\MC900078711[1].wmf"/>
          <p:cNvPicPr/>
          <p:nvPr/>
        </p:nvPicPr>
        <p:blipFill>
          <a:blip r:embed="rId1"/>
          <a:stretch/>
        </p:blipFill>
        <p:spPr>
          <a:xfrm>
            <a:off x="7711920" y="920880"/>
            <a:ext cx="59688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63357080_1865.jpg"/>
          <p:cNvPicPr/>
          <p:nvPr/>
        </p:nvPicPr>
        <p:blipFill>
          <a:blip r:embed="rId1"/>
          <a:srcRect l="0" t="0" r="787" b="0"/>
          <a:stretch/>
        </p:blipFill>
        <p:spPr>
          <a:xfrm>
            <a:off x="1177920" y="1285920"/>
            <a:ext cx="6788160" cy="5049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3071880" y="500040"/>
            <a:ext cx="30002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тний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714680" y="2000160"/>
            <a:ext cx="5715000" cy="265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арь диковинки любил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Собирал их и копи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Из причуды царской се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Первый создан был муз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Юрий Юди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C:\Documents and Settings\Марина\Local Settings\Temporary Internet Files\Content.IE5\GCY438I1\MC900078711[1].wmf"/>
          <p:cNvPicPr/>
          <p:nvPr/>
        </p:nvPicPr>
        <p:blipFill>
          <a:blip r:embed="rId1"/>
          <a:stretch/>
        </p:blipFill>
        <p:spPr>
          <a:xfrm>
            <a:off x="6991200" y="1066680"/>
            <a:ext cx="6051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kunstkamera-1.jpg"/>
          <p:cNvPicPr/>
          <p:nvPr/>
        </p:nvPicPr>
        <p:blipFill>
          <a:blip r:embed="rId1"/>
          <a:stretch/>
        </p:blipFill>
        <p:spPr>
          <a:xfrm>
            <a:off x="1096920" y="1643040"/>
            <a:ext cx="6950160" cy="4110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643120" y="500040"/>
            <a:ext cx="4000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унсткам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714240" y="2000160"/>
            <a:ext cx="77868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звал к себе архитектора Павел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«Постройте дворец против нынешних прави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Не для веселья, обмана и лест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Пусть станет оплотом он рыцарской чест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Стройте без отдыха: нощно и денно!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И взялся за дело блистательный Бренн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фим Ефим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C:\Documents and Settings\Марина\Local Settings\Temporary Internet Files\Content.IE5\GCY438I1\MC900078711[1].wmf"/>
          <p:cNvPicPr/>
          <p:nvPr/>
        </p:nvPicPr>
        <p:blipFill>
          <a:blip r:embed="rId1"/>
          <a:stretch/>
        </p:blipFill>
        <p:spPr>
          <a:xfrm>
            <a:off x="7778880" y="1133640"/>
            <a:ext cx="60300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54942468_image.jpg"/>
          <p:cNvPicPr/>
          <p:nvPr/>
        </p:nvPicPr>
        <p:blipFill>
          <a:blip r:embed="rId1"/>
          <a:srcRect l="0" t="8315" r="0" b="14807"/>
          <a:stretch/>
        </p:blipFill>
        <p:spPr>
          <a:xfrm>
            <a:off x="1055520" y="1643040"/>
            <a:ext cx="7032960" cy="4443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571760" y="642960"/>
            <a:ext cx="60004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ихайловски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м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928800" y="1143000"/>
            <a:ext cx="7500960" cy="387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дный дворец за высокой оградо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Портик с классической колоннадо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Росси прекрасный дворец сотвори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В нем проживал брат царя Михаи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Фризы лепные и бархат портьер -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Зодчий продумывал весь интерьер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Сегодня в том здании Русский муз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А что за дворец, догадаться сум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фим Ефимо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C:\Documents and Settings\Марина\Local Settings\Temporary Internet Files\Content.IE5\GCY438I1\MC900078711[1].wmf"/>
          <p:cNvPicPr/>
          <p:nvPr/>
        </p:nvPicPr>
        <p:blipFill>
          <a:blip r:embed="rId1"/>
          <a:stretch/>
        </p:blipFill>
        <p:spPr>
          <a:xfrm>
            <a:off x="7491240" y="281160"/>
            <a:ext cx="6051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2249640" y="1243080"/>
            <a:ext cx="5467320" cy="38163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Deti51.gif"/>
          <p:cNvPicPr/>
          <p:nvPr/>
        </p:nvPicPr>
        <p:blipFill>
          <a:blip r:embed="rId2"/>
          <a:stretch/>
        </p:blipFill>
        <p:spPr>
          <a:xfrm>
            <a:off x="6500880" y="4357800"/>
            <a:ext cx="197784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Deti57.gif"/>
          <p:cNvPicPr/>
          <p:nvPr/>
        </p:nvPicPr>
        <p:blipFill>
          <a:blip r:embed="rId3"/>
          <a:stretch/>
        </p:blipFill>
        <p:spPr>
          <a:xfrm>
            <a:off x="928800" y="857160"/>
            <a:ext cx="14284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mih_palace04.jpg"/>
          <p:cNvPicPr/>
          <p:nvPr/>
        </p:nvPicPr>
        <p:blipFill>
          <a:blip r:embed="rId1"/>
          <a:stretch/>
        </p:blipFill>
        <p:spPr>
          <a:xfrm>
            <a:off x="946080" y="1714680"/>
            <a:ext cx="7251840" cy="47718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1785960" y="214200"/>
            <a:ext cx="55720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хайловск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 Русский муз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357200" y="1785960"/>
            <a:ext cx="628668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шел из русской сказки к на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Затейливый, узорный хра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Встал у канала яркий, броски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Похожий на собор московский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фим Ефимо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C:\Documents and Settings\Марина\Local Settings\Temporary Internet Files\Content.IE5\GCY438I1\MC900078711[1].wmf"/>
          <p:cNvPicPr/>
          <p:nvPr/>
        </p:nvPicPr>
        <p:blipFill>
          <a:blip r:embed="rId1"/>
          <a:stretch/>
        </p:blipFill>
        <p:spPr>
          <a:xfrm>
            <a:off x="7351560" y="920880"/>
            <a:ext cx="60336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11112.jpg"/>
          <p:cNvPicPr/>
          <p:nvPr/>
        </p:nvPicPr>
        <p:blipFill>
          <a:blip r:embed="rId1"/>
          <a:stretch/>
        </p:blipFill>
        <p:spPr>
          <a:xfrm>
            <a:off x="1285920" y="1214280"/>
            <a:ext cx="6572160" cy="49294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3036960" y="357120"/>
            <a:ext cx="30718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928800" y="1357200"/>
            <a:ext cx="7286400" cy="448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ка несчётные пр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 не сомкнули свои 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северном краю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 львы с глаз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 наводненья не страш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что волненья и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дремлют на брегах Не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ипта мудрого созда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ртем Сок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:\Documents and Settings\Марина\Local Settings\Temporary Internet Files\Content.IE5\GCY438I1\MC900078711[1].wmf"/>
          <p:cNvPicPr/>
          <p:nvPr/>
        </p:nvPicPr>
        <p:blipFill>
          <a:blip r:embed="rId1"/>
          <a:stretch/>
        </p:blipFill>
        <p:spPr>
          <a:xfrm>
            <a:off x="7278840" y="781200"/>
            <a:ext cx="603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Sfinks50_60_2007_i.jpg"/>
          <p:cNvPicPr/>
          <p:nvPr/>
        </p:nvPicPr>
        <p:blipFill>
          <a:blip r:embed="rId1"/>
          <a:srcRect l="0" t="8472" r="0" b="0"/>
          <a:stretch/>
        </p:blipFill>
        <p:spPr>
          <a:xfrm>
            <a:off x="1116000" y="1214280"/>
            <a:ext cx="6912000" cy="5180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3036960" y="357120"/>
            <a:ext cx="3070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финкс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571680" y="1500120"/>
            <a:ext cx="7929360" cy="36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etersburg-tourism.com/?cat=1&amp;lang=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skerealie.zcu.cz/r2-9A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rt-spb.ru/goods/2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hermitagemuseum.org/htm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rtpo.ru/254/inf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tels812.ru/link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anov.appfarm.ru/ru/cityscap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diary.ru/~piterartart/?tag=64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rtgalery.ru/indexphp.php?id=100&amp;itemcode=1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anovart.ru/ru/cityscap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ncspb.ru/article.php?kod=2804005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428760" y="2071800"/>
            <a:ext cx="8501040" cy="265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й образ изваян премудрого геро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то ради подданных лишив себя поко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следний принял чин и, царствуя, служ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вои законы сам примером утверд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ождённый к скипетру, простёр в работу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. 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C:\Documents and Settings\Марина\Local Settings\Temporary Internet Files\Content.IE5\GCY438I1\MC900078711[1].wmf"/>
          <p:cNvPicPr/>
          <p:nvPr/>
        </p:nvPicPr>
        <p:blipFill>
          <a:blip r:embed="rId1"/>
          <a:stretch/>
        </p:blipFill>
        <p:spPr>
          <a:xfrm>
            <a:off x="7997760" y="208080"/>
            <a:ext cx="5968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bb951fd504bf91b62898a984cb9.jpg"/>
          <p:cNvPicPr/>
          <p:nvPr/>
        </p:nvPicPr>
        <p:blipFill>
          <a:blip r:embed="rId1"/>
          <a:stretch/>
        </p:blipFill>
        <p:spPr>
          <a:xfrm>
            <a:off x="2475000" y="768240"/>
            <a:ext cx="4194000" cy="53215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14200" y="357120"/>
            <a:ext cx="22860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ётр </a:t>
            </a: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571680" y="1285920"/>
            <a:ext cx="8072280" cy="39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самых вод раскатистой Нев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Лицом к лицу с нарядною столицей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Темнеет, грозный в памяти молв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Гранитный вал с внушительною спиц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Там виден храм, где искони внутр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Опочивают русские цари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А возле стен зарыты коменданты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И тихий плачь в гробницы льют куранты..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С. Андре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C:\Documents and Settings\Марина\Local Settings\Temporary Internet Files\Content.IE5\GCY438I1\MC900078711[1].wmf"/>
          <p:cNvPicPr/>
          <p:nvPr/>
        </p:nvPicPr>
        <p:blipFill>
          <a:blip r:embed="rId1"/>
          <a:stretch/>
        </p:blipFill>
        <p:spPr>
          <a:xfrm>
            <a:off x="7924680" y="493560"/>
            <a:ext cx="59688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3.jpg"/>
          <p:cNvPicPr/>
          <p:nvPr/>
        </p:nvPicPr>
        <p:blipFill>
          <a:blip r:embed="rId1"/>
          <a:srcRect l="6189" t="7292" r="6189" b="15628"/>
          <a:stretch/>
        </p:blipFill>
        <p:spPr>
          <a:xfrm>
            <a:off x="1089000" y="1500120"/>
            <a:ext cx="6966000" cy="4602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285920" y="714240"/>
            <a:ext cx="6500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тропавловская креп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500120" y="1071720"/>
            <a:ext cx="6429600" cy="39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спит, пока закат румя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сонно розовеют лат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с тихим свистом сквозь туман  Глядится змей, копытом сжатый.  Сойдут глухие вече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мей расклубится над дом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руке протянутой Пет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ляшет факельное пла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:\Documents and Settings\Марина\Local Settings\Temporary Internet Files\Content.IE5\GCY438I1\MC900078711[1].wmf"/>
          <p:cNvPicPr/>
          <p:nvPr/>
        </p:nvPicPr>
        <p:blipFill>
          <a:blip r:embed="rId1"/>
          <a:stretch/>
        </p:blipFill>
        <p:spPr>
          <a:xfrm>
            <a:off x="7424640" y="781200"/>
            <a:ext cx="5968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305564.jpg"/>
          <p:cNvPicPr/>
          <p:nvPr/>
        </p:nvPicPr>
        <p:blipFill>
          <a:blip r:embed="rId1"/>
          <a:srcRect l="2865" t="2124" r="2026" b="2039"/>
          <a:stretch/>
        </p:blipFill>
        <p:spPr>
          <a:xfrm>
            <a:off x="1320840" y="1214280"/>
            <a:ext cx="6502320" cy="4875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571840" y="500040"/>
            <a:ext cx="3786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дный вса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643040" y="1000080"/>
            <a:ext cx="5643720" cy="484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молочной сырости туман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де тонут мысли и слов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друг выплыли четыре льв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ыре белых истукан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, опершись на парап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жали берега ка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друг солнце из-за облаков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зошло и вылилось на крыш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ворник, подметая мос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лой случайно тронул хвос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огрызнулся лев неслыш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                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лентина Л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C:\Documents and Settings\Марина\Local Settings\Temporary Internet Files\Content.IE5\GCY438I1\MC900078711[1].wmf"/>
          <p:cNvPicPr/>
          <p:nvPr/>
        </p:nvPicPr>
        <p:blipFill>
          <a:blip r:embed="rId1"/>
          <a:stretch/>
        </p:blipFill>
        <p:spPr>
          <a:xfrm>
            <a:off x="6711840" y="566640"/>
            <a:ext cx="5968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2:34:26Z</dcterms:created>
  <dc:creator>Марина</dc:creator>
  <dc:description/>
  <dc:language>en-US</dc:language>
  <cp:lastModifiedBy>Марина</cp:lastModifiedBy>
  <dcterms:modified xsi:type="dcterms:W3CDTF">2011-10-11T18:00:45Z</dcterms:modified>
  <cp:revision>8</cp:revision>
  <dc:subject/>
  <dc:title>Слайд 1</dc:title>
</cp:coreProperties>
</file>