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3C98-74B0-4B0D-9375-52122960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3FE-EB1B-41CE-B3B7-74D2C0A7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AA7-2C52-447B-BCA6-0DF2F28E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61D-AA9A-4B30-9AE6-73A4F164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DCA3-69E4-4D43-8D0F-3E09BF06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E2F-A2DB-4163-946A-FCA125F5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B0A-891F-4B4A-8C92-119C5454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CE7-9143-425E-9757-32B0C8AD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B181-AFD2-4F11-85AD-04C00911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015-68CC-4E4F-B25F-B6C93D9F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F844-7F9C-40C2-80A9-C935D213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58C4-42AE-4427-8BF5-BEAF0928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EE3B-38EA-4A89-BF14-763636C92E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yadi.sk/d/tsaS9oNIDaKKp" TargetMode="External"/><Relationship Id="rId2" Type="http://schemas.openxmlformats.org/officeDocument/2006/relationships/hyperlink" Target="http://img-fotki.yandex.ru/get/4122/47407354.97a/0_1070e9_333788c5_orig.png" TargetMode="External"/><Relationship Id="rId3" Type="http://schemas.openxmlformats.org/officeDocument/2006/relationships/hyperlink" Target="http://wiki.iteach.ru/images/thumb/9/92/34e0fcfc926at.jpg/300px-34e0fcfc926at.jpg" TargetMode="External"/><Relationship Id="rId4" Type="http://schemas.openxmlformats.org/officeDocument/2006/relationships/hyperlink" Target="http://prazdni.com/wp-content/uploads/2009/11/&#1076;&#1077;&#1090;&#1089;&#1082;&#1080;&#1077;-&#1085;&#1086;&#1074;&#1086;&#1075;&#1086;&#1076;&#1085;&#1080;&#1077;-&#1088;&#1072;&#1084;&#1082;&#1080;-&#1076;&#1083;&#1103;-&#1092;&#1086;&#1090;&#1086;&#1096;&#1086;&#1087;&#1072;Image_013.pn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55640" y="15573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85840" y="1571760"/>
            <a:ext cx="8429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«В гостях у Деда Мороза»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Урок-путешествие (математика 1 класс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01240" y="285840"/>
            <a:ext cx="502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МБОУ «СОШ№14» г.Новомосковска Тульской области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Учитель начальных классов высшей категории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Хлопянова Татьяна Витальевн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SDC107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" descr="Заяц66png.png"/>
          <p:cNvPicPr/>
          <p:nvPr/>
        </p:nvPicPr>
        <p:blipFill>
          <a:blip r:embed="rId2"/>
          <a:stretch/>
        </p:blipFill>
        <p:spPr>
          <a:xfrm>
            <a:off x="571680" y="4214880"/>
            <a:ext cx="24285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3"/>
          <p:cNvSpPr/>
          <p:nvPr/>
        </p:nvSpPr>
        <p:spPr>
          <a:xfrm>
            <a:off x="6659640" y="2852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 rot="10800000">
            <a:off x="6659280" y="6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 rot="16200000">
            <a:off x="654120" y="4395240"/>
            <a:ext cx="2190600" cy="1698840"/>
          </a:xfrm>
          <a:custGeom>
            <a:avLst/>
            <a:gdLst>
              <a:gd name="textAreaLeft" fmla="*/ 0 w 2190600"/>
              <a:gd name="textAreaRight" fmla="*/ 2190960 w 2190600"/>
              <a:gd name="textAreaTop" fmla="*/ 0 h 1698840"/>
              <a:gd name="textAreaBottom" fmla="*/ 1699200 h 169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3564000" y="3860640"/>
            <a:ext cx="2952720" cy="2664000"/>
          </a:xfrm>
          <a:prstGeom prst="sun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6084720" y="1268280"/>
            <a:ext cx="2232360" cy="18734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1445040" y="4316400"/>
            <a:ext cx="619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4+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5+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6+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4630680" y="4581360"/>
            <a:ext cx="8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2+3  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3+3 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4-3   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5-3   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6749280" y="1557360"/>
            <a:ext cx="9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…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+3=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4+…=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8-…=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9-…=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250920" y="6313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Рисунок 11" descr="Заяц66png.png"/>
          <p:cNvPicPr/>
          <p:nvPr/>
        </p:nvPicPr>
        <p:blipFill>
          <a:blip r:embed="rId1"/>
          <a:stretch/>
        </p:blipFill>
        <p:spPr>
          <a:xfrm>
            <a:off x="642960" y="1071720"/>
            <a:ext cx="407196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SDC107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2" descr="Заяц66png.png"/>
          <p:cNvPicPr/>
          <p:nvPr/>
        </p:nvPicPr>
        <p:blipFill>
          <a:blip r:embed="rId2"/>
          <a:stretch/>
        </p:blipFill>
        <p:spPr>
          <a:xfrm>
            <a:off x="428760" y="4143240"/>
            <a:ext cx="2571480" cy="19018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300px-34e0fcfc926at.jpg"/>
          <p:cNvPicPr/>
          <p:nvPr/>
        </p:nvPicPr>
        <p:blipFill>
          <a:blip r:embed="rId3"/>
          <a:stretch/>
        </p:blipFill>
        <p:spPr>
          <a:xfrm>
            <a:off x="5786280" y="49291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0_1070e9_333788c5_orig.png"/>
          <p:cNvPicPr/>
          <p:nvPr/>
        </p:nvPicPr>
        <p:blipFill>
          <a:blip r:embed="rId4"/>
          <a:stretch/>
        </p:blipFill>
        <p:spPr>
          <a:xfrm>
            <a:off x="4714920" y="4286160"/>
            <a:ext cx="16254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261000" y="4581360"/>
            <a:ext cx="441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10 8 7 5 9 6 3 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995640" y="1989000"/>
            <a:ext cx="5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228280" y="4581360"/>
            <a:ext cx="35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7 2 6 1 3 4 5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013000" y="5445000"/>
            <a:ext cx="390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10 5 9 4 6 7 8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924360" y="42926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61000" y="5445000"/>
            <a:ext cx="45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7   5 4 2 6 3 0 1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250920" y="6168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2" descr="0_1fba2_e8f7e5d5_XL"/>
          <p:cNvPicPr/>
          <p:nvPr/>
        </p:nvPicPr>
        <p:blipFill>
          <a:blip r:embed="rId1"/>
          <a:stretch/>
        </p:blipFill>
        <p:spPr>
          <a:xfrm>
            <a:off x="1835280" y="1125360"/>
            <a:ext cx="532908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SDC107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Заяц66png.png"/>
          <p:cNvPicPr/>
          <p:nvPr/>
        </p:nvPicPr>
        <p:blipFill>
          <a:blip r:embed="rId2"/>
          <a:stretch/>
        </p:blipFill>
        <p:spPr>
          <a:xfrm>
            <a:off x="214200" y="4071960"/>
            <a:ext cx="2857680" cy="21128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300px-34e0fcfc926at.jpg"/>
          <p:cNvPicPr/>
          <p:nvPr/>
        </p:nvPicPr>
        <p:blipFill>
          <a:blip r:embed="rId3"/>
          <a:stretch/>
        </p:blipFill>
        <p:spPr>
          <a:xfrm>
            <a:off x="5715000" y="485784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5" descr="0_1070e9_333788c5_orig.png"/>
          <p:cNvPicPr/>
          <p:nvPr/>
        </p:nvPicPr>
        <p:blipFill>
          <a:blip r:embed="rId4"/>
          <a:stretch/>
        </p:blipFill>
        <p:spPr>
          <a:xfrm>
            <a:off x="4714920" y="4357800"/>
            <a:ext cx="1643040" cy="18619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8" descr="0040-074-Zdes-deti-ostavljajut-svoi-zapiski-o-tom-chto-oni-byli-v-rezidentsii.png"/>
          <p:cNvPicPr/>
          <p:nvPr/>
        </p:nvPicPr>
        <p:blipFill>
          <a:blip r:embed="rId5"/>
          <a:stretch/>
        </p:blipFill>
        <p:spPr>
          <a:xfrm>
            <a:off x="4929120" y="1000080"/>
            <a:ext cx="15541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3066120" y="5516640"/>
            <a:ext cx="572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Учебник с.95 №5,6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95280" y="62420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Рисунок 4" descr="0040-074-Zdes-deti-ostavljajut-svoi-zapiski-o-tom-chto-oni-byli-v-rezidentsii.png"/>
          <p:cNvPicPr/>
          <p:nvPr/>
        </p:nvPicPr>
        <p:blipFill>
          <a:blip r:embed="rId1"/>
          <a:stretch/>
        </p:blipFill>
        <p:spPr>
          <a:xfrm>
            <a:off x="0" y="1000080"/>
            <a:ext cx="38005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7028_d"/>
          <p:cNvPicPr/>
          <p:nvPr/>
        </p:nvPicPr>
        <p:blipFill>
          <a:blip r:embed="rId1"/>
          <a:stretch/>
        </p:blipFill>
        <p:spPr>
          <a:xfrm>
            <a:off x="1476360" y="-171360"/>
            <a:ext cx="5904000" cy="6913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blogentry-14-1197334868"/>
          <p:cNvPicPr/>
          <p:nvPr/>
        </p:nvPicPr>
        <p:blipFill>
          <a:blip r:embed="rId2"/>
          <a:stretch/>
        </p:blipFill>
        <p:spPr>
          <a:xfrm rot="817800">
            <a:off x="2669760" y="2857680"/>
            <a:ext cx="1084320" cy="1474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1321_3"/>
          <p:cNvPicPr/>
          <p:nvPr/>
        </p:nvPicPr>
        <p:blipFill>
          <a:blip r:embed="rId3">
            <a:lum bright="-6000"/>
          </a:blip>
          <a:stretch/>
        </p:blipFill>
        <p:spPr>
          <a:xfrm rot="1995600">
            <a:off x="4932000" y="328464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18"/>
          <p:cNvPicPr/>
          <p:nvPr/>
        </p:nvPicPr>
        <p:blipFill>
          <a:blip r:embed="rId4"/>
          <a:stretch/>
        </p:blipFill>
        <p:spPr>
          <a:xfrm>
            <a:off x="4788000" y="1628640"/>
            <a:ext cx="958680" cy="1225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DSC02756"/>
          <p:cNvPicPr/>
          <p:nvPr/>
        </p:nvPicPr>
        <p:blipFill>
          <a:blip r:embed="rId5"/>
          <a:stretch/>
        </p:blipFill>
        <p:spPr>
          <a:xfrm>
            <a:off x="3624120" y="1413000"/>
            <a:ext cx="962280" cy="1147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ball_s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3851280" y="2852640"/>
            <a:ext cx="1096920" cy="1284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DSC02756"/>
          <p:cNvPicPr/>
          <p:nvPr/>
        </p:nvPicPr>
        <p:blipFill>
          <a:blip r:embed="rId7"/>
          <a:stretch/>
        </p:blipFill>
        <p:spPr>
          <a:xfrm rot="1043400">
            <a:off x="3131640" y="4581360"/>
            <a:ext cx="1263960" cy="1506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18"/>
          <p:cNvPicPr/>
          <p:nvPr/>
        </p:nvPicPr>
        <p:blipFill>
          <a:blip r:embed="rId8"/>
          <a:stretch/>
        </p:blipFill>
        <p:spPr>
          <a:xfrm rot="2536800">
            <a:off x="4858920" y="4581360"/>
            <a:ext cx="1376280" cy="1684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blogentry-14-1197334868"/>
          <p:cNvPicPr/>
          <p:nvPr/>
        </p:nvPicPr>
        <p:blipFill>
          <a:blip r:embed="rId9"/>
          <a:stretch/>
        </p:blipFill>
        <p:spPr>
          <a:xfrm rot="739800">
            <a:off x="4284360" y="260280"/>
            <a:ext cx="712800" cy="970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1"/>
          <p:cNvSpPr/>
          <p:nvPr/>
        </p:nvSpPr>
        <p:spPr>
          <a:xfrm>
            <a:off x="4788000" y="189000"/>
            <a:ext cx="33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2" descr="d3365a70f643"/>
          <p:cNvPicPr/>
          <p:nvPr/>
        </p:nvPicPr>
        <p:blipFill>
          <a:blip r:embed="rId10">
            <a:lum bright="18000"/>
          </a:blip>
          <a:stretch/>
        </p:blipFill>
        <p:spPr>
          <a:xfrm>
            <a:off x="6372360" y="260280"/>
            <a:ext cx="936360" cy="865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d3365a70f643"/>
          <p:cNvPicPr/>
          <p:nvPr/>
        </p:nvPicPr>
        <p:blipFill>
          <a:blip r:embed="rId11">
            <a:lum bright="18000"/>
          </a:blip>
          <a:stretch/>
        </p:blipFill>
        <p:spPr>
          <a:xfrm>
            <a:off x="539640" y="4005360"/>
            <a:ext cx="936720" cy="865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d3365a70f643"/>
          <p:cNvPicPr/>
          <p:nvPr/>
        </p:nvPicPr>
        <p:blipFill>
          <a:blip r:embed="rId12">
            <a:lum bright="18000"/>
          </a:blip>
          <a:stretch/>
        </p:blipFill>
        <p:spPr>
          <a:xfrm>
            <a:off x="7236000" y="2781360"/>
            <a:ext cx="1223640" cy="1111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d3365a70f643"/>
          <p:cNvPicPr/>
          <p:nvPr/>
        </p:nvPicPr>
        <p:blipFill>
          <a:blip r:embed="rId13">
            <a:lum bright="18000"/>
          </a:blip>
          <a:stretch/>
        </p:blipFill>
        <p:spPr>
          <a:xfrm>
            <a:off x="1042920" y="836640"/>
            <a:ext cx="1297080" cy="1152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d3365a70f643"/>
          <p:cNvPicPr/>
          <p:nvPr/>
        </p:nvPicPr>
        <p:blipFill>
          <a:blip r:embed="rId14">
            <a:lum bright="18000"/>
          </a:blip>
          <a:stretch/>
        </p:blipFill>
        <p:spPr>
          <a:xfrm>
            <a:off x="7524720" y="5445000"/>
            <a:ext cx="934920" cy="865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15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000"/>
                            </p:stCondLst>
                            <p:childTnLst>
                              <p:par>
                                <p:cTn id="27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000"/>
                            </p:stCondLst>
                            <p:childTnLst>
                              <p:par>
                                <p:cTn id="28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8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6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0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4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28 -0.17546 C 0.02865 -0.17546 0.08472 -0.10069 0.08472 -0.00879 C 0.08472 0.08311 0.02865 0.15787 -0.04028 0.15787 C -0.1092 0.15787 -0.16528 0.08311 -0.16528 -0.00879 C -0.16528 -0.10069 -0.1092 -0.17546 -0.04028 -0.17546 Z">
                                      <p:cBhvr>
                                        <p:cTn id="305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8000"/>
                            </p:stCondLst>
                            <p:childTnLst>
                              <p:par>
                                <p:cTn id="307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75 -0.11713 C 0.08767 -0.11713 0.14375 -0.04236 0.14375 0.04954 C 0.14375 0.14144 0.08767 0.21621 0.01875 0.21621 C -0.05018 0.21621 -0.10625 0.14144 -0.10625 0.04954 C -0.10625 -0.04236 -0.05018 -0.11713 0.01875 -0.11713 Z">
                                      <p:cBhvr>
                                        <p:cTn id="308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4000"/>
                            </p:stCondLst>
                            <p:childTnLst>
                              <p:par>
                                <p:cTn id="310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8000"/>
                            </p:stCondLst>
                            <p:childTnLst>
                              <p:par>
                                <p:cTn id="314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2000"/>
                            </p:stCondLst>
                            <p:childTnLst>
                              <p:par>
                                <p:cTn id="318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ree"/>
          <p:cNvSpPr/>
          <p:nvPr/>
        </p:nvSpPr>
        <p:spPr>
          <a:xfrm>
            <a:off x="2340000" y="836640"/>
            <a:ext cx="4103640" cy="51832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468360" y="476280"/>
            <a:ext cx="914400" cy="91440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1547640" y="1052640"/>
            <a:ext cx="914400" cy="91440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539640" y="2133720"/>
            <a:ext cx="914400" cy="91440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2268360" y="1844640"/>
            <a:ext cx="914400" cy="91440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1835280" y="3141720"/>
            <a:ext cx="914400" cy="91440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1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0"/>
          <p:cNvSpPr/>
          <p:nvPr/>
        </p:nvSpPr>
        <p:spPr>
          <a:xfrm>
            <a:off x="250920" y="3429000"/>
            <a:ext cx="914400" cy="91440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11"/>
          <p:cNvSpPr/>
          <p:nvPr/>
        </p:nvSpPr>
        <p:spPr>
          <a:xfrm>
            <a:off x="1332000" y="4653000"/>
            <a:ext cx="914400" cy="91440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2"/>
          <p:cNvSpPr/>
          <p:nvPr/>
        </p:nvSpPr>
        <p:spPr>
          <a:xfrm>
            <a:off x="250920" y="5300640"/>
            <a:ext cx="914400" cy="91440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3"/>
          <p:cNvSpPr/>
          <p:nvPr/>
        </p:nvSpPr>
        <p:spPr>
          <a:xfrm>
            <a:off x="2987640" y="189000"/>
            <a:ext cx="914400" cy="91440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7956720" y="5589720"/>
            <a:ext cx="914400" cy="91440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5"/>
          <p:cNvSpPr/>
          <p:nvPr/>
        </p:nvSpPr>
        <p:spPr>
          <a:xfrm>
            <a:off x="6732720" y="5300640"/>
            <a:ext cx="914400" cy="91440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16"/>
          <p:cNvSpPr/>
          <p:nvPr/>
        </p:nvSpPr>
        <p:spPr>
          <a:xfrm>
            <a:off x="7524720" y="4292640"/>
            <a:ext cx="914400" cy="91440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6084720" y="3860640"/>
            <a:ext cx="914400" cy="91440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7956720" y="2852640"/>
            <a:ext cx="914400" cy="91440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19"/>
          <p:cNvSpPr/>
          <p:nvPr/>
        </p:nvSpPr>
        <p:spPr>
          <a:xfrm>
            <a:off x="6659640" y="2852640"/>
            <a:ext cx="914400" cy="91440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0"/>
          <p:cNvSpPr/>
          <p:nvPr/>
        </p:nvSpPr>
        <p:spPr>
          <a:xfrm>
            <a:off x="7524720" y="1484280"/>
            <a:ext cx="914400" cy="91440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21"/>
          <p:cNvSpPr/>
          <p:nvPr/>
        </p:nvSpPr>
        <p:spPr>
          <a:xfrm>
            <a:off x="7667640" y="404640"/>
            <a:ext cx="914400" cy="91440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22"/>
          <p:cNvSpPr/>
          <p:nvPr/>
        </p:nvSpPr>
        <p:spPr>
          <a:xfrm>
            <a:off x="5651640" y="1700280"/>
            <a:ext cx="914400" cy="91440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23"/>
          <p:cNvSpPr/>
          <p:nvPr/>
        </p:nvSpPr>
        <p:spPr>
          <a:xfrm>
            <a:off x="6588000" y="836640"/>
            <a:ext cx="914400" cy="91440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Tahoma"/>
              </a:rPr>
              <a:t>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3"/>
          <p:cNvSpPr/>
          <p:nvPr/>
        </p:nvSpPr>
        <p:spPr>
          <a:xfrm>
            <a:off x="1116000" y="631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-0.0037 L 0.08663 0.06292 E">
                                      <p:cBhvr>
                                        <p:cTn id="32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3449E-006 L 0.38298 0.12237 E">
                                      <p:cBhvr>
                                        <p:cTn id="331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474E-007 L 0.18108 0.05227 E">
                                      <p:cBhvr>
                                        <p:cTn id="336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8.86653E-006 L 0.35452 -0.04211 E">
                                      <p:cBhvr>
                                        <p:cTn id="341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77909E-006 L 0.13108 0.08026 E">
                                      <p:cBhvr>
                                        <p:cTn id="346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42124E-006 L 0.40677 -0.05621 E">
                                      <p:cBhvr>
                                        <p:cTn id="351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97409E-006 L 0.14167 -0.01064 E">
                                      <p:cBhvr>
                                        <p:cTn id="35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79042E-006 L 0.1941 -0.06662 E">
                                      <p:cBhvr>
                                        <p:cTn id="361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6.93963E-007 L 0.24931 -0.08744 E">
                                      <p:cBhvr>
                                        <p:cTn id="366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33009E-006 L -0.36215 0.17834 E">
                                      <p:cBhvr>
                                        <p:cTn id="371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8.50104E-006 L -0.25191 0.02105 E">
                                      <p:cBhvr>
                                        <p:cTn id="37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9.62526E-006 L -0.16546 0.04186 E">
                                      <p:cBhvr>
                                        <p:cTn id="38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08721E-006 L -0.45955 -0.14018 E">
                                      <p:cBhvr>
                                        <p:cTn id="38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6.93963E-007 L -0.16024 -0.09808 E">
                                      <p:cBhvr>
                                        <p:cTn id="391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13347E-006 L -0.30712 -0.02082 E">
                                      <p:cBhvr>
                                        <p:cTn id="396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69026E-006 L -0.25486 0.02776 E">
                                      <p:cBhvr>
                                        <p:cTn id="40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95559E-006 L -0.41233 0.11173 E">
                                      <p:cBhvr>
                                        <p:cTn id="406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5.71362E-007 L -0.19688 0.03146 E">
                                      <p:cBhvr>
                                        <p:cTn id="411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61022E-006 L -0.34931 0.16423 E">
                                      <p:cBhvr>
                                        <p:cTn id="41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2"/>
          <p:cNvSpPr/>
          <p:nvPr/>
        </p:nvSpPr>
        <p:spPr>
          <a:xfrm>
            <a:off x="285840" y="1285920"/>
            <a:ext cx="864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214200" y="1143000"/>
            <a:ext cx="8715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спользуемые источни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ccff"/>
                </a:solidFill>
                <a:uFillTx/>
                <a:latin typeface="Arial"/>
                <a:hlinkClick r:id="rId1"/>
              </a:rPr>
              <a:t>http://yadi.sk/d/tsaS9oNIDaKK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ccff"/>
                </a:solidFill>
                <a:uFillTx/>
                <a:latin typeface="Arial"/>
                <a:hlinkClick r:id="rId2"/>
              </a:rPr>
              <a:t>http://img-fotki.yandex.ru/get/4122/47407354.97a/0_1070e9_333788c5_orig.p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ccff"/>
                </a:solidFill>
                <a:uFillTx/>
                <a:latin typeface="Arial"/>
                <a:hlinkClick r:id="rId3"/>
              </a:rPr>
              <a:t>http://wiki.iteach.ru/images/thumb/9/92/34e0fcfc926at.jpg/300px-34e0fcfc926at.jp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ccff"/>
                </a:solidFill>
                <a:uFillTx/>
                <a:latin typeface="Arial"/>
                <a:hlinkClick r:id="rId4"/>
              </a:rPr>
              <a:t>http://prazdni.com/wp-content/uploads/2009/11/</a:t>
            </a:r>
            <a:r>
              <a:rPr b="1" lang="ru-RU" sz="1800" spc="-1" strike="noStrike">
                <a:solidFill>
                  <a:srgbClr val="203f61"/>
                </a:solidFill>
                <a:latin typeface="Arial"/>
              </a:rPr>
              <a:t>детские-новогодние-рамки-для-фотошопа</a:t>
            </a:r>
            <a:r>
              <a:rPr b="1" lang="en-US" sz="1800" spc="-1" strike="noStrike">
                <a:solidFill>
                  <a:srgbClr val="203f61"/>
                </a:solidFill>
                <a:latin typeface="Arial"/>
              </a:rPr>
              <a:t>Image_013.p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3f61"/>
                </a:solidFill>
                <a:latin typeface="Arial"/>
              </a:rPr>
              <a:t>http://900igr.net/datai/prazdniki/Ded-Moroz/0040-074-Zdes-deti-ostavljajut-svoi-zapiski-o-tom-chto-oni-byli-v-rezidentsii.p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Карта путешествий – рисунок автора работы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4070880" y="2357280"/>
            <a:ext cx="464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 окном сугробы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среди двор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Лепит бабу снежну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Дружно детвор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начит, скоро буде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Новый год встречать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Будем верить в чуд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И подарков ждать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39640" y="63086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Рисунок 3" descr="542e7c760741.jpg"/>
          <p:cNvPicPr/>
          <p:nvPr/>
        </p:nvPicPr>
        <p:blipFill>
          <a:blip r:embed="rId1"/>
          <a:stretch/>
        </p:blipFill>
        <p:spPr>
          <a:xfrm>
            <a:off x="857160" y="1714680"/>
            <a:ext cx="29908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SDC107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395280" y="631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971640" y="836640"/>
            <a:ext cx="4537080" cy="180036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11280" y="3357720"/>
            <a:ext cx="1584360" cy="23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780000" y="4149720"/>
            <a:ext cx="12967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val 8"/>
          <p:cNvSpPr/>
          <p:nvPr/>
        </p:nvSpPr>
        <p:spPr>
          <a:xfrm>
            <a:off x="6227640" y="1484280"/>
            <a:ext cx="1657440" cy="151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val 12"/>
          <p:cNvSpPr/>
          <p:nvPr/>
        </p:nvSpPr>
        <p:spPr>
          <a:xfrm>
            <a:off x="6372360" y="3573360"/>
            <a:ext cx="1657080" cy="151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684360" y="62420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4">
            <a:hlinkClick r:id="" action="ppaction://hlinkshowjump?jump=nextslide"/>
          </p:cNvPr>
          <p:cNvSpPr/>
          <p:nvPr/>
        </p:nvSpPr>
        <p:spPr>
          <a:xfrm>
            <a:off x="845964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5">
            <a:hlinkClick r:id="rId1" action="ppaction://hlinksldjump"/>
          </p:cNvPr>
          <p:cNvSpPr/>
          <p:nvPr/>
        </p:nvSpPr>
        <p:spPr>
          <a:xfrm>
            <a:off x="766764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067280" y="4076640"/>
            <a:ext cx="4537080" cy="180036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826920" y="692280"/>
            <a:ext cx="1584360" cy="23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708360" y="1125360"/>
            <a:ext cx="129708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6227640" y="1484280"/>
            <a:ext cx="1657440" cy="151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1258920" y="4076640"/>
            <a:ext cx="1657440" cy="151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250920" y="6384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9">
            <a:hlinkClick r:id="rId1" action="ppaction://hlinksldjump"/>
          </p:cNvPr>
          <p:cNvSpPr/>
          <p:nvPr/>
        </p:nvSpPr>
        <p:spPr>
          <a:xfrm>
            <a:off x="17928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411280" y="1773360"/>
            <a:ext cx="4537080" cy="1800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39640" y="1052640"/>
            <a:ext cx="1871640" cy="2519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755640" y="1700280"/>
            <a:ext cx="129708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4643280" y="3573360"/>
            <a:ext cx="1657440" cy="151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826920" y="3573360"/>
            <a:ext cx="1657440" cy="151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50920" y="6313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/>
          <p:cNvSpPr/>
          <p:nvPr/>
        </p:nvSpPr>
        <p:spPr>
          <a:xfrm rot="10800000">
            <a:off x="539640" y="333360"/>
            <a:ext cx="121464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 rot="10800000">
            <a:off x="6659280" y="333360"/>
            <a:ext cx="121428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6937560" y="4762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Tahoma"/>
              </a:rPr>
              <a:t>1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895320" y="404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Tahoma"/>
              </a:rPr>
              <a:t>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12"/>
          <p:cNvSpPr/>
          <p:nvPr/>
        </p:nvSpPr>
        <p:spPr>
          <a:xfrm>
            <a:off x="4211640" y="35002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Tahoma"/>
              </a:rPr>
              <a:t>8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13"/>
          <p:cNvSpPr/>
          <p:nvPr/>
        </p:nvSpPr>
        <p:spPr>
          <a:xfrm>
            <a:off x="1835280" y="134136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Tahoma"/>
              </a:rPr>
              <a:t>7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14"/>
          <p:cNvSpPr/>
          <p:nvPr/>
        </p:nvSpPr>
        <p:spPr>
          <a:xfrm>
            <a:off x="4356000" y="1413000"/>
            <a:ext cx="1584360" cy="15620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Tahoma"/>
              </a:rPr>
              <a:t>6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17"/>
          <p:cNvSpPr/>
          <p:nvPr/>
        </p:nvSpPr>
        <p:spPr>
          <a:xfrm>
            <a:off x="539640" y="3357720"/>
            <a:ext cx="1584360" cy="15620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Tahoma"/>
              </a:rPr>
              <a:t>7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19"/>
          <p:cNvSpPr/>
          <p:nvPr/>
        </p:nvSpPr>
        <p:spPr>
          <a:xfrm>
            <a:off x="2340000" y="4508640"/>
            <a:ext cx="2232000" cy="1993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cc"/>
                </a:solidFill>
                <a:latin typeface="Tahoma"/>
              </a:rPr>
              <a:t>10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Oval 20"/>
          <p:cNvSpPr/>
          <p:nvPr/>
        </p:nvSpPr>
        <p:spPr>
          <a:xfrm>
            <a:off x="6300720" y="4149720"/>
            <a:ext cx="2232000" cy="19940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Tahoma"/>
              </a:rPr>
              <a:t>9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395280" y="62420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7"/>
          <p:cNvSpPr/>
          <p:nvPr/>
        </p:nvSpPr>
        <p:spPr>
          <a:xfrm>
            <a:off x="3924360" y="14842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Tahoma"/>
              </a:rPr>
              <a:t>7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 rot="10800000">
            <a:off x="3779640" y="692280"/>
            <a:ext cx="121428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056120" y="6922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Tahoma"/>
              </a:rPr>
              <a:t>1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3635280" y="2421000"/>
            <a:ext cx="1584360" cy="1584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Tahoma"/>
              </a:rPr>
              <a:t>6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3348000" y="4005360"/>
            <a:ext cx="2232000" cy="19936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Tahoma"/>
              </a:rPr>
              <a:t>9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324000" y="6168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7803_1"/>
          <p:cNvPicPr/>
          <p:nvPr/>
        </p:nvPicPr>
        <p:blipFill>
          <a:blip r:embed="rId1"/>
          <a:stretch/>
        </p:blipFill>
        <p:spPr>
          <a:xfrm>
            <a:off x="7380360" y="189000"/>
            <a:ext cx="2376360" cy="1589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47631big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-973080" y="4076640"/>
            <a:ext cx="2520720" cy="1690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motor_max_250_0025"/>
          <p:cNvPicPr/>
          <p:nvPr/>
        </p:nvPicPr>
        <p:blipFill>
          <a:blip r:embed="rId3">
            <a:lum bright="-12000"/>
          </a:blip>
          <a:stretch/>
        </p:blipFill>
        <p:spPr>
          <a:xfrm rot="375600">
            <a:off x="5148000" y="4508640"/>
            <a:ext cx="3809880" cy="165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ZP3199"/>
          <p:cNvPicPr/>
          <p:nvPr/>
        </p:nvPicPr>
        <p:blipFill>
          <a:blip r:embed="rId4"/>
          <a:stretch/>
        </p:blipFill>
        <p:spPr>
          <a:xfrm>
            <a:off x="324000" y="260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ZP3299"/>
          <p:cNvPicPr/>
          <p:nvPr/>
        </p:nvPicPr>
        <p:blipFill>
          <a:blip r:embed="rId5"/>
          <a:stretch/>
        </p:blipFill>
        <p:spPr>
          <a:xfrm>
            <a:off x="-684360" y="1700280"/>
            <a:ext cx="2922840" cy="2427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3780000" y="692280"/>
            <a:ext cx="1152360" cy="3168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284720" y="3860640"/>
            <a:ext cx="142920" cy="505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9"/>
          <p:cNvSpPr/>
          <p:nvPr/>
        </p:nvSpPr>
        <p:spPr>
          <a:xfrm>
            <a:off x="3851280" y="765000"/>
            <a:ext cx="1008000" cy="1008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3851280" y="1773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1"/>
          <p:cNvSpPr/>
          <p:nvPr/>
        </p:nvSpPr>
        <p:spPr>
          <a:xfrm>
            <a:off x="3851280" y="2781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1.09462 0.66157 E">
                                      <p:cBhvr>
                                        <p:cTn id="84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625 0.06852 L -1.00364 0.0581 E">
                                      <p:cBhvr>
                                        <p:cTn id="90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7 -0.02129 L -1.08264 0.26227 E">
                                      <p:cBhvr>
                                        <p:cTn id="96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1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4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0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493 0.09629 L 1.30503 0.24329 E">
                                      <p:cBhvr>
                                        <p:cTn id="138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1 -0.00069 L 1.48837 0.02107 E">
                                      <p:cBhvr>
                                        <p:cTn id="144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5:50:54Z</dcterms:created>
  <dc:creator>Admin</dc:creator>
  <dc:description/>
  <dc:language>en-US</dc:language>
  <cp:lastModifiedBy>Домашний</cp:lastModifiedBy>
  <dcterms:modified xsi:type="dcterms:W3CDTF">2014-04-21T14:33:11Z</dcterms:modified>
  <cp:revision>27</cp:revision>
  <dc:subject/>
  <dc:title>Слайд 1</dc:title>
</cp:coreProperties>
</file>