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52.jpeg" ContentType="image/jpeg"/>
  <Override PartName="/ppt/media/image53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82C-61E3-46C5-B217-95A4294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176-22D9-4A02-A1F0-B9F361E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7F514-42C0-4830-8DBC-129827DA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3B217-4B30-469E-B7CE-82DBA217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016D-EAB3-4163-B0F3-60B0E6E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5FDFD-5CF0-484B-81E5-06DF60E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942A3-5840-4ACB-8FD5-0E43AAC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974A-F4C6-484F-B7B5-07ADA3C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CFC1F-EE85-434A-8DEE-92DB2D9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07965-4648-4A9F-A9B7-A660DD0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6AF6-1FE7-497B-B005-1255C1B4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8A5-B98D-4FAD-86EF-71CC4738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57B-F27A-4512-8F4D-571380DF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55F4-C8BD-4817-9D3C-3A9E0F64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D0C5-1E74-414F-AE8C-9DAC3A3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CD34-3CB0-4E1A-81C7-561BB5A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8B6D-1E23-4013-96FA-901CC05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ADF-6E19-4096-AD53-C96F0A4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30A1-E78E-4721-BD3C-76864443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F41-F772-429C-9DDE-7DAD6D5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A4C-0AC9-4BC6-8B0E-03BEBC0C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813-3551-42FC-9E22-FA0D80D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6B2B-D3D4-4CF6-9C02-76850C6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9FC-89A2-4887-9D5C-81119717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0CC-D3B1-435E-AFED-E47AA1D3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0C04-26D8-41C4-8986-7EC1525C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2F1C-0D1C-4C0A-9802-234DDC8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8CAE-DBCA-4AE7-B67C-A1DF165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0468-B394-48AE-A7BC-79770FA6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C894-9BB0-4567-99EB-2CF906D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536E-6D11-477A-A8AC-783A8B8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032-947F-4F62-9FD5-98412311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FC61-5158-4ADC-9E75-93CBDB2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9D61-585B-4CDC-886F-6C71C03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2EDE-FB6B-4D0C-AACB-16F836A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0AB7-641B-406C-9AE4-42D8678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7695-AAF4-49D2-A190-27CF4C9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8D89-D000-4387-9CD8-9C32135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EA2B-731E-438A-8C8F-845A0979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B2B0-D9C9-40A7-BC25-D9D5576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590F-E8EC-4503-B582-598CE84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8F09-7169-4B41-A177-59D098B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BC8-6F44-427B-9296-4FCAE2F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8D5C-B152-4F5B-8D21-26AF1C6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6E2D-7EA6-455B-A221-4DC6DB86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50CA-CE6E-4D19-ACAF-2A25B6B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9CC6-9298-438E-A32F-5DCFC3C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C027-7050-42C5-BD0E-470FA68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8F0D-EE1C-48EC-A452-B9E3AD6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F594-50CB-4AD3-90EF-E03E710B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3EBE-4A76-4B1C-8453-37A42B85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3EA9-74E7-4419-A738-1D0CC271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D38D-200B-400D-B2EA-889D7411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DC8-4847-44D3-87B6-E2E7A1D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0CA7-DE8B-4532-AB10-F3F3683F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9699-AACF-4469-87B0-8EC5F72C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3441-244F-450C-88F7-3EC291B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5E40-C532-45A1-A3F7-EA2FEC3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08B8-E5ED-4846-BFD6-CADDCDD0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70A0-05F0-4A54-9B86-22AFAB9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94A6-3AB2-4956-84AB-EA7EEB8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CE6B-A093-498A-B81F-0BF6F0B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42BDA-A852-427A-B205-D35DBD50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E331-A430-4AF2-B860-E98A7D20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B99-2B00-456A-AFF2-F80103F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8E84-C754-4E4A-AA27-9D3559C3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B5B1F-3828-42E9-B239-B7D5E8A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715D-B458-44B6-97B8-FD5F4EFE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F3A2-88C1-48FE-9C31-88559582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6A0D-A626-4E2B-A4E2-A552CD2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2362-182C-406B-A030-7EF6C40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585D-98E5-4FC9-A31A-07FA03C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5B09-2231-4C6D-8CB2-833F660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C1CE-C60C-4A21-85A4-A5ACBAB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6D45-DAF6-4BC6-9AD4-AB3A9F3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0D6-34D9-4AF5-AA74-89E1FA3F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6F0B-7D65-454F-9B36-91ADD02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8735-B027-4B77-8ECA-6407EE4C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C6D5-10C3-4F02-BBCE-5CD44C64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5A818-DAAE-4D9C-A85B-47AA87B1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3F21-573B-4159-8195-BF81B59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102A-A69F-4980-9BD9-B86B545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1031-511F-4E1E-8B54-E0137CD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81C1-B5EF-4B76-83EA-558A9FAB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4688-AB3B-4EDC-B7BB-1AA0829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60F4-E118-4E0C-967A-7E22B25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131-6C84-4CE6-ACE7-28E2295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1384-1A26-4475-BD09-C9C4417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1A6B-E7D3-4B3E-BE23-422B80A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3246-86EF-4411-BF10-78DA32D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322B-F1AA-4416-ADD4-51BF3AD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A3956-2F04-415A-8E82-1495BC4C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FC0A-C40C-41F7-93C8-64D31C34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0DC26-8112-4C7D-8AC0-19D372B8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99FF-55B7-4DF1-99C5-925E32D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3490-BF63-4606-B8AD-D92A9C6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B46E-D934-4288-90B4-7979822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09A-CC8E-4D89-BAFD-D8D43E9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8A366-9CD8-44F2-9AC4-BDDBB4CC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0545-1257-4CA7-A5D2-A9ED10D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09F9C-AE6A-4DC3-BD0E-ECD72B0A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743F-8347-4A19-BBDE-B83F89C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707B2-7433-417B-97CA-B69DCAA8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E7457-8390-4C09-91E6-48C8E704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CEB4-3ED1-41E3-8E0D-56A81818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5F53-39FE-4E54-86B0-9C5BFD02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2FA7B-2938-4F7F-AB1D-82BF20F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82810-79E1-4285-A146-D9839716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91B-B3AD-4963-87AB-0BD5CE3E5A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F09-5985-438C-B1E8-AA16510FA9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4D4-547E-41EE-ABB1-E17F3EA5FF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403-4CF0-46FA-96FD-CDC609C4C3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D67-9A6C-45CC-AE2E-47580B5768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37E-4693-49E5-9988-0C649BF7E4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FC9F-B726-46A4-ADF9-4494821CD1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70C-D258-4F3A-AE61-9027C358C6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3F5D-2F39-4513-AC68-58EBB400BC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4.png"/><Relationship Id="rId35" Type="http://schemas.openxmlformats.org/officeDocument/2006/relationships/image" Target="../media/image45.png"/><Relationship Id="rId36" Type="http://schemas.openxmlformats.org/officeDocument/2006/relationships/image" Target="../media/image46.png"/><Relationship Id="rId37" Type="http://schemas.openxmlformats.org/officeDocument/2006/relationships/image" Target="../media/image47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3"/>
          <p:cNvSpPr/>
          <p:nvPr/>
        </p:nvSpPr>
        <p:spPr>
          <a:xfrm flipH="1" rot="876600">
            <a:off x="3202560" y="1773000"/>
            <a:ext cx="2055600" cy="2092320"/>
          </a:xfrm>
          <a:custGeom>
            <a:avLst/>
            <a:gdLst>
              <a:gd name="textAreaLeft" fmla="*/ 360 w 2055600"/>
              <a:gd name="textAreaRight" fmla="*/ 2056320 w 2055600"/>
              <a:gd name="textAreaTop" fmla="*/ 0 h 2092320"/>
              <a:gd name="textAreaBottom" fmla="*/ 2092680 h 2092320"/>
            </a:gdLst>
            <a:ahLst/>
            <a:rect l="textAreaLeft" t="textAreaTop" r="textAreaRight" b="textAreaBottom"/>
            <a:pathLst>
              <a:path fill="none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</a:path>
              <a:path stroke="0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  <a:lnTo>
                  <a:pt x="21600" y="21600"/>
                </a:lnTo>
                <a:lnTo>
                  <a:pt x="19695" y="431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4"/>
          <p:cNvSpPr/>
          <p:nvPr/>
        </p:nvSpPr>
        <p:spPr>
          <a:xfrm>
            <a:off x="2843280" y="3860640"/>
            <a:ext cx="2438280" cy="259092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</a:path>
              <a:path stroke="0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  <a:lnTo>
                  <a:pt x="19611" y="21600"/>
                </a:lnTo>
                <a:lnTo>
                  <a:pt x="19612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404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2745720" y="2602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Franklin Gothic Book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6" dur="5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C:\Documents and Settings\ксюша.63362A0E05424E8\Рабочий стол\коробки\4i.jpeg"/>
          <p:cNvPicPr/>
          <p:nvPr/>
        </p:nvPicPr>
        <p:blipFill>
          <a:blip r:embed="rId1"/>
          <a:stretch/>
        </p:blipFill>
        <p:spPr>
          <a:xfrm>
            <a:off x="3564000" y="333360"/>
            <a:ext cx="4762440" cy="5668920"/>
          </a:xfrm>
          <a:prstGeom prst="rect">
            <a:avLst/>
          </a:prstGeom>
          <a:ln w="0">
            <a:noFill/>
          </a:ln>
        </p:spPr>
      </p:pic>
      <p:pic>
        <p:nvPicPr>
          <p:cNvPr id="505" name="бармалей.wma" descr=""/>
          <p:cNvPicPr/>
          <p:nvPr/>
        </p:nvPicPr>
        <p:blipFill>
          <a:blip r:embed="rId2"/>
          <a:stretch/>
        </p:blipFill>
        <p:spPr>
          <a:xfrm>
            <a:off x="611280" y="5805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272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Загнутый угол 6"/>
          <p:cNvSpPr/>
          <p:nvPr/>
        </p:nvSpPr>
        <p:spPr>
          <a:xfrm>
            <a:off x="1116000" y="3500280"/>
            <a:ext cx="3168720" cy="2926080"/>
          </a:xfrm>
          <a:prstGeom prst="foldedCorner">
            <a:avLst>
              <a:gd name="adj" fmla="val 166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Book"/>
              </a:rPr>
              <a:t>4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Book"/>
              </a:rPr>
              <a:t>Решите задачу  на странице 48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C:\Documents and Settings\ксюша.63362A0E05424E8\Рабочий стол\коробки\11i.jpeg"/>
          <p:cNvPicPr/>
          <p:nvPr/>
        </p:nvPicPr>
        <p:blipFill>
          <a:blip r:embed="rId1"/>
          <a:stretch/>
        </p:blipFill>
        <p:spPr>
          <a:xfrm>
            <a:off x="-396720" y="2133720"/>
            <a:ext cx="6192720" cy="52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0.06505 C 0.08455 0.08796 0.07049 0.11296 0.06736 0.12963 C 0.06424 0.14699 0.06632 0.16296 0.06893 0.17639 C 0.07066 0.1919 0.08004 0.19653 0.08976 0.20208 C 0.09948 0.20695 0.11077 0.21042 0.12986 0.20463 C 0.1474 0.19954 0.17066 0.18519 0.19618 0.16736 C 0.21893 0.15139 0.24497 0.1294 0.26997 0.10602 C 0.29514 0.0831 0.31893 0.0581 0.33976 0.0331 C 0.36337 0.00602 0.38299 -0.0206 0.39757 -0.04606 C 0.41198 -0.07153 0.42379 -0.09491 0.42657 -0.1125 C 0.43195 -0.13079 0.429 -0.14606 0.42448 -0.15555 C 0.42118 -0.16643 0.41285 -0.17569 0.3974 -0.17407 C 0.38299 -0.17199 0.36025 -0.15926 0.3349 -0.13727 C 0.30868 -0.11412 0.28663 -0.08634 0.27361 -0.06342 C 0.26268 -0.04398 0.25816 -0.02315 0.2625 -0.01134 C 0.26823 -0.00069 0.27639 0.00648 0.29132 0.00417 C 0.30591 0.00232 0.30521 0.00579 0.35157 -0.02546 C 0.39445 -0.05069 0.42917 -0.09213 0.45122 -0.11342 C 0.47275 -0.13704 0.48941 -0.15972 0.50955 -0.18611 C 0.53177 -0.21458 0.54757 -0.24259 0.55799 -0.26435 C 0.56788 -0.28542 0.56893 -0.29954 0.56945 -0.3206 C 0.56806 -0.34028 0.56337 -0.3463 0.55851 -0.35671 C 0.55278 -0.36667 0.54636 -0.37708 0.5408 -0.38657 E">
                                      <p:cBhvr>
                                        <p:cTn id="107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Загнутый угол 6"/>
          <p:cNvSpPr/>
          <p:nvPr/>
        </p:nvSpPr>
        <p:spPr>
          <a:xfrm>
            <a:off x="1116000" y="3500280"/>
            <a:ext cx="3168720" cy="2926080"/>
          </a:xfrm>
          <a:prstGeom prst="foldedCorner">
            <a:avLst>
              <a:gd name="adj" fmla="val 166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Book"/>
              </a:rPr>
              <a:t>5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Book"/>
              </a:rPr>
              <a:t>Выбери и напиши в одну строчку однозначные числа в другую строчку двухзнач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C:\Documents and Settings\ксюша.63362A0E05424E8\Рабочий стол\коробки\11i.jpeg"/>
          <p:cNvPicPr/>
          <p:nvPr/>
        </p:nvPicPr>
        <p:blipFill>
          <a:blip r:embed="rId1"/>
          <a:stretch/>
        </p:blipFill>
        <p:spPr>
          <a:xfrm>
            <a:off x="-468360" y="2133720"/>
            <a:ext cx="6192720" cy="52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0.06505 C 0.08455 0.08796 0.07049 0.11296 0.06736 0.12963 C 0.06424 0.14699 0.06632 0.16296 0.06893 0.17639 C 0.07066 0.1919 0.08004 0.19653 0.08976 0.20208 C 0.09948 0.20695 0.11077 0.21042 0.12986 0.20463 C 0.1474 0.19954 0.17066 0.18519 0.19618 0.16736 C 0.21893 0.15139 0.24497 0.1294 0.26997 0.10602 C 0.29514 0.0831 0.31893 0.0581 0.33976 0.0331 C 0.36337 0.00602 0.38299 -0.0206 0.39757 -0.04606 C 0.41198 -0.07153 0.42379 -0.09491 0.42657 -0.1125 C 0.43195 -0.13079 0.429 -0.14606 0.42448 -0.15555 C 0.42118 -0.16643 0.41285 -0.17569 0.3974 -0.17407 C 0.38299 -0.17199 0.36025 -0.15926 0.3349 -0.13727 C 0.30868 -0.11412 0.28663 -0.08634 0.27361 -0.06342 C 0.26268 -0.04398 0.25816 -0.02315 0.2625 -0.01134 C 0.26823 -0.00069 0.27639 0.00648 0.29132 0.00417 C 0.30591 0.00232 0.30521 0.00579 0.35157 -0.02546 C 0.39445 -0.05069 0.42917 -0.09213 0.45122 -0.11342 C 0.47275 -0.13704 0.48941 -0.15972 0.50955 -0.18611 C 0.53177 -0.21458 0.54757 -0.24259 0.55799 -0.26435 C 0.56788 -0.28542 0.56893 -0.29954 0.56945 -0.3206 C 0.56806 -0.34028 0.56337 -0.3463 0.55851 -0.35671 C 0.55278 -0.36667 0.54636 -0.37708 0.5408 -0.38657 E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C:\Documents and Settings\ксюша.63362A0E05424E8\Рабочий стол\коробки\vitaminki-low.jpg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6754680"/>
          </a:xfrm>
          <a:prstGeom prst="rect">
            <a:avLst/>
          </a:prstGeom>
          <a:ln w="0">
            <a:noFill/>
          </a:ln>
        </p:spPr>
      </p:pic>
      <p:pic>
        <p:nvPicPr>
          <p:cNvPr id="511" name="Прямоугольник 4" descr=""/>
          <p:cNvPicPr/>
          <p:nvPr/>
        </p:nvPicPr>
        <p:blipFill>
          <a:blip r:embed="rId2"/>
          <a:stretch/>
        </p:blipFill>
        <p:spPr>
          <a:xfrm>
            <a:off x="438120" y="165240"/>
            <a:ext cx="3951360" cy="3979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C:\Documents and Settings\ксюша.63362A0E05424E8\Рабочий стол\коробки\623d9701bf054d0de4b864a02fa920d4.jpg"/>
          <p:cNvPicPr/>
          <p:nvPr/>
        </p:nvPicPr>
        <p:blipFill>
          <a:blip r:embed="rId3"/>
          <a:stretch/>
        </p:blipFill>
        <p:spPr>
          <a:xfrm>
            <a:off x="1908000" y="2997360"/>
            <a:ext cx="2880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28680" y="274680"/>
            <a:ext cx="835812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413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Franklin Gothic Book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" dur="5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5" dur="5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8" dur="5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ксюша.63362A0E05424E8\Рабочий стол\коробки\12i.jpeg"/>
          <p:cNvPicPr/>
          <p:nvPr/>
        </p:nvPicPr>
        <p:blipFill>
          <a:blip r:embed="rId1"/>
          <a:stretch/>
        </p:blipFill>
        <p:spPr>
          <a:xfrm>
            <a:off x="971640" y="1197000"/>
            <a:ext cx="6580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Группа 16"/>
          <p:cNvGrpSpPr/>
          <p:nvPr/>
        </p:nvGrpSpPr>
        <p:grpSpPr>
          <a:xfrm>
            <a:off x="2484000" y="333360"/>
            <a:ext cx="5339160" cy="5797440"/>
            <a:chOff x="2484000" y="333360"/>
            <a:chExt cx="5339160" cy="5797440"/>
          </a:xfrm>
        </p:grpSpPr>
        <p:pic>
          <p:nvPicPr>
            <p:cNvPr id="419" name="Picture 10" descr="C:\Documents and Settings\ксюша.63362A0E05424E8\Рабочий стол\коробки\623d9701bf054d0de4b864a02fa920d4.jpg"/>
            <p:cNvPicPr/>
            <p:nvPr/>
          </p:nvPicPr>
          <p:blipFill>
            <a:blip r:embed="rId1"/>
            <a:stretch/>
          </p:blipFill>
          <p:spPr>
            <a:xfrm>
              <a:off x="2988000" y="333360"/>
              <a:ext cx="4835160" cy="57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1" descr="C:\Documents and Settings\ксюша.63362A0E05424E8\Рабочий стол\коробки\13i.jpeg"/>
            <p:cNvPicPr/>
            <p:nvPr/>
          </p:nvPicPr>
          <p:blipFill>
            <a:blip r:embed="rId2"/>
            <a:stretch/>
          </p:blipFill>
          <p:spPr>
            <a:xfrm rot="1140600">
              <a:off x="2607840" y="3778200"/>
              <a:ext cx="1428480" cy="999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421" name="Picture 12" descr="C:\Documents and Settings\ксюша.63362A0E05424E8\Рабочий стол\коробки\55i.jpeg"/>
          <p:cNvPicPr/>
          <p:nvPr/>
        </p:nvPicPr>
        <p:blipFill>
          <a:blip r:embed="rId3"/>
          <a:stretch/>
        </p:blipFill>
        <p:spPr>
          <a:xfrm>
            <a:off x="250920" y="404640"/>
            <a:ext cx="37814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нутый угол 6"/>
          <p:cNvSpPr/>
          <p:nvPr/>
        </p:nvSpPr>
        <p:spPr>
          <a:xfrm>
            <a:off x="684360" y="3500280"/>
            <a:ext cx="3166920" cy="2926080"/>
          </a:xfrm>
          <a:prstGeom prst="foldedCorner">
            <a:avLst>
              <a:gd name="adj" fmla="val 166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1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Уравновесь ве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C:\Documents and Settings\ксюша.63362A0E05424E8\Рабочий стол\коробки\11i.jpeg"/>
          <p:cNvPicPr/>
          <p:nvPr/>
        </p:nvPicPr>
        <p:blipFill>
          <a:blip r:embed="rId1"/>
          <a:stretch/>
        </p:blipFill>
        <p:spPr>
          <a:xfrm>
            <a:off x="-828720" y="1844640"/>
            <a:ext cx="6192720" cy="52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81 0.18032 C 0.04931 0.20324 0.03525 0.22824 0.03212 0.24491 C 0.029 0.26227 0.03108 0.27824 0.03368 0.29167 C 0.03542 0.30718 0.04479 0.31181 0.05452 0.31736 C 0.06424 0.32222 0.07552 0.32569 0.09462 0.31991 C 0.11198 0.31481 0.13542 0.30046 0.16077 0.28264 C 0.18368 0.26667 0.20972 0.24468 0.23455 0.2213 C 0.2599 0.19838 0.28368 0.17338 0.30452 0.14838 C 0.32813 0.1213 0.34775 0.09468 0.36233 0.06921 C 0.37674 0.04375 0.38854 0.02037 0.39132 0.00278 C 0.3967 -0.01551 0.39375 -0.03079 0.38924 -0.04028 C 0.38594 -0.05116 0.37761 -0.06042 0.36198 -0.0588 C 0.34775 -0.05671 0.325 -0.04398 0.29948 -0.02199 C 0.27344 0.00116 0.25139 0.02894 0.23837 0.05185 C 0.22743 0.0713 0.22292 0.09213 0.22709 0.10394 C 0.23299 0.11458 0.24115 0.12176 0.25608 0.11944 C 0.27066 0.11759 0.26997 0.12106 0.31632 0.08981 C 0.3592 0.06458 0.39393 0.02315 0.41597 0.00185 C 0.4375 -0.02176 0.45417 -0.04444 0.47431 -0.07083 C 0.49653 -0.09931 0.51233 -0.12731 0.52275 -0.14907 C 0.53264 -0.17037 0.53368 -0.18426 0.5342 -0.20532 C 0.53281 -0.225 0.52813 -0.23102 0.52327 -0.24144 C 0.51754 -0.25139 0.51111 -0.26181 0.50556 -0.2713 E">
                                      <p:cBhvr>
                                        <p:cTn id="39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158760" y="244440"/>
            <a:ext cx="8388360" cy="1346400"/>
          </a:xfrm>
          <a:prstGeom prst="rect">
            <a:avLst/>
          </a:prstGeom>
          <a:ln w="0">
            <a:noFill/>
          </a:ln>
        </p:spPr>
      </p:pic>
      <p:sp>
        <p:nvSpPr>
          <p:cNvPr id="425" name="Равнобедренный треугольник 3"/>
          <p:cNvSpPr/>
          <p:nvPr/>
        </p:nvSpPr>
        <p:spPr>
          <a:xfrm>
            <a:off x="1785960" y="3286080"/>
            <a:ext cx="78588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1054080" y="3224160"/>
            <a:ext cx="2395440" cy="225360"/>
          </a:xfrm>
          <a:prstGeom prst="rect">
            <a:avLst/>
          </a:prstGeom>
          <a:ln w="0">
            <a:noFill/>
          </a:ln>
        </p:spPr>
      </p:pic>
      <p:sp>
        <p:nvSpPr>
          <p:cNvPr id="427" name="Равнобедренный треугольник 9"/>
          <p:cNvSpPr/>
          <p:nvPr/>
        </p:nvSpPr>
        <p:spPr>
          <a:xfrm>
            <a:off x="4071960" y="5857920"/>
            <a:ext cx="785880" cy="57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Равнобедренный треугольник 10"/>
          <p:cNvSpPr/>
          <p:nvPr/>
        </p:nvSpPr>
        <p:spPr>
          <a:xfrm>
            <a:off x="6572160" y="3286080"/>
            <a:ext cx="78588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Прямая соединительная линия 11" descr=""/>
          <p:cNvPicPr/>
          <p:nvPr/>
        </p:nvPicPr>
        <p:blipFill>
          <a:blip r:embed="rId3"/>
          <a:stretch/>
        </p:blipFill>
        <p:spPr>
          <a:xfrm>
            <a:off x="3267000" y="5797440"/>
            <a:ext cx="2395440" cy="22536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ая соединительная линия 12" descr=""/>
          <p:cNvPicPr/>
          <p:nvPr/>
        </p:nvPicPr>
        <p:blipFill>
          <a:blip r:embed="rId4"/>
          <a:stretch/>
        </p:blipFill>
        <p:spPr>
          <a:xfrm>
            <a:off x="5767560" y="3224160"/>
            <a:ext cx="2395440" cy="22536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ая соединительная линия 14" descr=""/>
          <p:cNvPicPr/>
          <p:nvPr/>
        </p:nvPicPr>
        <p:blipFill>
          <a:blip r:embed="rId5"/>
          <a:stretch/>
        </p:blipFill>
        <p:spPr>
          <a:xfrm>
            <a:off x="1036800" y="3029040"/>
            <a:ext cx="218880" cy="40320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ая соединительная линия 15" descr=""/>
          <p:cNvPicPr/>
          <p:nvPr/>
        </p:nvPicPr>
        <p:blipFill>
          <a:blip r:embed="rId6"/>
          <a:stretch/>
        </p:blipFill>
        <p:spPr>
          <a:xfrm>
            <a:off x="3249720" y="3029040"/>
            <a:ext cx="218880" cy="4032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ая соединительная линия 16" descr=""/>
          <p:cNvPicPr/>
          <p:nvPr/>
        </p:nvPicPr>
        <p:blipFill>
          <a:blip r:embed="rId7"/>
          <a:stretch/>
        </p:blipFill>
        <p:spPr>
          <a:xfrm>
            <a:off x="5748480" y="3029040"/>
            <a:ext cx="218880" cy="40320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7" descr=""/>
          <p:cNvPicPr/>
          <p:nvPr/>
        </p:nvPicPr>
        <p:blipFill>
          <a:blip r:embed="rId8"/>
          <a:stretch/>
        </p:blipFill>
        <p:spPr>
          <a:xfrm>
            <a:off x="7961400" y="3029040"/>
            <a:ext cx="218880" cy="40320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ая соединительная линия 18" descr=""/>
          <p:cNvPicPr/>
          <p:nvPr/>
        </p:nvPicPr>
        <p:blipFill>
          <a:blip r:embed="rId9"/>
          <a:stretch/>
        </p:blipFill>
        <p:spPr>
          <a:xfrm>
            <a:off x="3249720" y="5602320"/>
            <a:ext cx="218880" cy="40176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ая соединительная линия 19" descr=""/>
          <p:cNvPicPr/>
          <p:nvPr/>
        </p:nvPicPr>
        <p:blipFill>
          <a:blip r:embed="rId10"/>
          <a:stretch/>
        </p:blipFill>
        <p:spPr>
          <a:xfrm>
            <a:off x="5462640" y="5602320"/>
            <a:ext cx="218880" cy="40176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ая соединительная линия 21" descr=""/>
          <p:cNvPicPr/>
          <p:nvPr/>
        </p:nvPicPr>
        <p:blipFill>
          <a:blip r:embed="rId11"/>
          <a:stretch/>
        </p:blipFill>
        <p:spPr>
          <a:xfrm>
            <a:off x="1981080" y="2651040"/>
            <a:ext cx="470160" cy="22536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ая соединительная линия 22" descr=""/>
          <p:cNvPicPr/>
          <p:nvPr/>
        </p:nvPicPr>
        <p:blipFill>
          <a:blip r:embed="rId12"/>
          <a:stretch/>
        </p:blipFill>
        <p:spPr>
          <a:xfrm>
            <a:off x="1981080" y="2798640"/>
            <a:ext cx="470160" cy="22572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ая соединительная линия 23" descr=""/>
          <p:cNvPicPr/>
          <p:nvPr/>
        </p:nvPicPr>
        <p:blipFill>
          <a:blip r:embed="rId13"/>
          <a:stretch/>
        </p:blipFill>
        <p:spPr>
          <a:xfrm>
            <a:off x="4267080" y="5084640"/>
            <a:ext cx="470160" cy="2257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ая соединительная линия 24" descr=""/>
          <p:cNvPicPr/>
          <p:nvPr/>
        </p:nvPicPr>
        <p:blipFill>
          <a:blip r:embed="rId14"/>
          <a:stretch/>
        </p:blipFill>
        <p:spPr>
          <a:xfrm>
            <a:off x="4267080" y="5224320"/>
            <a:ext cx="470160" cy="22572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ая соединительная линия 25" descr=""/>
          <p:cNvPicPr/>
          <p:nvPr/>
        </p:nvPicPr>
        <p:blipFill>
          <a:blip r:embed="rId15"/>
          <a:stretch/>
        </p:blipFill>
        <p:spPr>
          <a:xfrm>
            <a:off x="6692760" y="2865600"/>
            <a:ext cx="470160" cy="22536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ая соединительная линия 26" descr=""/>
          <p:cNvPicPr/>
          <p:nvPr/>
        </p:nvPicPr>
        <p:blipFill>
          <a:blip r:embed="rId16"/>
          <a:stretch/>
        </p:blipFill>
        <p:spPr>
          <a:xfrm>
            <a:off x="6692760" y="2724120"/>
            <a:ext cx="470160" cy="227160"/>
          </a:xfrm>
          <a:prstGeom prst="rect">
            <a:avLst/>
          </a:prstGeom>
          <a:ln w="0">
            <a:noFill/>
          </a:ln>
        </p:spPr>
      </p:pic>
      <p:grpSp>
        <p:nvGrpSpPr>
          <p:cNvPr id="443" name="Левая круглая скобка 39"/>
          <p:cNvGrpSpPr/>
          <p:nvPr/>
        </p:nvGrpSpPr>
        <p:grpSpPr>
          <a:xfrm>
            <a:off x="2389320" y="2743200"/>
            <a:ext cx="1933560" cy="487440"/>
            <a:chOff x="2389320" y="2743200"/>
            <a:chExt cx="1933560" cy="487440"/>
          </a:xfrm>
        </p:grpSpPr>
        <p:pic>
          <p:nvPicPr>
            <p:cNvPr id="444" name="Левая круглая скобка 39" descr=""/>
            <p:cNvPicPr/>
            <p:nvPr/>
          </p:nvPicPr>
          <p:blipFill>
            <a:blip r:embed="rId17"/>
            <a:stretch/>
          </p:blipFill>
          <p:spPr>
            <a:xfrm>
              <a:off x="2389320" y="2743200"/>
              <a:ext cx="1933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16200000">
              <a:off x="3255120" y="2037240"/>
              <a:ext cx="2034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Левая круглая скобка 40"/>
          <p:cNvGrpSpPr/>
          <p:nvPr/>
        </p:nvGrpSpPr>
        <p:grpSpPr>
          <a:xfrm>
            <a:off x="103320" y="2743200"/>
            <a:ext cx="2006640" cy="487440"/>
            <a:chOff x="103320" y="2743200"/>
            <a:chExt cx="2006640" cy="487440"/>
          </a:xfrm>
        </p:grpSpPr>
        <p:pic>
          <p:nvPicPr>
            <p:cNvPr id="447" name="Левая круглая скобка 40" descr=""/>
            <p:cNvPicPr/>
            <p:nvPr/>
          </p:nvPicPr>
          <p:blipFill>
            <a:blip r:embed="rId18"/>
            <a:stretch/>
          </p:blipFill>
          <p:spPr>
            <a:xfrm>
              <a:off x="103320" y="2743200"/>
              <a:ext cx="2006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 rot="16200000">
              <a:off x="1007280" y="2000880"/>
              <a:ext cx="201600" cy="17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Левая круглая скобка 41"/>
          <p:cNvGrpSpPr/>
          <p:nvPr/>
        </p:nvGrpSpPr>
        <p:grpSpPr>
          <a:xfrm>
            <a:off x="4675320" y="2670120"/>
            <a:ext cx="2079360" cy="487440"/>
            <a:chOff x="4675320" y="2670120"/>
            <a:chExt cx="2079360" cy="487440"/>
          </a:xfrm>
        </p:grpSpPr>
        <p:pic>
          <p:nvPicPr>
            <p:cNvPr id="450" name="Левая круглая скобка 41" descr=""/>
            <p:cNvPicPr/>
            <p:nvPr/>
          </p:nvPicPr>
          <p:blipFill>
            <a:blip r:embed="rId19"/>
            <a:stretch/>
          </p:blipFill>
          <p:spPr>
            <a:xfrm>
              <a:off x="4675320" y="2670120"/>
              <a:ext cx="2079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rot="16200000">
              <a:off x="5612760" y="1894680"/>
              <a:ext cx="20304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Левая круглая скобка 42"/>
          <p:cNvGrpSpPr/>
          <p:nvPr/>
        </p:nvGrpSpPr>
        <p:grpSpPr>
          <a:xfrm>
            <a:off x="7107120" y="2743200"/>
            <a:ext cx="2006640" cy="487440"/>
            <a:chOff x="7107120" y="2743200"/>
            <a:chExt cx="2006640" cy="487440"/>
          </a:xfrm>
        </p:grpSpPr>
        <p:pic>
          <p:nvPicPr>
            <p:cNvPr id="453" name="Левая круглая скобка 42" descr=""/>
            <p:cNvPicPr/>
            <p:nvPr/>
          </p:nvPicPr>
          <p:blipFill>
            <a:blip r:embed="rId20"/>
            <a:stretch/>
          </p:blipFill>
          <p:spPr>
            <a:xfrm>
              <a:off x="7107120" y="2743200"/>
              <a:ext cx="2006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16200000">
              <a:off x="8007840" y="2000880"/>
              <a:ext cx="2016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Левая круглая скобка 43"/>
          <p:cNvGrpSpPr/>
          <p:nvPr/>
        </p:nvGrpSpPr>
        <p:grpSpPr>
          <a:xfrm>
            <a:off x="4675320" y="5315040"/>
            <a:ext cx="1792080" cy="488880"/>
            <a:chOff x="4675320" y="5315040"/>
            <a:chExt cx="1792080" cy="488880"/>
          </a:xfrm>
        </p:grpSpPr>
        <p:pic>
          <p:nvPicPr>
            <p:cNvPr id="456" name="Левая круглая скобка 43" descr=""/>
            <p:cNvPicPr/>
            <p:nvPr/>
          </p:nvPicPr>
          <p:blipFill>
            <a:blip r:embed="rId21"/>
            <a:stretch/>
          </p:blipFill>
          <p:spPr>
            <a:xfrm>
              <a:off x="4675320" y="5315040"/>
              <a:ext cx="17920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 rot="16200000">
              <a:off x="5469840" y="4680720"/>
              <a:ext cx="2030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Левая круглая скобка 44"/>
          <p:cNvGrpSpPr/>
          <p:nvPr/>
        </p:nvGrpSpPr>
        <p:grpSpPr>
          <a:xfrm>
            <a:off x="2389320" y="5315040"/>
            <a:ext cx="1792080" cy="488880"/>
            <a:chOff x="2389320" y="5315040"/>
            <a:chExt cx="1792080" cy="488880"/>
          </a:xfrm>
        </p:grpSpPr>
        <p:pic>
          <p:nvPicPr>
            <p:cNvPr id="459" name="Левая круглая скобка 44" descr=""/>
            <p:cNvPicPr/>
            <p:nvPr/>
          </p:nvPicPr>
          <p:blipFill>
            <a:blip r:embed="rId22"/>
            <a:stretch/>
          </p:blipFill>
          <p:spPr>
            <a:xfrm>
              <a:off x="2389320" y="5315040"/>
              <a:ext cx="17920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 rot="16200000">
              <a:off x="3183840" y="4680720"/>
              <a:ext cx="2030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Овал 45"/>
          <p:cNvSpPr/>
          <p:nvPr/>
        </p:nvSpPr>
        <p:spPr>
          <a:xfrm>
            <a:off x="214200" y="250020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46"/>
          <p:cNvSpPr/>
          <p:nvPr/>
        </p:nvSpPr>
        <p:spPr>
          <a:xfrm>
            <a:off x="785880" y="250020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47"/>
          <p:cNvSpPr/>
          <p:nvPr/>
        </p:nvSpPr>
        <p:spPr>
          <a:xfrm>
            <a:off x="1357200" y="250020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48"/>
          <p:cNvSpPr/>
          <p:nvPr/>
        </p:nvSpPr>
        <p:spPr>
          <a:xfrm>
            <a:off x="2428920" y="250020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49"/>
          <p:cNvSpPr/>
          <p:nvPr/>
        </p:nvSpPr>
        <p:spPr>
          <a:xfrm>
            <a:off x="3071880" y="250020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50"/>
          <p:cNvSpPr/>
          <p:nvPr/>
        </p:nvSpPr>
        <p:spPr>
          <a:xfrm>
            <a:off x="3643200" y="250020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51"/>
          <p:cNvSpPr/>
          <p:nvPr/>
        </p:nvSpPr>
        <p:spPr>
          <a:xfrm>
            <a:off x="4857840" y="242892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52"/>
          <p:cNvSpPr/>
          <p:nvPr/>
        </p:nvSpPr>
        <p:spPr>
          <a:xfrm>
            <a:off x="5429160" y="242892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3"/>
          <p:cNvSpPr/>
          <p:nvPr/>
        </p:nvSpPr>
        <p:spPr>
          <a:xfrm>
            <a:off x="6000840" y="242892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54"/>
          <p:cNvSpPr/>
          <p:nvPr/>
        </p:nvSpPr>
        <p:spPr>
          <a:xfrm>
            <a:off x="7215120" y="250020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Овал 55"/>
          <p:cNvSpPr/>
          <p:nvPr/>
        </p:nvSpPr>
        <p:spPr>
          <a:xfrm>
            <a:off x="7786800" y="250020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Овал 56"/>
          <p:cNvSpPr/>
          <p:nvPr/>
        </p:nvSpPr>
        <p:spPr>
          <a:xfrm>
            <a:off x="8358120" y="250020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57"/>
          <p:cNvSpPr/>
          <p:nvPr/>
        </p:nvSpPr>
        <p:spPr>
          <a:xfrm>
            <a:off x="2643120" y="507204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58"/>
          <p:cNvSpPr/>
          <p:nvPr/>
        </p:nvSpPr>
        <p:spPr>
          <a:xfrm>
            <a:off x="3357720" y="5072040"/>
            <a:ext cx="57132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59"/>
          <p:cNvSpPr/>
          <p:nvPr/>
        </p:nvSpPr>
        <p:spPr>
          <a:xfrm>
            <a:off x="4929120" y="507204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60"/>
          <p:cNvSpPr/>
          <p:nvPr/>
        </p:nvSpPr>
        <p:spPr>
          <a:xfrm>
            <a:off x="5715000" y="5072040"/>
            <a:ext cx="571680" cy="55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Прямоугольник 61" descr=""/>
          <p:cNvPicPr/>
          <p:nvPr/>
        </p:nvPicPr>
        <p:blipFill>
          <a:blip r:embed="rId23"/>
          <a:stretch/>
        </p:blipFill>
        <p:spPr>
          <a:xfrm>
            <a:off x="-133200" y="2114640"/>
            <a:ext cx="1242720" cy="1457280"/>
          </a:xfrm>
          <a:prstGeom prst="rect">
            <a:avLst/>
          </a:prstGeom>
          <a:ln w="0">
            <a:noFill/>
          </a:ln>
        </p:spPr>
      </p:pic>
      <p:pic>
        <p:nvPicPr>
          <p:cNvPr id="478" name="Прямоугольник 62" descr=""/>
          <p:cNvPicPr/>
          <p:nvPr/>
        </p:nvPicPr>
        <p:blipFill>
          <a:blip r:embed="rId24"/>
          <a:stretch/>
        </p:blipFill>
        <p:spPr>
          <a:xfrm>
            <a:off x="433440" y="211464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79" name="Прямоугольник 63" descr=""/>
          <p:cNvPicPr/>
          <p:nvPr/>
        </p:nvPicPr>
        <p:blipFill>
          <a:blip r:embed="rId25"/>
          <a:stretch/>
        </p:blipFill>
        <p:spPr>
          <a:xfrm>
            <a:off x="1006560" y="211464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0" name="Прямоугольник 64" descr=""/>
          <p:cNvPicPr/>
          <p:nvPr/>
        </p:nvPicPr>
        <p:blipFill>
          <a:blip r:embed="rId26"/>
          <a:stretch/>
        </p:blipFill>
        <p:spPr>
          <a:xfrm>
            <a:off x="2719440" y="211464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1" name="Прямоугольник 65" descr=""/>
          <p:cNvPicPr/>
          <p:nvPr/>
        </p:nvPicPr>
        <p:blipFill>
          <a:blip r:embed="rId27"/>
          <a:stretch/>
        </p:blipFill>
        <p:spPr>
          <a:xfrm>
            <a:off x="4505400" y="204156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2" name="Прямоугольник 66" descr=""/>
          <p:cNvPicPr/>
          <p:nvPr/>
        </p:nvPicPr>
        <p:blipFill>
          <a:blip r:embed="rId28"/>
          <a:stretch/>
        </p:blipFill>
        <p:spPr>
          <a:xfrm>
            <a:off x="5724360" y="204156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оугольник 67" descr=""/>
          <p:cNvPicPr/>
          <p:nvPr/>
        </p:nvPicPr>
        <p:blipFill>
          <a:blip r:embed="rId29"/>
          <a:stretch/>
        </p:blipFill>
        <p:spPr>
          <a:xfrm>
            <a:off x="5078520" y="204156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68" descr=""/>
          <p:cNvPicPr/>
          <p:nvPr/>
        </p:nvPicPr>
        <p:blipFill>
          <a:blip r:embed="rId30"/>
          <a:stretch/>
        </p:blipFill>
        <p:spPr>
          <a:xfrm>
            <a:off x="6864480" y="2114640"/>
            <a:ext cx="1242720" cy="145728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69" descr=""/>
          <p:cNvPicPr/>
          <p:nvPr/>
        </p:nvPicPr>
        <p:blipFill>
          <a:blip r:embed="rId31"/>
          <a:stretch/>
        </p:blipFill>
        <p:spPr>
          <a:xfrm>
            <a:off x="7437600" y="2114640"/>
            <a:ext cx="1242720" cy="145728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70" descr=""/>
          <p:cNvPicPr/>
          <p:nvPr/>
        </p:nvPicPr>
        <p:blipFill>
          <a:blip r:embed="rId32"/>
          <a:stretch/>
        </p:blipFill>
        <p:spPr>
          <a:xfrm>
            <a:off x="3005280" y="4687920"/>
            <a:ext cx="1242720" cy="1457280"/>
          </a:xfrm>
          <a:prstGeom prst="rect">
            <a:avLst/>
          </a:prstGeom>
          <a:ln w="0">
            <a:noFill/>
          </a:ln>
        </p:spPr>
      </p:pic>
      <p:pic>
        <p:nvPicPr>
          <p:cNvPr id="487" name="Прямоугольник 71" descr=""/>
          <p:cNvPicPr/>
          <p:nvPr/>
        </p:nvPicPr>
        <p:blipFill>
          <a:blip r:embed="rId33"/>
          <a:stretch/>
        </p:blipFill>
        <p:spPr>
          <a:xfrm>
            <a:off x="2292480" y="4687920"/>
            <a:ext cx="1242720" cy="145728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72" descr=""/>
          <p:cNvPicPr/>
          <p:nvPr/>
        </p:nvPicPr>
        <p:blipFill>
          <a:blip r:embed="rId34"/>
          <a:stretch/>
        </p:blipFill>
        <p:spPr>
          <a:xfrm>
            <a:off x="4651200" y="4687920"/>
            <a:ext cx="1243080" cy="145728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74" descr=""/>
          <p:cNvPicPr/>
          <p:nvPr/>
        </p:nvPicPr>
        <p:blipFill>
          <a:blip r:embed="rId35"/>
          <a:stretch/>
        </p:blipFill>
        <p:spPr>
          <a:xfrm>
            <a:off x="2077920" y="2084400"/>
            <a:ext cx="1397160" cy="1603440"/>
          </a:xfrm>
          <a:prstGeom prst="rect">
            <a:avLst/>
          </a:prstGeom>
          <a:ln w="0">
            <a:noFill/>
          </a:ln>
        </p:spPr>
      </p:pic>
      <p:pic>
        <p:nvPicPr>
          <p:cNvPr id="490" name="Прямоугольник 75" descr=""/>
          <p:cNvPicPr/>
          <p:nvPr/>
        </p:nvPicPr>
        <p:blipFill>
          <a:blip r:embed="rId36"/>
          <a:stretch/>
        </p:blipFill>
        <p:spPr>
          <a:xfrm>
            <a:off x="3292560" y="208440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76" descr=""/>
          <p:cNvPicPr/>
          <p:nvPr/>
        </p:nvPicPr>
        <p:blipFill>
          <a:blip r:embed="rId37"/>
          <a:stretch/>
        </p:blipFill>
        <p:spPr>
          <a:xfrm>
            <a:off x="8004240" y="208440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77" descr=""/>
          <p:cNvPicPr/>
          <p:nvPr/>
        </p:nvPicPr>
        <p:blipFill>
          <a:blip r:embed="rId38"/>
          <a:stretch/>
        </p:blipFill>
        <p:spPr>
          <a:xfrm>
            <a:off x="5291280" y="465768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78" descr="QMArk.jpg"/>
          <p:cNvPicPr/>
          <p:nvPr/>
        </p:nvPicPr>
        <p:blipFill>
          <a:blip r:embed="rId39"/>
          <a:stretch/>
        </p:blipFill>
        <p:spPr>
          <a:xfrm>
            <a:off x="7451640" y="907920"/>
            <a:ext cx="13892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нутый угол 6"/>
          <p:cNvSpPr/>
          <p:nvPr/>
        </p:nvSpPr>
        <p:spPr>
          <a:xfrm>
            <a:off x="1116000" y="3500280"/>
            <a:ext cx="3168720" cy="2926080"/>
          </a:xfrm>
          <a:prstGeom prst="foldedCorner">
            <a:avLst>
              <a:gd name="adj" fmla="val 166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2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Сосчитай до 2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и обратно и запиши двухзначные числа под дикто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C:\Documents and Settings\ксюша.63362A0E05424E8\Рабочий стол\коробки\11i.jpeg"/>
          <p:cNvPicPr/>
          <p:nvPr/>
        </p:nvPicPr>
        <p:blipFill>
          <a:blip r:embed="rId1"/>
          <a:stretch/>
        </p:blipFill>
        <p:spPr>
          <a:xfrm>
            <a:off x="-468360" y="1773360"/>
            <a:ext cx="6192720" cy="52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0.06505 C 0.08455 0.08796 0.07049 0.11296 0.06736 0.12963 C 0.06424 0.14699 0.06632 0.16296 0.06893 0.17639 C 0.07066 0.1919 0.08004 0.19653 0.08976 0.20208 C 0.09948 0.20695 0.11077 0.21042 0.12986 0.20463 C 0.1474 0.19954 0.17066 0.18519 0.19618 0.16736 C 0.21893 0.15139 0.24497 0.1294 0.26997 0.10602 C 0.29514 0.0831 0.31893 0.0581 0.33976 0.0331 C 0.36337 0.00602 0.38299 -0.0206 0.39757 -0.04606 C 0.41198 -0.07153 0.42379 -0.09491 0.42657 -0.1125 C 0.43195 -0.13079 0.429 -0.14606 0.42448 -0.15555 C 0.42118 -0.16643 0.41285 -0.17569 0.3974 -0.17407 C 0.38299 -0.17199 0.36025 -0.15926 0.3349 -0.13727 C 0.30868 -0.11412 0.28663 -0.08634 0.27361 -0.06342 C 0.26268 -0.04398 0.25816 -0.02315 0.2625 -0.01134 C 0.26823 -0.00069 0.27639 0.00648 0.29132 0.00417 C 0.30591 0.00232 0.30521 0.00579 0.35157 -0.02546 C 0.39445 -0.05069 0.42917 -0.09213 0.45122 -0.11342 C 0.47275 -0.13704 0.48941 -0.15972 0.50955 -0.18611 C 0.53177 -0.21458 0.54757 -0.24259 0.55799 -0.26435 C 0.56788 -0.28542 0.56893 -0.29954 0.56945 -0.3206 C 0.56806 -0.34028 0.56337 -0.3463 0.55851 -0.35671 C 0.55278 -0.36667 0.54636 -0.37708 0.5408 -0.38657 E">
                                      <p:cBhvr>
                                        <p:cTn id="69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Загнутый угол 6"/>
          <p:cNvSpPr/>
          <p:nvPr/>
        </p:nvSpPr>
        <p:spPr>
          <a:xfrm>
            <a:off x="1763640" y="3645000"/>
            <a:ext cx="3168720" cy="2925720"/>
          </a:xfrm>
          <a:prstGeom prst="foldedCorner">
            <a:avLst>
              <a:gd name="adj" fmla="val 166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3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ranklin Gothic Book"/>
              </a:rPr>
              <a:t>Решите устно задачи, но так чтобы вслух не было произнесено ни од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C:\Documents and Settings\ксюша.63362A0E05424E8\Рабочий стол\коробки\11i.jpeg"/>
          <p:cNvPicPr/>
          <p:nvPr/>
        </p:nvPicPr>
        <p:blipFill>
          <a:blip r:embed="rId1"/>
          <a:stretch/>
        </p:blipFill>
        <p:spPr>
          <a:xfrm>
            <a:off x="0" y="1197000"/>
            <a:ext cx="6769080" cy="627840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3"/>
          <p:cNvSpPr/>
          <p:nvPr/>
        </p:nvSpPr>
        <p:spPr>
          <a:xfrm>
            <a:off x="1403280" y="4508640"/>
            <a:ext cx="865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2340000" y="4508640"/>
            <a:ext cx="86364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276720" y="4508640"/>
            <a:ext cx="86364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7"/>
          <p:cNvSpPr/>
          <p:nvPr/>
        </p:nvSpPr>
        <p:spPr>
          <a:xfrm>
            <a:off x="4211640" y="4508640"/>
            <a:ext cx="865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-0.00834 0.03033 -0.01771 0.06273 -0.01511 0.08912 C -0.01198 0.1169 -0.00209 0.14653 0.00746 0.17176 C 0.01684 0.19977 0.03229 0.21551 0.04878 0.23241 C 0.06493 0.24815 0.08281 0.26297 0.10781 0.26783 C 0.1309 0.27222 0.1585 0.26551 0.18732 0.25394 C 0.21354 0.24422 0.24166 0.22593 0.26753 0.20463 C 0.29409 0.18426 0.31753 0.15926 0.3368 0.13195 C 0.3592 0.10324 0.37604 0.07222 0.38611 0.03912 C 0.39566 0.00602 0.4026 -0.02546 0.39895 -0.05393 C 0.39895 -0.08148 0.38784 -0.11018 0.37725 -0.13009 C 0.3677 -0.15185 0.35173 -0.1743 0.33003 -0.18356 C 0.31007 -0.19097 0.28281 -0.18634 0.25555 -0.16782 C 0.22795 -0.14768 0.20816 -0.11643 0.1993 -0.08657 C 0.19201 -0.06157 0.19427 -0.02893 0.20555 -0.00509 C 0.21875 0.01806 0.23368 0.03704 0.25434 0.04422 C 0.27447 0.05255 0.27482 0.05764 0.32829 0.03935 C 0.37951 0.02871 0.41163 -0.01643 0.4342 -0.03657 C 0.45503 -0.06065 0.46944 -0.0875 0.48715 -0.11782 C 0.50659 -0.14977 0.51736 -0.18657 0.52309 -0.2162 C 0.52812 -0.24537 0.52361 -0.26898 0.5151 -0.30509 C 0.50468 -0.34028 0.49531 -0.3544 0.48368 -0.37639 C 0.47118 -0.39815 0.45729 -0.42083 0.44513 -0.44166 E">
                                      <p:cBhvr>
                                        <p:cTn id="7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8:25:42Z</dcterms:created>
  <dc:creator>ксюша</dc:creator>
  <dc:description/>
  <dc:language>en-US</dc:language>
  <cp:lastModifiedBy>7</cp:lastModifiedBy>
  <dcterms:modified xsi:type="dcterms:W3CDTF">2012-03-13T05:37:27Z</dcterms:modified>
  <cp:revision>3</cp:revision>
  <dc:subject/>
  <dc:title>Слайд 1</dc:title>
</cp:coreProperties>
</file>