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32E-2975-457C-832E-D7FAD484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EF5-27E9-4530-9450-7BDDC2E5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53F-42B5-44E6-8253-DE65FFB3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84F-6D57-4A7D-B263-59779208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083-D252-4A00-AFAA-1B036E93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255-2B56-4B31-9249-68D16F1B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406-0721-4325-B944-2002ADF7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767-AB69-4FFF-B912-B11FA8AF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9C9-123F-44FF-BEAF-8FB41EBB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71A-5C03-4B29-9A90-5FF67F72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634-0DA5-4801-A8C1-FB5F99D7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714-0D6D-4E2C-9C23-E5547EC2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D4BF-CDA3-4D4C-B0A2-AEB8A03377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3048120" y="353880"/>
            <a:ext cx="3840120" cy="15670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1620720" y="1859040"/>
            <a:ext cx="71265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пк\Desktop\числа мои\Untitled-Scanned-19.jpg"/>
          <p:cNvPicPr/>
          <p:nvPr/>
        </p:nvPicPr>
        <p:blipFill>
          <a:blip r:embed="rId1"/>
          <a:stretch/>
        </p:blipFill>
        <p:spPr>
          <a:xfrm>
            <a:off x="1547640" y="333360"/>
            <a:ext cx="1872000" cy="366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3" descr="C:\Users\пк\Desktop\числа мои\Untitled-Scanned-21.jpg"/>
          <p:cNvPicPr/>
          <p:nvPr/>
        </p:nvPicPr>
        <p:blipFill>
          <a:blip r:embed="rId2"/>
          <a:srcRect l="0" t="0" r="0" b="6060"/>
          <a:stretch/>
        </p:blipFill>
        <p:spPr>
          <a:xfrm>
            <a:off x="6156360" y="3141720"/>
            <a:ext cx="2448000" cy="328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TextBox 3"/>
          <p:cNvSpPr/>
          <p:nvPr/>
        </p:nvSpPr>
        <p:spPr>
          <a:xfrm>
            <a:off x="3577320" y="324000"/>
            <a:ext cx="322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се должны об этом зн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Чувств у человека пя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Это обоняние, вкус и осяз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е забудь о главных двух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Это зрение и слу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955680" y="2128680"/>
            <a:ext cx="24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 школе буду получ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Я по всем предметам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Я с пятёркою все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Буду не разлей 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4300560" y="1700280"/>
            <a:ext cx="17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829160" y="4292640"/>
            <a:ext cx="350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Как свои пять пальце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ятое колесо в телег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ятеро волов одной сохой пашу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874880" y="5589720"/>
            <a:ext cx="38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Сметлив и хитёр – пятерым нос утё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На грош пятаков не даю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пк\Desktop\числа мои\Untitled-Scanned-07.jpg"/>
          <p:cNvPicPr/>
          <p:nvPr/>
        </p:nvPicPr>
        <p:blipFill>
          <a:blip r:embed="rId1"/>
          <a:stretch/>
        </p:blipFill>
        <p:spPr>
          <a:xfrm>
            <a:off x="1687680" y="3141720"/>
            <a:ext cx="4895640" cy="33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TextBox 3"/>
          <p:cNvSpPr/>
          <p:nvPr/>
        </p:nvSpPr>
        <p:spPr>
          <a:xfrm>
            <a:off x="1846800" y="404640"/>
            <a:ext cx="3320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За столом сидит шестёр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Перед ней печенья гор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Шесть огромных шоколадо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Шесть прозрачных мармеладо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Шесть коробочек зефир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Съела всё шестёрка, встал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И потом в дверях застрял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4261320" y="2637000"/>
            <a:ext cx="42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У него</a:t>
            </a:r>
            <a:r>
              <a:rPr b="0" i="1" lang="ru-RU" sz="1800" spc="-1" strike="noStrike">
                <a:solidFill>
                  <a:srgbClr val="00642d"/>
                </a:solidFill>
                <a:latin typeface="Times New Roman"/>
              </a:rPr>
              <a:t> шесть</a:t>
            </a: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 хитростей и пять обман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6607440" y="3429000"/>
            <a:ext cx="24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Три волосинки в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шесть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 рядов уложены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пк\Desktop\числа мои\Untitled-Scanned-04.jpg"/>
          <p:cNvPicPr/>
          <p:nvPr/>
        </p:nvPicPr>
        <p:blipFill>
          <a:blip r:embed="rId1"/>
          <a:stretch/>
        </p:blipFill>
        <p:spPr>
          <a:xfrm>
            <a:off x="1619280" y="333360"/>
            <a:ext cx="2305080" cy="31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3" descr="C:\Users\пк\Desktop\числа мои\Untitled-Scanned-15.jpg"/>
          <p:cNvPicPr/>
          <p:nvPr/>
        </p:nvPicPr>
        <p:blipFill>
          <a:blip r:embed="rId2"/>
          <a:stretch/>
        </p:blipFill>
        <p:spPr>
          <a:xfrm>
            <a:off x="4788000" y="4005360"/>
            <a:ext cx="3956040" cy="237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3"/>
          <p:cNvSpPr/>
          <p:nvPr/>
        </p:nvSpPr>
        <p:spPr>
          <a:xfrm>
            <a:off x="4122000" y="190440"/>
            <a:ext cx="490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Семь ночей и дней в неде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Семь вещей у вас в портфел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Промокашка и тетрад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И перо, чтобы писать, и резинка, чтобы пят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Подчищала аккуратн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И пенал, и карандаш, и букварь – приятель ваш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192640" y="1790640"/>
            <a:ext cx="17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124880" y="2205000"/>
            <a:ext cx="420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Однажды Семёрка гуляла в лес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Корзинка в руках и очки на нос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 волшебном лесу расцвела красот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 корзинке Семёрки спала пустот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Семь зайцев на встречу скакали гурьбо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-Грибы собираешь? Мы тоже с тобой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423440" y="4233960"/>
            <a:ext cx="35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Всемером пойдём – далеко уйдё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В гору семеро едва тянут, а п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гору и один столкнё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1455120" y="558972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емь пятниц на неде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емеро ворот и все в огоро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емеро одного не жду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879560" y="5157720"/>
            <a:ext cx="17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пк\Desktop\числа мои\Untitled-Scanned-05.jpg"/>
          <p:cNvPicPr/>
          <p:nvPr/>
        </p:nvPicPr>
        <p:blipFill>
          <a:blip r:embed="rId1"/>
          <a:stretch/>
        </p:blipFill>
        <p:spPr>
          <a:xfrm>
            <a:off x="1763640" y="3429000"/>
            <a:ext cx="6840720" cy="30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TextBox 3"/>
          <p:cNvSpPr/>
          <p:nvPr/>
        </p:nvSpPr>
        <p:spPr>
          <a:xfrm>
            <a:off x="1551240" y="333360"/>
            <a:ext cx="287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Быстро ходит осьмино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У него же восемь но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Быстро нить плетёт пау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У него же восемь ру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Кто бы мне приделать смо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осемь рук и восемь ног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998800" y="218916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Весна да осень - на дню погод</a:t>
            </a:r>
            <a:r>
              <a:rPr b="0" i="1" lang="ru-RU" sz="1800" spc="-1" strike="noStrike">
                <a:solidFill>
                  <a:srgbClr val="00642d"/>
                </a:solidFill>
                <a:latin typeface="Times New Roman"/>
              </a:rPr>
              <a:t> восемь</a:t>
            </a: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1755000" y="2803680"/>
            <a:ext cx="45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У 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восьмерки два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 кольца без начала и конца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пк\Desktop\числа мои\Untitled-Scanned-18.jpg"/>
          <p:cNvPicPr/>
          <p:nvPr/>
        </p:nvPicPr>
        <p:blipFill>
          <a:blip r:embed="rId1"/>
          <a:srcRect l="0" t="0" r="19935" b="4945"/>
          <a:stretch/>
        </p:blipFill>
        <p:spPr>
          <a:xfrm>
            <a:off x="1692360" y="260280"/>
            <a:ext cx="196524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3" descr="C:\Users\пк\Desktop\числа мои\Untitled-Scanned-08.jpg"/>
          <p:cNvPicPr/>
          <p:nvPr/>
        </p:nvPicPr>
        <p:blipFill>
          <a:blip r:embed="rId2"/>
          <a:stretch/>
        </p:blipFill>
        <p:spPr>
          <a:xfrm>
            <a:off x="6300720" y="2997360"/>
            <a:ext cx="240048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TextBox 3"/>
          <p:cNvSpPr/>
          <p:nvPr/>
        </p:nvSpPr>
        <p:spPr>
          <a:xfrm>
            <a:off x="3855240" y="260280"/>
            <a:ext cx="379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Мы с бабушкой по улице гуляе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Окошки в доме снизу вверх счита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Какой большой красивый до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Окошек ровно девять в нём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481640" y="1341360"/>
            <a:ext cx="17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3908160" y="1844640"/>
            <a:ext cx="317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Цифра девять иль девятк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Цирковая акробатк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Если на голову встане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Цифрой шесть девятка станет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706760" y="4149720"/>
            <a:ext cx="42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42d"/>
                </a:solidFill>
                <a:latin typeface="Times New Roman"/>
              </a:rPr>
              <a:t>Девять</a:t>
            </a: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 человек - все равно, что </a:t>
            </a:r>
            <a:r>
              <a:rPr b="0" i="1" lang="ru-RU" sz="1800" spc="-1" strike="noStrike">
                <a:solidFill>
                  <a:srgbClr val="00642d"/>
                </a:solidFill>
                <a:latin typeface="Times New Roman"/>
              </a:rPr>
              <a:t>десяток</a:t>
            </a: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1692360" y="5084640"/>
            <a:ext cx="22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За тридевять земе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1763640" y="2395440"/>
            <a:ext cx="720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 – Меньщикова Э., Шорохов 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– Аверикова Е., Пермин 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– Дмитриева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– Саламатова Д., Воронкова 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– Глухова О., Королёв 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 – Нечаева В., Давлетов А., Гвоздева А., Сазонов 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 – Здорнова 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– Беляев К., Базарова 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 – Гущин 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– Мелихова К., Вартанян В., Трифонова 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Прямоугольник 5" descr=""/>
          <p:cNvPicPr/>
          <p:nvPr/>
        </p:nvPicPr>
        <p:blipFill>
          <a:blip r:embed="rId1"/>
          <a:stretch/>
        </p:blipFill>
        <p:spPr>
          <a:xfrm>
            <a:off x="1762200" y="225360"/>
            <a:ext cx="686412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2"/>
          <p:cNvSpPr/>
          <p:nvPr/>
        </p:nvSpPr>
        <p:spPr>
          <a:xfrm>
            <a:off x="1476360" y="1844640"/>
            <a:ext cx="748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Мы встречаем числа каждый день и в разных ситуац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Математика и числа имеют очень важное  значение в жизни людей. Без чисел нарушился бы порядок на Зем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В стихах, пословицах и поговорках числа встречаются очень час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Прямоугольник 5" descr=""/>
          <p:cNvPicPr/>
          <p:nvPr/>
        </p:nvPicPr>
        <p:blipFill>
          <a:blip r:embed="rId1"/>
          <a:stretch/>
        </p:blipFill>
        <p:spPr>
          <a:xfrm>
            <a:off x="3127320" y="341280"/>
            <a:ext cx="36752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547640" y="1859040"/>
            <a:ext cx="727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. Емельянова «Королевство чисел», издательство: Москва, 1999 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. Маршак «Весёлый счёт», издательство: Рид Групп, 2011 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ejka.ru/blog/stihi/184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poskart.ru/tsifry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riddle-middle.ru/topics/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pochemu4ka.ru/load/nachalnye_klassy/matemat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нько Елена Алексеевна сай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pedsovet.su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Прямоугольник 6" descr=""/>
          <p:cNvPicPr/>
          <p:nvPr/>
        </p:nvPicPr>
        <p:blipFill>
          <a:blip r:embed="rId1"/>
          <a:stretch/>
        </p:blipFill>
        <p:spPr>
          <a:xfrm>
            <a:off x="1938240" y="517680"/>
            <a:ext cx="64198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763640" y="692280"/>
            <a:ext cx="6912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76720" y="5734080"/>
            <a:ext cx="40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http://pedsovet.su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490760" y="549360"/>
            <a:ext cx="73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Segoe Print"/>
              </a:rPr>
              <a:t>Цель нашего проекта: </a:t>
            </a:r>
            <a:r>
              <a:rPr b="0" lang="ru-RU" sz="2400" spc="-1" strike="noStrike">
                <a:solidFill>
                  <a:srgbClr val="ff0000"/>
                </a:solidFill>
                <a:latin typeface="Segoe Prin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собрать всю необходимую информацию о числах, и на её основании составить собственную книгу «Числа в стихах, пословицах, поговорках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Segoe Print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Найти с помощью учителя и родителей стихи о числах от 0 до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Узнать, в каких пословицах, поговорках встречаются чис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Представить найденный материал на  уроке математи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Изготовить цифры из разных подручных материалов для выставки и составить книжку – малыш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1476360" y="189000"/>
            <a:ext cx="748836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атематика всюду! Мир без неё был бы неинтересен. Не было бы научных открытий. Люди не могли бы исследовать моря, океаны. А телевидение! Сплошная математика. Рекламы, бесконечные телесериалы, научные программы. Всё то, что так привлекает наше внимание. Математика издавна служила людям надёжным подспорьем в коммерческих расчетах. Помогала навигаторам определять положение судна в море, Землемерам - измерять земельные участки, Астрономам - составлять календари. Несколько десятков лет назад была объявлена  большая премия за сочинение на тему "Как человек без математики жил". Премия так и осталась не выданной, ибо, по-видимому, не нашлось ни одного сочинителя, который сумел бы описать жизнь человека, лишенного математических представлений. И действительно с математикой  мы встречаемся везде, на каждом шагу, с утра и до вечера. Просыпаясь, мы смотрим на часы; в трамвае или троллейбусе нужно рассчитаться за проезд; чтобы сделать покупку в магазине, нужно снова выполнять денежные расчёты и т.д. Без математики нельзя было бы изучить ни физику, ни географию, ни черчение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Где только не встретишь разные числа: на зданиях школы, на домах, на дверях квартир, на автобусах, трамваях, на телефонах, на страницах книг, газет, журналов, да всего и не перечислишь. С числами мы часто встречаемся и в школе и не только на уроках математики.  Как только мы откроем любой учебник, то увидим пронумерованные страницы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 общении друг с другом мы также употребляем числа в речи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А сколько стихов, загадок, сказок, пословиц, поговорок с числами мы слышали ещё до прихода в школу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1476360" y="476280"/>
            <a:ext cx="75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Segoe Print"/>
              </a:rPr>
              <a:t>Мы решили выяснить, в каких стихах, пословицах, поговорках встречаются числа и, используя собранный материал создать книжку – малышку «В мире чисел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Segoe Print"/>
              </a:rPr>
              <a:t>Стихи выделили синим цветом, пословицы – зелёным, поговорки коричнев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пк\Desktop\числа мои\Untitled-Scanned-14.jpg"/>
          <p:cNvPicPr/>
          <p:nvPr/>
        </p:nvPicPr>
        <p:blipFill>
          <a:blip r:embed="rId1"/>
          <a:stretch/>
        </p:blipFill>
        <p:spPr>
          <a:xfrm>
            <a:off x="1692360" y="549360"/>
            <a:ext cx="23749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3" descr="C:\Users\пк\Desktop\числа мои\Untitled-Scanned-20.jpg"/>
          <p:cNvPicPr/>
          <p:nvPr/>
        </p:nvPicPr>
        <p:blipFill>
          <a:blip r:embed="rId2"/>
          <a:stretch/>
        </p:blipFill>
        <p:spPr>
          <a:xfrm>
            <a:off x="4859280" y="4005360"/>
            <a:ext cx="3797280" cy="23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TextBox 3"/>
          <p:cNvSpPr/>
          <p:nvPr/>
        </p:nvSpPr>
        <p:spPr>
          <a:xfrm>
            <a:off x="4429800" y="549360"/>
            <a:ext cx="3032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олик – круглый, как земл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се считают от ну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Арифметика прос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Если ноль – ладонь пуст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Пишем «0» и ясно вс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Здесь чего-то нет совсем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 этой цифре нет уг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От того она круг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оль похож на букву 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ет в колечке ничего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22800" y="4908600"/>
            <a:ext cx="348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Ноль вним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Абсолютный ноль, круглый но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Ноль без палоч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водить к нулю, свести к нулю. 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Ничего не возникает из ничего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пк\Desktop\числа мои\Untitled-Scanned-09.jpg"/>
          <p:cNvPicPr/>
          <p:nvPr/>
        </p:nvPicPr>
        <p:blipFill>
          <a:blip r:embed="rId1"/>
          <a:stretch/>
        </p:blipFill>
        <p:spPr>
          <a:xfrm>
            <a:off x="1619280" y="333360"/>
            <a:ext cx="192564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3" descr="C:\Users\пк\Desktop\числа мои\Untitled-Scanned-03.jpg"/>
          <p:cNvPicPr/>
          <p:nvPr/>
        </p:nvPicPr>
        <p:blipFill>
          <a:blip r:embed="rId2"/>
          <a:stretch/>
        </p:blipFill>
        <p:spPr>
          <a:xfrm>
            <a:off x="6443640" y="3933720"/>
            <a:ext cx="2327400" cy="252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TextBox 3"/>
          <p:cNvSpPr/>
          <p:nvPr/>
        </p:nvSpPr>
        <p:spPr>
          <a:xfrm>
            <a:off x="3611160" y="336600"/>
            <a:ext cx="350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а льдине жил один пингв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Гулял по льдине он од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Скучал пингвин, грустил пингв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Среди снегов и белых льд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А был бы у него дружок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е так бы был он один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166640" y="2403360"/>
            <a:ext cx="483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Рисовал я единицу, получилась – ну и ну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астоящая ракета для полёта на луну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Как стрела, помчусь я в неб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Где ни разу до меня ни один мальчишка не бы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Самым первым буду 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659480" y="2071800"/>
            <a:ext cx="17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738800" y="5084640"/>
            <a:ext cx="39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Раз солгал – навек лгуном ста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Одно дерево срубишь – десять посад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Один за всех и все за одно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692360" y="4065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Одна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 нога тут, другая - там.</a:t>
            </a:r>
            <a:r>
              <a:rPr b="0" i="1" lang="ru-RU" sz="1800" spc="-1" strike="noStrike">
                <a:solidFill>
                  <a:srgbClr val="b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пк\Desktop\числа мои\Untitled-Scanned-06.jpg"/>
          <p:cNvPicPr/>
          <p:nvPr/>
        </p:nvPicPr>
        <p:blipFill>
          <a:blip r:embed="rId1"/>
          <a:stretch/>
        </p:blipFill>
        <p:spPr>
          <a:xfrm>
            <a:off x="1692360" y="981000"/>
            <a:ext cx="3576600" cy="485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8" name="TextBox 3"/>
          <p:cNvSpPr/>
          <p:nvPr/>
        </p:nvSpPr>
        <p:spPr>
          <a:xfrm>
            <a:off x="5874840" y="692280"/>
            <a:ext cx="27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ом с плотиной два бо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Строят с самого ут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ва бобра – работник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ва чудесных плот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5929200" y="24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А вот это цифра 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два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. 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Полюбуйтесь, какова: 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ыгибает 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двойка 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шею, 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олочится хвост за не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357960" y="1989000"/>
            <a:ext cx="17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6357960" y="3692520"/>
            <a:ext cx="17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443560" y="4149720"/>
            <a:ext cx="361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Два сапога – па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Дважды в год лета не быва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Как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 две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 капли воды.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От горшка 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два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 вершка.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алка о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 двух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 концах.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идеть меж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 двух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 стульев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пк\Desktop\числа мои\Untitled-Scanned-10.jpg"/>
          <p:cNvPicPr/>
          <p:nvPr/>
        </p:nvPicPr>
        <p:blipFill>
          <a:blip r:embed="rId1"/>
          <a:stretch/>
        </p:blipFill>
        <p:spPr>
          <a:xfrm>
            <a:off x="1619280" y="333360"/>
            <a:ext cx="2122560" cy="30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3" descr="C:\Users\пк\Desktop\числа мои\Untitled-Scanned-12.jpg"/>
          <p:cNvPicPr/>
          <p:nvPr/>
        </p:nvPicPr>
        <p:blipFill>
          <a:blip r:embed="rId2"/>
          <a:stretch/>
        </p:blipFill>
        <p:spPr>
          <a:xfrm>
            <a:off x="6732720" y="3860640"/>
            <a:ext cx="1990440" cy="26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TextBox 3"/>
          <p:cNvSpPr/>
          <p:nvPr/>
        </p:nvSpPr>
        <p:spPr>
          <a:xfrm>
            <a:off x="3915720" y="189000"/>
            <a:ext cx="337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Три размера ес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лина, высота и шир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ремя на три делят люд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Что прошло, что есть, что буд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о важней всего семь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Трое: папа, мама, 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4573440" y="1833480"/>
            <a:ext cx="17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351760" y="2433600"/>
            <a:ext cx="28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А за двойкой – посмотри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ыступает цифра тр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Тройка – третий из знач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Состоит из двух крючков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682640" y="426708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Хвастуну цена – три копей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Не узнавай друга в три дня – узнавай в три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681280" y="4832280"/>
            <a:ext cx="17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770480" y="5432400"/>
            <a:ext cx="32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Заблудиться в трёх сосн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лакать в три руч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Их третьих уст, из третьих ру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пк\Desktop\числа мои\Untitled-Scanned-13.jpg"/>
          <p:cNvPicPr/>
          <p:nvPr/>
        </p:nvPicPr>
        <p:blipFill>
          <a:blip r:embed="rId1"/>
          <a:stretch/>
        </p:blipFill>
        <p:spPr>
          <a:xfrm>
            <a:off x="1692360" y="692280"/>
            <a:ext cx="3095640" cy="54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TextBox 3"/>
          <p:cNvSpPr/>
          <p:nvPr/>
        </p:nvSpPr>
        <p:spPr>
          <a:xfrm>
            <a:off x="5656320" y="692280"/>
            <a:ext cx="24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Четыре – цифра мудр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Прекрасная и чудн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Кто на 4 учится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сё у того получитс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5076720" y="2428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Конь о </a:t>
            </a:r>
            <a:r>
              <a:rPr b="0" i="1" lang="ru-RU" sz="1800" spc="-1" strike="noStrike">
                <a:solidFill>
                  <a:srgbClr val="00642d"/>
                </a:solidFill>
                <a:latin typeface="Times New Roman"/>
              </a:rPr>
              <a:t>четырех</a:t>
            </a: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 ногах, да и т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спотыкается.</a:t>
            </a:r>
            <a:br>
              <a:rPr sz="1800"/>
            </a:b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Без </a:t>
            </a:r>
            <a:r>
              <a:rPr b="0" i="1" lang="ru-RU" sz="1800" spc="-1" strike="noStrike">
                <a:solidFill>
                  <a:srgbClr val="00642d"/>
                </a:solidFill>
                <a:latin typeface="Times New Roman"/>
              </a:rPr>
              <a:t>четырех</a:t>
            </a:r>
            <a:r>
              <a:rPr b="0" lang="ru-RU" sz="1800" spc="-1" strike="noStrike">
                <a:solidFill>
                  <a:srgbClr val="00642d"/>
                </a:solidFill>
                <a:latin typeface="Times New Roman"/>
              </a:rPr>
              <a:t> углов изба не рубится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5003640" y="41115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На все 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четыре 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тороны.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Жить в 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четырех 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тенах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796000" y="1892160"/>
            <a:ext cx="17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796000" y="3514680"/>
            <a:ext cx="17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</cp:lastModifiedBy>
  <dcterms:modified xsi:type="dcterms:W3CDTF">2014-04-29T16:05:15Z</dcterms:modified>
  <cp:revision>59</cp:revision>
  <dc:subject/>
  <dc:title>Слайд 1</dc:title>
</cp:coreProperties>
</file>