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A07-D40D-4FE4-B492-7DE075FC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E9D-B35D-4F03-B941-F4F61B9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CAD-748F-4567-BEBA-92438C82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369-0AB2-4C2E-9709-8E67B67B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AED1-4C78-49D8-BA26-CAA0A43F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249-AE25-49FA-88CE-B728A88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25BF-1F30-4DF8-BC9F-0650C0D7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5F1E-B83B-4893-A074-D9DDBB73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F644-E924-412A-8C8D-2802EF1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BC6F-35DE-44B2-8A5E-79872C1D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8840-7631-4629-91D8-0F18BA5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6CF-FFE8-43D7-B7BA-FF90C26A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F4A4-B4A7-4C6D-9DC1-7866F9E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2A74-436D-4768-8BAD-DEFE7D6E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BF8-E30C-46B8-BE22-27D96AC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E2B2-FCD4-48E1-B7C7-5D4F4CA4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D8C5-A09C-4140-A608-86C6CF30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7993-E48C-4E3D-875B-883384BD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DFAF-2EB9-4C7D-8748-FBFDC37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1FEC-2986-4F74-97D9-EBA0293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CEBD-5F2A-451C-8BD3-B58CFDD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8E8F-9F38-4D7E-973F-A23402D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B26-3E4C-48A7-A65F-FB8274B2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1BFD-4698-4148-9536-DB066BF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C149-E6FC-4975-84F2-EC0419B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C026-73D7-41F7-916C-55AB3C4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670B-299D-4150-B8E1-E8A46654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71F9-ECC9-438C-85E4-DAB98EE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85E9-2645-471D-9087-0B119EC7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CA2D-F09F-4D94-A289-4AB92A9A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0E118-0E86-4DB1-BA8E-B07D2619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E23A-2BFC-4A00-893D-ADC8E172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A6AF-3BBA-4FD2-96CF-9FF700CC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91A-3550-4B67-A35E-D3BDE9E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9860-A0B7-4996-A4EA-B4DF6C8A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9595-08B3-4ED2-99C7-5DF08F31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FC1D-E70B-4DC3-AFDD-08C61D4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9D2F-0E58-4B1A-A5BE-E7321DEA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975A-33A6-484E-B6BF-4D42FC8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62FF-65BC-47EA-8569-CEEB9FD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E048-DA77-4FDF-AEC4-8734F1A4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8C9B-D8E3-4923-97E1-CDDC9405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0731-6C74-4BA0-BCDC-5C7D2730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CF4AA-41F3-4090-A2A7-71BB1074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8EE-DA19-49B1-BE96-A85D2638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7145-F3A1-4CAB-A68B-0B44F185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079C3-D702-43B0-8C19-795E530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FE66-2DF2-41C3-BC63-74699D9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99362-6CC9-4614-9387-0A6ABEB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2F42-EC42-4CCC-8076-6A80329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EB5A-E6AF-4837-AB82-EC6F7D04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F398-77B5-4E2A-997C-2374BC8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31A18-CAD1-4523-8F78-9B8820A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6916-BC2A-42F2-857F-DB7F7982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58AD-BBB2-4E51-8A13-90B4E267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FF5-00D0-4379-8954-0E5E36B1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9FFED-6A8F-43C9-BEE1-7C2BCD32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BCB94A-6CF9-40A5-9455-194A46FB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1EFD7-2E1C-4590-B38D-D04222F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68FEBC-142B-4B89-A2FC-3FCFFCD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C10C6-51F8-4583-A6EB-19492DC8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4C7DC-1675-422C-B15A-CB2F4DEA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21B99-D9A8-4233-8C2B-5A7582AC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2F64E6-F09F-46D7-BC5A-D77D73E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61529-8FFE-406A-85CE-4E6501A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B5E94-C119-4577-9BB6-ABE5220D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A79-2BAE-4D1B-9F90-CFEF9940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2569B-7E7F-421D-87F5-614757BB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E7D70-6B98-475E-AC8F-E0895219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875D9-6F4A-4D2F-AA39-0B4D1DAD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2F93C-012B-4DAB-AFF8-F484EA23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53BB-42B4-4182-9C81-2884B7DF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416E5-6F9C-46F2-BE1C-7FE4E1CB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B4002-CF99-4450-B1CC-2C2268F3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75C5-2759-42FD-A7BB-3D2F3ED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EE5F6-F7E8-452F-9DEF-41B39A11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8260-B246-4A27-B024-B34B655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099-DEB7-4CE5-9CDF-19B7BF3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21B16-2F67-4396-9D3F-5575559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39F3-0235-4CFA-8093-DCD25E8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B986D-5C14-4710-8FB0-533904AF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64D30-F3C5-40C7-A653-88D4C4C7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152C4-9ABD-4433-A939-5DDB2FF8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A39-0EBD-47A6-B10A-D324F6EB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7B60-EFEC-4A45-A121-B2542E2295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2B4-7090-4EB8-8EA8-FF342112DD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101-9917-42D9-BD8A-7F9183116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C0FA-B744-455F-84E6-9E089114CB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3AF-516F-4598-B0F3-AE7801AA3D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6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AA2E-C61F-4CC5-9787-90B14E712F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dt" idx="1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D1D8-17EA-413A-B446-32578A1DBC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763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005c"/>
                </a:solidFill>
                <a:latin typeface="Arial"/>
              </a:rPr>
              <a:t>Материалы к урок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005c"/>
                </a:solidFill>
                <a:latin typeface="Arial"/>
              </a:rPr>
              <a:t>по истории и культуре Санкт-Петербур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690480" y="5943600"/>
            <a:ext cx="71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ГОУ СОШ № 313 Золотых Е. 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04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ковая скульп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7" descr="img_021"/>
          <p:cNvPicPr/>
          <p:nvPr/>
        </p:nvPicPr>
        <p:blipFill>
          <a:blip r:embed="rId1"/>
          <a:stretch/>
        </p:blipFill>
        <p:spPr>
          <a:xfrm>
            <a:off x="2133720" y="228600"/>
            <a:ext cx="5029200" cy="57326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8"/>
          <p:cNvSpPr/>
          <p:nvPr/>
        </p:nvSpPr>
        <p:spPr>
          <a:xfrm>
            <a:off x="380880" y="62485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8" descr="верхняя ванна"/>
          <p:cNvPicPr/>
          <p:nvPr/>
        </p:nvPicPr>
        <p:blipFill>
          <a:blip r:embed="rId1"/>
          <a:stretch/>
        </p:blipFill>
        <p:spPr>
          <a:xfrm>
            <a:off x="1055520" y="228600"/>
            <a:ext cx="2841840" cy="4495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нижняя ванна"/>
          <p:cNvPicPr/>
          <p:nvPr/>
        </p:nvPicPr>
        <p:blipFill>
          <a:blip r:embed="rId2"/>
          <a:stretch/>
        </p:blipFill>
        <p:spPr>
          <a:xfrm>
            <a:off x="4572000" y="304920"/>
            <a:ext cx="3932280" cy="3176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эрмитаж"/>
          <p:cNvPicPr/>
          <p:nvPr/>
        </p:nvPicPr>
        <p:blipFill>
          <a:blip r:embed="rId3"/>
          <a:stretch/>
        </p:blipFill>
        <p:spPr>
          <a:xfrm>
            <a:off x="5181480" y="4191120"/>
            <a:ext cx="3125880" cy="2187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1"/>
          <p:cNvSpPr/>
          <p:nvPr/>
        </p:nvSpPr>
        <p:spPr>
          <a:xfrm>
            <a:off x="45720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хняя ван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800600" y="36576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жняя ван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5029200" y="6400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мита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34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грот"/>
          <p:cNvPicPr/>
          <p:nvPr/>
        </p:nvPicPr>
        <p:blipFill>
          <a:blip r:embed="rId1"/>
          <a:stretch/>
        </p:blipFill>
        <p:spPr>
          <a:xfrm>
            <a:off x="762120" y="228600"/>
            <a:ext cx="3093840" cy="2514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эрмитажная кухня"/>
          <p:cNvPicPr/>
          <p:nvPr/>
        </p:nvPicPr>
        <p:blipFill>
          <a:blip r:embed="rId2"/>
          <a:stretch/>
        </p:blipFill>
        <p:spPr>
          <a:xfrm>
            <a:off x="533520" y="34290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ворота"/>
          <p:cNvPicPr/>
          <p:nvPr/>
        </p:nvPicPr>
        <p:blipFill>
          <a:blip r:embed="rId3"/>
          <a:stretch/>
        </p:blipFill>
        <p:spPr>
          <a:xfrm>
            <a:off x="5105520" y="34290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5"/>
          <p:cNvSpPr/>
          <p:nvPr/>
        </p:nvSpPr>
        <p:spPr>
          <a:xfrm>
            <a:off x="762120" y="2819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380880" y="6324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митажная кух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4952880" y="3040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ейская колон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4800600" y="6019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 Любезным моим сослуживца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0" descr="3828712654557"/>
          <p:cNvPicPr/>
          <p:nvPr/>
        </p:nvPicPr>
        <p:blipFill>
          <a:blip r:embed="rId4"/>
          <a:stretch/>
        </p:blipFill>
        <p:spPr>
          <a:xfrm>
            <a:off x="5638680" y="228600"/>
            <a:ext cx="2514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73152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Чесменская колонна"/>
          <p:cNvPicPr/>
          <p:nvPr/>
        </p:nvPicPr>
        <p:blipFill>
          <a:blip r:embed="rId1"/>
          <a:stretch/>
        </p:blipFill>
        <p:spPr>
          <a:xfrm>
            <a:off x="5257800" y="304920"/>
            <a:ext cx="3200400" cy="4876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башня -руина"/>
          <p:cNvPicPr/>
          <p:nvPr/>
        </p:nvPicPr>
        <p:blipFill>
          <a:blip r:embed="rId2"/>
          <a:stretch/>
        </p:blipFill>
        <p:spPr>
          <a:xfrm>
            <a:off x="2057400" y="342900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Кагульский обелиск"/>
          <p:cNvPicPr/>
          <p:nvPr/>
        </p:nvPicPr>
        <p:blipFill>
          <a:blip r:embed="rId3"/>
          <a:stretch/>
        </p:blipFill>
        <p:spPr>
          <a:xfrm>
            <a:off x="304920" y="15228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3"/>
          <p:cNvSpPr/>
          <p:nvPr/>
        </p:nvSpPr>
        <p:spPr>
          <a:xfrm>
            <a:off x="380880" y="2743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гульский обелис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152280" y="4114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ня- ру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5486400" y="5638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сменская колон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8" descr="фонтан"/>
          <p:cNvPicPr/>
          <p:nvPr/>
        </p:nvPicPr>
        <p:blipFill>
          <a:blip r:embed="rId1"/>
          <a:stretch/>
        </p:blipFill>
        <p:spPr>
          <a:xfrm>
            <a:off x="304920" y="380880"/>
            <a:ext cx="4267080" cy="53341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скрипучая беседка"/>
          <p:cNvPicPr/>
          <p:nvPr/>
        </p:nvPicPr>
        <p:blipFill>
          <a:blip r:embed="rId2"/>
          <a:stretch/>
        </p:blipFill>
        <p:spPr>
          <a:xfrm>
            <a:off x="5181480" y="380880"/>
            <a:ext cx="3276720" cy="2667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Орловские ворота"/>
          <p:cNvPicPr/>
          <p:nvPr/>
        </p:nvPicPr>
        <p:blipFill>
          <a:blip r:embed="rId3"/>
          <a:stretch/>
        </p:blipFill>
        <p:spPr>
          <a:xfrm>
            <a:off x="5181480" y="3657600"/>
            <a:ext cx="3429000" cy="2568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1"/>
          <p:cNvSpPr/>
          <p:nvPr/>
        </p:nvSpPr>
        <p:spPr>
          <a:xfrm>
            <a:off x="304920" y="6019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тан Девушка с кувшин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5257800" y="3192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рипучая бесед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51055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овские воро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Александровский парк"/>
          <p:cNvPicPr/>
          <p:nvPr/>
        </p:nvPicPr>
        <p:blipFill>
          <a:blip r:embed="rId1"/>
          <a:stretch/>
        </p:blipFill>
        <p:spPr>
          <a:xfrm>
            <a:off x="304920" y="228600"/>
            <a:ext cx="8477280" cy="5638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овский па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581640" y="-961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Драконов мост"/>
          <p:cNvPicPr/>
          <p:nvPr/>
        </p:nvPicPr>
        <p:blipFill>
          <a:blip r:embed="rId1"/>
          <a:stretch/>
        </p:blipFill>
        <p:spPr>
          <a:xfrm>
            <a:off x="457200" y="15228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Китайский мост"/>
          <p:cNvPicPr/>
          <p:nvPr/>
        </p:nvPicPr>
        <p:blipFill>
          <a:blip r:embed="rId2"/>
          <a:stretch/>
        </p:blipFill>
        <p:spPr>
          <a:xfrm>
            <a:off x="609480" y="3657600"/>
            <a:ext cx="4038840" cy="2644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крестовый мост"/>
          <p:cNvPicPr/>
          <p:nvPr/>
        </p:nvPicPr>
        <p:blipFill>
          <a:blip r:embed="rId3"/>
          <a:stretch/>
        </p:blipFill>
        <p:spPr>
          <a:xfrm>
            <a:off x="5410080" y="3733920"/>
            <a:ext cx="3200400" cy="2590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1"/>
          <p:cNvPicPr/>
          <p:nvPr/>
        </p:nvPicPr>
        <p:blipFill>
          <a:blip r:embed="rId4"/>
          <a:stretch/>
        </p:blipFill>
        <p:spPr>
          <a:xfrm>
            <a:off x="5105520" y="152280"/>
            <a:ext cx="3352680" cy="2971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3"/>
          <p:cNvSpPr/>
          <p:nvPr/>
        </p:nvSpPr>
        <p:spPr>
          <a:xfrm>
            <a:off x="990720" y="3276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аконов мос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457200" y="64692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ий мос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5562720" y="6477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овый мос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100"/>
                            </p:stCondLst>
                            <p:childTnLst>
                              <p:par>
                                <p:cTn id="3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1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600"/>
                            </p:stCondLst>
                            <p:childTnLst>
                              <p:par>
                                <p:cTn id="3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6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28240" y="68580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6" descr="Китайский театр"/>
          <p:cNvPicPr/>
          <p:nvPr/>
        </p:nvPicPr>
        <p:blipFill>
          <a:blip r:embed="rId1"/>
          <a:stretch/>
        </p:blipFill>
        <p:spPr>
          <a:xfrm>
            <a:off x="457200" y="1905120"/>
            <a:ext cx="3112920" cy="4114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Китайская деревня"/>
          <p:cNvPicPr/>
          <p:nvPr/>
        </p:nvPicPr>
        <p:blipFill>
          <a:blip r:embed="rId2"/>
          <a:stretch/>
        </p:blipFill>
        <p:spPr>
          <a:xfrm>
            <a:off x="4802040" y="380880"/>
            <a:ext cx="3730680" cy="38862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8"/>
          <p:cNvSpPr/>
          <p:nvPr/>
        </p:nvSpPr>
        <p:spPr>
          <a:xfrm>
            <a:off x="762120" y="609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ий теат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 flipV="1">
            <a:off x="762120" y="10530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334120" y="45720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 дерев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9" descr="гора Парнас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5486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Болльшой и малый капризы"/>
          <p:cNvPicPr/>
          <p:nvPr/>
        </p:nvPicPr>
        <p:blipFill>
          <a:blip r:embed="rId2"/>
          <a:stretch/>
        </p:blipFill>
        <p:spPr>
          <a:xfrm>
            <a:off x="4876920" y="380880"/>
            <a:ext cx="3638520" cy="51055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30492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а Парна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876920" y="6019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и Малый каприз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1" descr="арсенал"/>
          <p:cNvPicPr/>
          <p:nvPr/>
        </p:nvPicPr>
        <p:blipFill>
          <a:blip r:embed="rId1"/>
          <a:stretch/>
        </p:blipFill>
        <p:spPr>
          <a:xfrm>
            <a:off x="609480" y="304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shapel"/>
          <p:cNvPicPr/>
          <p:nvPr/>
        </p:nvPicPr>
        <p:blipFill>
          <a:blip r:embed="rId2"/>
          <a:stretch/>
        </p:blipFill>
        <p:spPr>
          <a:xfrm>
            <a:off x="5867280" y="228600"/>
            <a:ext cx="2667240" cy="2895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пенсионерная конюшня"/>
          <p:cNvPicPr/>
          <p:nvPr/>
        </p:nvPicPr>
        <p:blipFill>
          <a:blip r:embed="rId3"/>
          <a:stretch/>
        </p:blipFill>
        <p:spPr>
          <a:xfrm>
            <a:off x="1600200" y="3581280"/>
            <a:ext cx="2514600" cy="2721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кладбище лошадей"/>
          <p:cNvPicPr/>
          <p:nvPr/>
        </p:nvPicPr>
        <p:blipFill>
          <a:blip r:embed="rId4"/>
          <a:stretch/>
        </p:blipFill>
        <p:spPr>
          <a:xfrm>
            <a:off x="5562720" y="36576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5"/>
          <p:cNvSpPr/>
          <p:nvPr/>
        </p:nvSpPr>
        <p:spPr>
          <a:xfrm>
            <a:off x="380880" y="3200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сена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5943600" y="3200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п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304920" y="63244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сионерная конюш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4952880" y="64771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дбище лоша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11"/>
          <p:cNvSpPr txBox="1"/>
          <p:nvPr/>
        </p:nvSpPr>
        <p:spPr>
          <a:xfrm>
            <a:off x="1219320" y="228600"/>
            <a:ext cx="6724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городы-Санкт Петербурга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3" name="Picture 41" descr="MPj01484480000[1]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3252600"/>
          </a:xfrm>
          <a:prstGeom prst="rect">
            <a:avLst/>
          </a:prstGeom>
          <a:ln w="0">
            <a:noFill/>
          </a:ln>
        </p:spPr>
      </p:pic>
      <p:sp>
        <p:nvSpPr>
          <p:cNvPr id="324" name="WordArt 86"/>
          <p:cNvSpPr txBox="1"/>
          <p:nvPr/>
        </p:nvSpPr>
        <p:spPr>
          <a:xfrm rot="21446400">
            <a:off x="1785960" y="4838760"/>
            <a:ext cx="5148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67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арское село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67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7" descr="детский домик"/>
          <p:cNvPicPr/>
          <p:nvPr/>
        </p:nvPicPr>
        <p:blipFill>
          <a:blip r:embed="rId1"/>
          <a:stretch/>
        </p:blipFill>
        <p:spPr>
          <a:xfrm>
            <a:off x="457200" y="685800"/>
            <a:ext cx="4038480" cy="5029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комплекс фермы1"/>
          <p:cNvPicPr/>
          <p:nvPr/>
        </p:nvPicPr>
        <p:blipFill>
          <a:blip r:embed="rId2"/>
          <a:stretch/>
        </p:blipFill>
        <p:spPr>
          <a:xfrm>
            <a:off x="4648320" y="685800"/>
            <a:ext cx="4038480" cy="50292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9"/>
          <p:cNvSpPr/>
          <p:nvPr/>
        </p:nvSpPr>
        <p:spPr>
          <a:xfrm>
            <a:off x="457200" y="6240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ский дом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5029200" y="6172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ферм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42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6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ское село связано с юностью великого поэта. Здесь, в Лицее, он учился, по аллеям парка гулял с друзьями, здесь начал писать сти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 безмятежно расцвет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те дни, когда в садах Лиц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лиз вод, сиявших в тишин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вляться муза стала м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500"/>
                            </p:stCondLst>
                            <p:childTnLst>
                              <p:par>
                                <p:cTn id="5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лицей"/>
          <p:cNvPicPr/>
          <p:nvPr/>
        </p:nvPicPr>
        <p:blipFill>
          <a:blip r:embed="rId1"/>
          <a:stretch/>
        </p:blipFill>
        <p:spPr>
          <a:xfrm>
            <a:off x="304920" y="762120"/>
            <a:ext cx="4038480" cy="3962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памятник А"/>
          <p:cNvPicPr/>
          <p:nvPr/>
        </p:nvPicPr>
        <p:blipFill>
          <a:blip r:embed="rId2"/>
          <a:stretch/>
        </p:blipFill>
        <p:spPr>
          <a:xfrm>
            <a:off x="4648320" y="68580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9"/>
          <p:cNvSpPr/>
          <p:nvPr/>
        </p:nvSpPr>
        <p:spPr>
          <a:xfrm>
            <a:off x="457200" y="5478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4952880" y="6240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А. С. Пушкин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1918году Царское село переименовали в Детское село, в 1937году, когда отмечалось столетие со дня гибели Пушкина,городу присвоили имя великого поэ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 flipH="1">
            <a:off x="9143280" y="457200"/>
            <a:ext cx="794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Ижорской земле находилась Сарская мыза. Отсюда ведёт своё начало Царское село.К середине 18века оно сформировалось в дворцово-парковый ансам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920" y="56383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катерининский дворе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4" descr="MPj04251840000[1]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311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717году под руководством архитектора И.-Ф. Браунштейна началось строительство первого каменного царского дома,вошедшего в историю под названием «каменных палат» Екатерины Первой.В1724году строительство завершилось. В то время дворец был двухэтажным. При Елизавете Петровне было принято расширить з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 Сарском селе я построил большой дворец в камне в три этажа»,- так писал Ф.-Б. Растрелли, создатель Большого Екатерининского дво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ротянулся более чем на 300метров. Множество окон, белоснежных колонн, обилие скульптуры, ваз,позолоты создают впечатление легкости и праздничности. Строили дворец крепостные крестьяне, солдаты, мастеровые, трудились архитекторы, мастера- резчики, паркетчики, лепщики, худож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парадная лестница"/>
          <p:cNvPicPr/>
          <p:nvPr/>
        </p:nvPicPr>
        <p:blipFill>
          <a:blip r:embed="rId1"/>
          <a:stretch/>
        </p:blipFill>
        <p:spPr>
          <a:xfrm>
            <a:off x="685800" y="1066680"/>
            <a:ext cx="3687840" cy="4191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янтарная комната"/>
          <p:cNvPicPr/>
          <p:nvPr/>
        </p:nvPicPr>
        <p:blipFill>
          <a:blip r:embed="rId2"/>
          <a:stretch/>
        </p:blipFill>
        <p:spPr>
          <a:xfrm>
            <a:off x="5181480" y="838080"/>
            <a:ext cx="3276720" cy="2222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img_014"/>
          <p:cNvPicPr/>
          <p:nvPr/>
        </p:nvPicPr>
        <p:blipFill>
          <a:blip r:embed="rId3"/>
          <a:stretch/>
        </p:blipFill>
        <p:spPr>
          <a:xfrm>
            <a:off x="5234040" y="3903840"/>
            <a:ext cx="2741400" cy="2180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1"/>
          <p:cNvSpPr/>
          <p:nvPr/>
        </p:nvSpPr>
        <p:spPr>
          <a:xfrm>
            <a:off x="685800" y="54864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380880" y="5562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дная лестн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5257800" y="3200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тарная комна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541008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цовая церков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ександровский д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Александровский дворец"/>
          <p:cNvPicPr/>
          <p:nvPr/>
        </p:nvPicPr>
        <p:blipFill>
          <a:blip r:embed="rId1"/>
          <a:stretch/>
        </p:blipFill>
        <p:spPr>
          <a:xfrm>
            <a:off x="343080" y="22860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 flipH="1">
            <a:off x="9127440" y="99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рец был заложен в 1792 году по распоряжению Екатерины Второй и строился к бракосочетанию её внука, великого князя Александра Павловича(будущего императора Александра Первого) с княжной Елизаветой Алексе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илось Царское село и прекрасными пар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589"/>
          <p:cNvPicPr/>
          <p:nvPr/>
        </p:nvPicPr>
        <p:blipFill>
          <a:blip r:embed="rId1"/>
          <a:stretch/>
        </p:blipFill>
        <p:spPr>
          <a:xfrm>
            <a:off x="1523880" y="1676520"/>
            <a:ext cx="5639040" cy="41925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7"/>
          <p:cNvSpPr/>
          <p:nvPr/>
        </p:nvSpPr>
        <p:spPr>
          <a:xfrm>
            <a:off x="1676520" y="63244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инский пар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3-01-04T11:01:4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