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E5BF-5E61-4356-A731-C62F2025E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395A-CE95-4854-AFBD-E1041E79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E917-0734-4E7F-86A0-9BD84FB83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D6ED-3E4B-4850-AE50-35422C80A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AA91-35E3-4CFC-9B9E-632511C87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24C5-B099-4C09-A780-A48DD326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110B-3B5B-4FA8-8BED-0697F710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2320E-E8F6-4974-851D-D926FD91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BE84-C08C-42A2-8973-264C90A0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CE21-BCAB-4CFB-92FD-C86B5265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6DEB-0BD8-4F5C-8C40-FF1F5CFE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FFEF-CEF4-4852-980D-90870DF0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A851-3617-471B-B90F-F3A22711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D8DB-25A8-4567-A702-2D99C57C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24BB-57E3-444A-9E85-141C7A6B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85B2D-A5AE-42C7-AE7C-C02454192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E7E66-4A6D-4FC0-AD4F-47006AD74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8BA6-F978-4CED-9069-8DCBE09B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5C39-D641-4583-B897-107A9030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28E4-819A-4A47-ACDC-CAD9F979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2E26-958C-440B-A1F0-84486F21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B480-F014-4569-8475-9F49C072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0CD7-2CEA-4C0C-A072-78340C10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CA8E-A196-4B0B-BAD0-43DF44C2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6CC6-0581-4EA1-B619-D6799E29CBE6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CA92-A866-49AB-9FA5-3690CC68896B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304920" y="44956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Кригер Елена Викторовна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28600" y="1371600"/>
            <a:ext cx="723888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3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2f1311"/>
                  </a:solidFill>
                  <a:miter/>
                </a:ln>
                <a:solidFill>
                  <a:srgbClr val="ff0066"/>
                </a:solidFill>
                <a:latin typeface="Impact"/>
              </a:rPr>
              <a:t>Семья и школа</a:t>
            </a:r>
            <a:endParaRPr b="0" lang="en-US" sz="4000" spc="1" strike="noStrike">
              <a:ln w="9360">
                <a:solidFill>
                  <a:srgbClr val="2f1311"/>
                </a:solidFill>
                <a:miter/>
              </a:ln>
              <a:solidFill>
                <a:srgbClr val="ff0066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2f1311"/>
                  </a:solidFill>
                  <a:miter/>
                </a:ln>
                <a:solidFill>
                  <a:srgbClr val="ff0066"/>
                </a:solidFill>
                <a:latin typeface="Impact"/>
              </a:rPr>
              <a:t> </a:t>
            </a:r>
            <a:r>
              <a:rPr b="0" lang="en-US" sz="4000" spc="1" strike="noStrike">
                <a:ln w="9360">
                  <a:solidFill>
                    <a:srgbClr val="2f1311"/>
                  </a:solidFill>
                  <a:miter/>
                </a:ln>
                <a:solidFill>
                  <a:srgbClr val="ff0066"/>
                </a:solidFill>
                <a:latin typeface="Impact"/>
              </a:rPr>
              <a:t>в формировании личности</a:t>
            </a:r>
            <a:endParaRPr b="0" lang="en-US" sz="4000" spc="1" strike="noStrike">
              <a:ln w="9360">
                <a:solidFill>
                  <a:srgbClr val="2f1311"/>
                </a:solidFill>
                <a:miter/>
              </a:ln>
              <a:solidFill>
                <a:srgbClr val="ff0066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2f1311"/>
                  </a:solidFill>
                  <a:miter/>
                </a:ln>
                <a:solidFill>
                  <a:srgbClr val="ff0066"/>
                </a:solidFill>
                <a:latin typeface="Impact"/>
              </a:rPr>
              <a:t> </a:t>
            </a:r>
            <a:r>
              <a:rPr b="0" lang="en-US" sz="4000" spc="1" strike="noStrike">
                <a:ln w="9360">
                  <a:solidFill>
                    <a:srgbClr val="2f1311"/>
                  </a:solidFill>
                  <a:miter/>
                </a:ln>
                <a:solidFill>
                  <a:srgbClr val="ff0066"/>
                </a:solidFill>
                <a:latin typeface="Impact"/>
              </a:rPr>
              <a:t>ребенка.</a:t>
            </a:r>
            <a:endParaRPr b="0" lang="en-US" sz="4000" spc="1" strike="noStrike">
              <a:ln w="9360">
                <a:solidFill>
                  <a:srgbClr val="2f1311"/>
                </a:solidFill>
                <a:miter/>
              </a:ln>
              <a:solidFill>
                <a:srgbClr val="ff0066"/>
              </a:solidFill>
              <a:latin typeface="Impact"/>
              <a:ea typeface="Impact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533520"/>
            <a:ext cx="670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МКОУ «Мокшинская СОШ»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Любинского  муниципального район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Омской области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80880" y="146160"/>
            <a:ext cx="6985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В настоящее время большинство семей озабочено решением проблем экономического, а порой и физического выживания, усилилась социальная тенденция самоустранения многих родителей от решения вопросов воспитания и личностного развития ребёнка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Родители, не владея в достаточной мере знанием возрастных и индивидуальных особенностей развития ребёнка, порой осуществляют воспитание вслепую, интуитивно. Всё это, как правило, не приносит позитивных результатов. В таких семьях нет прочных межличностных связей между родителями и детьми и, как следствие, "авторитетом" становится внешнее, зачастую негативное окружение, что приводит к "выходу" ребёнка из-под влияния семь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880" y="557640"/>
            <a:ext cx="7086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Создавшееся положение наряду с другими объективными и субъективными причинами способствует росту детской безнадзорности, преступности, наркомании и других негативных явлений в детской, подростковой и молодёжной среде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Кроме того, далеко не все образовательные учреждения уделяют должное внимание совершенствованию воспитательного процесса, выстраиванию на должном уровне отношений с семьёй и другими социальными институтами. Вследствие этого происходит отчуждение семьи от образовательных учреждений, педагогов - от семьи, семьи - от интересов творческого и свободного развития личности ребёнк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28600" y="554400"/>
            <a:ext cx="7467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Деятельность родителей и педагогов в интересах ребёнка может быть успешной только в том случае, если они станут союзниками. Это позволит им лучше узнать ребёнка, увидеть его в разных ситуациях и таким образом помочь взрослым в понимании индивидуальных особенностей детей, развитии их способностей, формировании ценностных жизненных ориентиров, преодолении негативных поступков и проявлений в поведении. </a:t>
            </a: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Педагогам важно установить партнёрские отношения с семьёй каждого воспитанника. Создать атмосферу взаимоподдержки и общности интересов. Именно семья с раннего детства призвана заложить в ребёнка нравственные ценности, ориентиры на построение разумного образа жизн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28600" y="532080"/>
            <a:ext cx="7335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Задача учителя состоит в том, чтобы, во-первых, привлечь всех родителей к совместной работе, разъяснить ее значение в тех семьях, которые недостаточно осознают, недооценивают ведущуюся в школе воспитательную работу с их детьми, и, во-вторых, используя заинтересованность родителей в обучении и правильном воспитании их детей, научить их методам регулярной помощи школе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04920" y="977040"/>
            <a:ext cx="73483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В образовательных учреждениях проблемами взаимодействия с семьёй занимаются в соответствии со своими должностными обязанностями заместитель директора по воспитательной работе,  учитель, социальный педагог, педагог-психолог и, конечно, классные руководители. В их задачу входит создание условий для творческого развития детей, защита их прав, решение актуальных проблем воспитания учащихся и многое другое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57200" y="996840"/>
            <a:ext cx="7010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Взаимоотношения семьи и школы важны не только в первые годы пребывания ребенка в школе, когда он еще не приобрел нужной способности к самоуправлению своими чувствами и поведением. Актуальными они остаются и в старшем возрасте, ведь зачастую именно в школе у ребенка появляется шанс для самовыражения, проявления своих талантов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57200" y="851760"/>
            <a:ext cx="69343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Школа ставит перед собой много задач: и воспитательные, и учебные, и просветительские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Школа может помочь родителям при решении ими многих вопросов воспитания детей, но она никогда не сможет конкурировать с семьей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Именно семья является самым мощным средством в формировании личности ребенк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57200" y="573480"/>
            <a:ext cx="71629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</a:rPr>
              <a:t>Жизнь и наука доказали, что все беды у детей, а потом и у взрослых объясняются ошибками семейного воспитания, главная из которых — отсутствие любви и неумение хвалить и поддерживать своих детей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</a:rPr>
              <a:t>Как часто мы сталкиваемся с одной и той же проблемой, читаем детям нотации о том, как надо себя вести, даем им полезные советы, предостерегаем от ошибок, а в итоге получаем противоположные результаты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</a:rPr>
              <a:t>В чем здесь причина? Может быть, все дело в том, что наши поступки не всегда соответствуют тому, о чем мы говорим?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</a:rPr>
              <a:t>Дети — наши постоянные свидетели, они видят наши падения, срывы, провалы, как бы мы ни старались это скрыть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28240" y="838080"/>
            <a:ext cx="7467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2f1311"/>
                </a:solidFill>
                <a:latin typeface="Times New Roman"/>
              </a:rPr>
              <a:t>Семья для ребёнка – это не только место его рождения, но и основная среда его обитания и развития.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2f1311"/>
                </a:solidFill>
                <a:latin typeface="Times New Roman"/>
              </a:rPr>
              <a:t>Каким будет воспитание – позитивным или негативным зависит от семьи.</a:t>
            </a:r>
            <a:r>
              <a:rPr b="0" lang="en-US" sz="4000" spc="-1" strike="noStrike">
                <a:solidFill>
                  <a:srgbClr val="2f1311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28600" y="610560"/>
            <a:ext cx="73915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«Искусство воспитания имеет ту особенность, что почти всем оно кажется делом знакомым и понятным, а иным даже делом легким — и тем понятнее и легче кажется оно, чем менее человек с ним знаком, теоретически или практически. Почти все признают, что воспитание требует терпения; некоторые думают, что для него нужны врожденная способность и умение, то есть навык; но весьма немногие пришли к убеждению, что, кроме терпения, врожденной способности и навыка, необходимы еще и специальные знания» К. Д. Ушинский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28600" y="732600"/>
            <a:ext cx="7543800" cy="53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f1311"/>
                </a:solidFill>
                <a:latin typeface="Times New Roman"/>
              </a:rPr>
              <a:t>Каковы же функции семьи?</a:t>
            </a:r>
            <a:r>
              <a:rPr b="0" lang="en-US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Психологи чаще всего приписывают семье следующие функции: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порождение и воспитание детей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сохранение, развитие и передача последующим поколениям ценностей и традиций общества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реализация социального воспитательного потенциала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ощущение ценности и значимости собственного Я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удовлетворение потребностей в совместном проведение досуга и т.д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28600" y="1165320"/>
            <a:ext cx="75438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Семья всегда играет кардинальную роль в формировании личности ребёнка, обладая большими возможностями. В семье человек усваивает нормы и правила человеческого поведения. Здесь он приобщается к культуре. В семье человеческие ценности, убеждения, идеалы превращаются в личностные характеристики, формируют дальнейшие жизненные поступки и поведение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Семья является не только объектом, но и субъектом своего развития и самостоятельного решения своих проблем. Она обязана содействовать реализации прав и интересов детей, на неё возлагается ответственность за обучение и воспитание детей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170280"/>
            <a:ext cx="71103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Человек не рождается личностью. Развитие личности происходит в течение всей жизни по мере его прохождения через различные социальные институты (семья, детский сад, школа). На каждом этапе развития ребенок находится независимо от него существующих условий и подвергается системе воздействия как со стороны управляемых внешних, так и внутренних факторов. Этот процесс приводит к появлению моральных, интеллектуальных, эстетических убеждений, которые становятся мотивом поведения и деятельности человек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80880" y="740160"/>
            <a:ext cx="7239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Успешное решение задач воспитания возможно только при условии взаимодействия семьи и школы. Сотрудничество семьи и школы становится все более актуальным и востребованным. Для полноценного прохождения процесса обучения и формирования личности ребенка необходим соответствующий микроклимат между педагогами и обучающимися, самими обучающимися, образовательным учреждением и семьей в целом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Семья - часть общечеловеческого коллектива, важнейший институт социализации подрастающего поколения. Какую бы сторону развития мы не взяли, всегда окажется, что решающая роль его эффективности на том или ином этапе играет семья.          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85800" y="527760"/>
            <a:ext cx="6902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В соответствии с законом РФ «Об образовании» развитие личности ребёнка является одним из приоритетных принципов государственной политики. Его реализация возможна лишь при условии объединения усилий всех заинтересованных в развитии личности ребенка социальных и государственных институтов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Образовательное учреждение должно стать открытой социально-педагогической системой, где преобладают тенденции к расширению и укреплению взаимодействия между семьей, общественными организациями, органами власти, и создает все необходимые условия для личностного роста ребенк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-4541760" y="3246480"/>
            <a:ext cx="1839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618120"/>
            <a:ext cx="7132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Эффективность воспитания ребенка  зависит от того, насколько тесно взаимодействуют школа и семья.  Ведущую роль в организации сотрудничества школы и семьи играют классные руководители. Именно от их работы зависит то, насколько семьи понимают политику, проводимую школой по отношению к воспитанию, обучению детей, и участвуют в ее реализаци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При этом семья должна рассматриваться как главный заказчик и союзник в воспитании детей, а объединение усилий родителей и педагогов создаст благоприятные условия для развития ребенка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Функции классного руководителя разнообразны, работа с семьями своих учеников - важное направление его деятельност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1T05:58:40Z</dcterms:created>
  <dc:creator>Лена</dc:creator>
  <dc:description/>
  <dc:language>en-US</dc:language>
  <cp:lastModifiedBy>Лена</cp:lastModifiedBy>
  <dcterms:modified xsi:type="dcterms:W3CDTF">2012-05-01T18:46:0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