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4F9-EED4-4A52-BB09-79791B1F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123-B83C-49FD-A596-31583B08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6FC-8E4F-4130-91D9-86269751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AD0-CE0F-4054-B6FE-D3B35FA3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D9E-5CBF-4623-8E94-BE1B3BA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839-0DAD-4E79-943F-C4881A3D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466-FBA1-4EDF-B908-A053965F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CF7-C0C7-4C85-ABB5-2E7C5B10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9AF-8054-4A66-B6B4-85979ECD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FE6-D23E-4DE9-BD6B-B8CBB810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9F4-4060-4E0D-A61F-31EC6F4F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B1E-8ACD-448C-9CA2-DCEF50F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CC5B-92E3-4653-9CE1-CA1C6D891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du.convdocs.org/docs/1162/index-12326.html?page=8" TargetMode="External"/><Relationship Id="rId2" Type="http://schemas.openxmlformats.org/officeDocument/2006/relationships/hyperlink" Target="http://www.getmovies.ru/details.aspx?item=98906" TargetMode="External"/><Relationship Id="rId3" Type="http://schemas.openxmlformats.org/officeDocument/2006/relationships/hyperlink" Target="http://video.yandex.ru/users/morkovina-98/collection/3/?p=1" TargetMode="External"/><Relationship Id="rId4" Type="http://schemas.openxmlformats.org/officeDocument/2006/relationships/hyperlink" Target="http://jizasi.teleskoro.ru/20377.html" TargetMode="External"/><Relationship Id="rId5" Type="http://schemas.openxmlformats.org/officeDocument/2006/relationships/hyperlink" Target="http://ekadetka.ru/katalog/aktivnie-igri/myachi/myach-dlya-fitnesa-s-ruchkoi-nusha-55sm.html" TargetMode="External"/><Relationship Id="rId6" Type="http://schemas.openxmlformats.org/officeDocument/2006/relationships/hyperlink" Target="http://www.liveinternet.ru/users/3718688/rubric/4104137/" TargetMode="External"/><Relationship Id="rId7" Type="http://schemas.openxmlformats.org/officeDocument/2006/relationships/hyperlink" Target="http://thinkiteasy.ru/?p=11" TargetMode="External"/><Relationship Id="rId8" Type="http://schemas.openxmlformats.org/officeDocument/2006/relationships/hyperlink" Target="http://thinkiteasy.ru/?p=11" TargetMode="External"/><Relationship Id="rId9" Type="http://schemas.openxmlformats.org/officeDocument/2006/relationships/hyperlink" Target="http://thinkiteasy.ru/?p=11" TargetMode="External"/><Relationship Id="rId10" Type="http://schemas.openxmlformats.org/officeDocument/2006/relationships/hyperlink" Target="http://thinkiteasy.ru/?p=11" TargetMode="External"/><Relationship Id="rId11" Type="http://schemas.openxmlformats.org/officeDocument/2006/relationships/hyperlink" Target="http://home-secret.ru/2011/06/24/gde-organizovat-kladovuyu-v-dome/" TargetMode="External"/><Relationship Id="rId12" Type="http://schemas.openxmlformats.org/officeDocument/2006/relationships/hyperlink" Target="http://stroim-darom.ru/dizajn-interera-zagorodnogo-doma" TargetMode="External"/><Relationship Id="rId13" Type="http://schemas.openxmlformats.org/officeDocument/2006/relationships/hyperlink" Target="http://btcm.pp.ua/dizajn-interera-kvartir-i-zagorodnogo-doma-v-amerikanskom-stile.html" TargetMode="External"/><Relationship Id="rId14" Type="http://schemas.openxmlformats.org/officeDocument/2006/relationships/hyperlink" Target="http://www.liveinternet.ru/users/aldav/rubric/2205418" TargetMode="External"/><Relationship Id="rId15" Type="http://schemas.openxmlformats.org/officeDocument/2006/relationships/hyperlink" Target="http://www.europechi.ru/catalog/kamini/frontalnye/page6.html" TargetMode="External"/><Relationship Id="rId16" Type="http://schemas.openxmlformats.org/officeDocument/2006/relationships/hyperlink" Target="http://glamoure-life.ru/kamin-v-gostinoj/" TargetMode="External"/><Relationship Id="rId17" Type="http://schemas.openxmlformats.org/officeDocument/2006/relationships/hyperlink" Target="http://whoms.pp.ua/skachat-kamin.html" TargetMode="External"/><Relationship Id="rId18" Type="http://schemas.openxmlformats.org/officeDocument/2006/relationships/hyperlink" Target="http://whoms.pp.ua/skachat-kamin.html" TargetMode="External"/><Relationship Id="rId19" Type="http://schemas.openxmlformats.org/officeDocument/2006/relationships/hyperlink" Target="http://whoms.pp.ua/skachat-kamin.html" TargetMode="External"/><Relationship Id="rId20" Type="http://schemas.openxmlformats.org/officeDocument/2006/relationships/hyperlink" Target="http://whoms.pp.ua/skachat-kamin.html" TargetMode="External"/><Relationship Id="rId21" Type="http://schemas.openxmlformats.org/officeDocument/2006/relationships/hyperlink" Target="http://photomebeli.ru/kreslo.html" TargetMode="External"/><Relationship Id="rId22" Type="http://schemas.openxmlformats.org/officeDocument/2006/relationships/hyperlink" Target="http://www.rb.ru/line/?tags=3467&amp;page=2" TargetMode="External"/><Relationship Id="rId23" Type="http://schemas.openxmlformats.org/officeDocument/2006/relationships/hyperlink" Target="http://dfgsdf.ru/divani.html" TargetMode="External"/><Relationship Id="rId24" Type="http://schemas.openxmlformats.org/officeDocument/2006/relationships/hyperlink" Target="http://dfgsdf.ru/menyu-2/kartinki/stoli-v-kartinkah.html" TargetMode="External"/><Relationship Id="rId25" Type="http://schemas.openxmlformats.org/officeDocument/2006/relationships/hyperlink" Target="http://www.tandir.ru/kover.html" TargetMode="External"/><Relationship Id="rId26" Type="http://schemas.openxmlformats.org/officeDocument/2006/relationships/hyperlink" Target="http://www.soemi.ru/page-stuljya-derevyannie-foto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slide11.xml"/><Relationship Id="rId5" Type="http://schemas.openxmlformats.org/officeDocument/2006/relationships/image" Target="../media/image4.jpeg"/><Relationship Id="rId6" Type="http://schemas.openxmlformats.org/officeDocument/2006/relationships/slide" Target="slide13.xml"/><Relationship Id="rId7" Type="http://schemas.openxmlformats.org/officeDocument/2006/relationships/image" Target="../media/image5.jpeg"/><Relationship Id="rId8" Type="http://schemas.openxmlformats.org/officeDocument/2006/relationships/slide" Target="slide10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slide" Target="slide12.xml"/><Relationship Id="rId4" Type="http://schemas.openxmlformats.org/officeDocument/2006/relationships/image" Target="../media/image7.jpeg"/><Relationship Id="rId5" Type="http://schemas.openxmlformats.org/officeDocument/2006/relationships/slide" Target="slide13.xml"/><Relationship Id="rId6" Type="http://schemas.openxmlformats.org/officeDocument/2006/relationships/image" Target="../media/image3.jpeg"/><Relationship Id="rId7" Type="http://schemas.openxmlformats.org/officeDocument/2006/relationships/slide" Target="slide11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jpeg"/><Relationship Id="rId3" Type="http://schemas.openxmlformats.org/officeDocument/2006/relationships/slide" Target="slide11.xml"/><Relationship Id="rId4" Type="http://schemas.openxmlformats.org/officeDocument/2006/relationships/image" Target="../media/image9.jpeg"/><Relationship Id="rId5" Type="http://schemas.openxmlformats.org/officeDocument/2006/relationships/slide" Target="slide9.xml"/><Relationship Id="rId6" Type="http://schemas.openxmlformats.org/officeDocument/2006/relationships/image" Target="../media/image10.jpeg"/><Relationship Id="rId7" Type="http://schemas.openxmlformats.org/officeDocument/2006/relationships/slide" Target="slide13.xm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2.jpeg"/><Relationship Id="rId3" Type="http://schemas.openxmlformats.org/officeDocument/2006/relationships/slide" Target="slide12.xml"/><Relationship Id="rId4" Type="http://schemas.openxmlformats.org/officeDocument/2006/relationships/image" Target="../media/image13.jpeg"/><Relationship Id="rId5" Type="http://schemas.openxmlformats.org/officeDocument/2006/relationships/slide" Target="slide11.xml"/><Relationship Id="rId6" Type="http://schemas.openxmlformats.org/officeDocument/2006/relationships/image" Target="../media/image14.jpeg"/><Relationship Id="rId7" Type="http://schemas.openxmlformats.org/officeDocument/2006/relationships/slide" Target="slide10.xm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384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Интерактивный тест</a:t>
            </a:r>
            <a:br>
              <a:rPr sz="4400"/>
            </a:b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по теме «Мой дом»</a:t>
            </a:r>
            <a:br>
              <a:rPr sz="4400"/>
            </a:b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для 4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0920" y="3886200"/>
            <a:ext cx="47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У «Евлановская о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овкина Еле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316872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 litt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943520" cy="453708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759640" cy="446436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766764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66764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it ov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219920" cy="45691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66764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Comic Sans MS"/>
              </a:rPr>
              <a:t>Welcome to my hou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877000" cy="5373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3276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н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е Ню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du.convdocs.org/docs/1162/index-12326.html?page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etmovies.ru/details.aspx?item=989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ideo.yandex.ru/users/morkovina-98/collection/3/?p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jizasi.teleskoro.ru/2037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ekadetka.ru/katalog/aktivnie-igri/myachi/myach-dlya-fitnesa-s-ruchkoi-nusha-55s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я ком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iveinternet.ru/users/3718688/rubric/410413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hinkiteasy.ru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?p=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home-secret.ru/2011/06/24/gde-organizovat-kladovuyu-v-dom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troim-darom.ru/dizajn-interera-zagorodnogo-d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btcm.pp.ua/dizajn-interera-kvartir-i-zagorodnogo-doma-v-amerikanskom-stil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liveinternet.ru/users/aldav/rubric/22054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europechi.ru/catalog/kamini/frontalnye/page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glamoure-life.ru/kamin-v-gostinoj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homs.pp.ua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kachat-kam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е предметов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photomebeli.ru/kresl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rb.ru/line/?tags=3467&amp;page=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dfgsdf.ru/divan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dfgsdf.ru/menyu-2/kartinki/stoli-v-kartinka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www.tandir.ru/kov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soemi.ru/page-stuljya-derevyannie-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oose the picture: 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There is a bedroom in the hous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995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3097080" cy="2371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095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64000" y="1268280"/>
            <a:ext cx="3308400" cy="23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64000" y="4000680"/>
            <a:ext cx="3340440" cy="245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360" y="4076640"/>
            <a:ext cx="3095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oose the picture: 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There is a bathroom in the hous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211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125360"/>
            <a:ext cx="338292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64000" y="1125360"/>
            <a:ext cx="3313440" cy="244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64000" y="4149720"/>
            <a:ext cx="3289320" cy="237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68360" y="4149720"/>
            <a:ext cx="33829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oose the picture: 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There is a shelf in the living roo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385128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952720" cy="2408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933720"/>
            <a:ext cx="2879640" cy="248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1413000"/>
            <a:ext cx="3240000" cy="2350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219640" y="4005360"/>
            <a:ext cx="34560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oose the picture: </a:t>
            </a: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There is a carpet in the living roo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399564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2592360" cy="241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3860640"/>
            <a:ext cx="2808360" cy="256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24360" y="3933720"/>
            <a:ext cx="2691000" cy="263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24360" y="1628640"/>
            <a:ext cx="25927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ose the picture: </a:t>
            </a: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There is a picture above the fire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125360"/>
            <a:ext cx="3456000" cy="2551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219640" y="1125360"/>
            <a:ext cx="352764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8360" y="4076640"/>
            <a:ext cx="3456000" cy="237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4076640"/>
            <a:ext cx="3457800" cy="24480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399564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oose the picture: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There are two windows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384720" cy="237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3384360" cy="2297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3384360" cy="248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292720" y="1341360"/>
            <a:ext cx="3456000" cy="237672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399564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oose the picture: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There is a crpet on the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456000" cy="2521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1400" cy="230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435640" y="4005360"/>
            <a:ext cx="3457440" cy="241308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4067280" y="465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392436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66764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3924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0:12:31Z</dcterms:created>
  <dc:creator>1</dc:creator>
  <dc:description/>
  <dc:language>en-US</dc:language>
  <cp:lastModifiedBy>1</cp:lastModifiedBy>
  <dcterms:modified xsi:type="dcterms:W3CDTF">2013-11-08T14:15:29Z</dcterms:modified>
  <cp:revision>2</cp:revision>
  <dc:subject/>
  <dc:title>Слайд 1</dc:title>
</cp:coreProperties>
</file>