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4BEB-6E37-4DDF-B9A5-015FE55FE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027-16A5-42EE-ABCB-34497EBF61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615-4D49-46DD-BF8D-FFAC4E44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BC0-8BB9-4C54-92F2-8AAFEC6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DDD-0139-4128-BC79-FD1126B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E7D-C475-4C1E-B5C7-3712E84D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ADA-FF5C-4A7D-AA42-B92BDB0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4B6-8FDD-45CE-B0FC-43B029D1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AD0-4D4D-42A7-A406-A618FF1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ACC-CB3B-4F70-BD3A-913F85B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B83-3E76-4E3D-84C6-CBBFC63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127-1C12-4FCD-9104-57ED2D0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4DD-167C-4434-8C00-EA3C3EA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9EF-3828-4D8B-8D10-E2B465B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BA3-BE7F-4130-9042-77A4A4725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5280" y="333360"/>
            <a:ext cx="889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Times New Roman"/>
              </a:rPr>
              <a:t>Воспитаем вмест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user\Desktop\1310661970_228199919_1----.png"/>
          <p:cNvPicPr/>
          <p:nvPr/>
        </p:nvPicPr>
        <p:blipFill>
          <a:blip r:embed="rId1"/>
          <a:stretch/>
        </p:blipFill>
        <p:spPr>
          <a:xfrm>
            <a:off x="0" y="476280"/>
            <a:ext cx="8893080" cy="576108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446040" y="5300640"/>
            <a:ext cx="86979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Готовность к обучению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нужно знать родителям?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Arial"/>
              </a:rPr>
              <a:t>Коммуникативная готов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78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  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user\Desktop\0_86ab2_bb4b8229_orig.png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971640" y="105264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Franklin Gothic Heavy"/>
              </a:rPr>
              <a:t>Памятка для родите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999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придирайтесь ко мне и не ворчите на меня. Если вы будете это делать, то я буду вынужден защищаться, притворяясь глух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икогда даже не намекайте, что вы совершенны и непогрешимы. Это дает мне ощущение тщетности попыток сравниться с 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бойтесь быть твердыми со мной. Я предпочитаю именно такой подход. Это позволяет мне определить свое ме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делайте для меня и за меня то, что я в состоянии сделать для себя с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заставляйте меня чувствовать себя младше, чем я есть на самом деле. Я отыграюсь на вас за это, став «плаксой» и «нытико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подвергайте слишком большому испытанию мою честность. Будучи запуган, я легко превращаюсь в лже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е давайте обещаний, которых вы не можете выполнить - это поколеблет мою веру в в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усть мои страхи и опасения не вызывают у вас беспокойство. Иначе я буду боятъся еще больше. Покажите мне, что такое муже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920" y="4762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Franklin Gothic Heavy"/>
                <a:ea typeface="Tahoma"/>
              </a:rPr>
              <a:t>Помните! Ребенок самая большая ценность в вашей жизни.Стремитесь понять и узнать его, относитесь к нему с уважением, придерживайтесь наиболее прогрессивных методов воспитания и постоянной линии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user\Desktop\preview.jpg"/>
          <p:cNvPicPr/>
          <p:nvPr/>
        </p:nvPicPr>
        <p:blipFill>
          <a:blip r:embed="rId1"/>
          <a:stretch/>
        </p:blipFill>
        <p:spPr>
          <a:xfrm>
            <a:off x="3132000" y="4076640"/>
            <a:ext cx="2951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5,-124,69)"/>
                                      </p:to>
                                    </p:set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5,-124,69)"/>
                                      </p:to>
                                    </p:set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24360" y="-360"/>
            <a:ext cx="9145800" cy="35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«Быть готовым к школе – не значит уметь читать, писать и считать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Быть готовым к школе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– значит быть готовым всему этому научиться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нгер Л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ser\Desktop\5449b08b1b751e2ec1ec1bcbb074da0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911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3"/>
          <p:cNvSpPr/>
          <p:nvPr/>
        </p:nvSpPr>
        <p:spPr>
          <a:xfrm>
            <a:off x="2268360" y="260280"/>
            <a:ext cx="619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Franklin Gothic Heavy"/>
              </a:rPr>
              <a:t>учени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0" y="3141720"/>
            <a:ext cx="34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Franklin Gothic Heavy"/>
              </a:rPr>
              <a:t>уч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219640" y="3141720"/>
            <a:ext cx="39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Franklin Gothic Heavy"/>
                <a:ea typeface="Aharoni"/>
              </a:rPr>
              <a:t>родите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71560" y="764640"/>
            <a:ext cx="7408800" cy="3527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274160" cy="3676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358920" y="422100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ndara"/>
              </a:rPr>
              <a:t>Правило первое: </a:t>
            </a: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только сообща, все вместе, мы преодолеем все труд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50920" y="5421240"/>
            <a:ext cx="87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ndara"/>
              </a:rPr>
              <a:t>Правило второе: </a:t>
            </a: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никогда не сравнивайте своего ребенка с друг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Первая заповедь: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одившийся ребенок в семье должен быть всегда желанным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820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Вторая заповедь: Не оставляйте маленьких детей без присмо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Третья заповедь: Научите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общаться с окружающим ми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Заповедь четвертая: Научите ребенка распознавать добро и зло, исти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намерени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c00000"/>
                </a:solidFill>
                <a:uFillTx/>
                <a:latin typeface="Arial"/>
              </a:rPr>
              <a:t>Психологическая готовность </a:t>
            </a:r>
            <a:br>
              <a:rPr sz="3100"/>
            </a:br>
            <a:r>
              <a:rPr b="1" i="1" lang="ru-RU" sz="3100" spc="-1" strike="noStrike" u="sng">
                <a:solidFill>
                  <a:srgbClr val="c00000"/>
                </a:solidFill>
                <a:uFillTx/>
                <a:latin typeface="Arial"/>
              </a:rPr>
              <a:t>к обучению в школе включает </a:t>
            </a:r>
            <a:br>
              <a:rPr sz="3100"/>
            </a:br>
            <a:r>
              <a:rPr b="1" i="1" lang="ru-RU" sz="3100" spc="-1" strike="noStrike" u="sng">
                <a:solidFill>
                  <a:srgbClr val="c00000"/>
                </a:solidFill>
                <a:uFillTx/>
                <a:latin typeface="Arial"/>
              </a:rPr>
              <a:t>в себя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интеллектуальную готовность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мотивационную готовность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олевую готовность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коммуникативную готовно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Cj04357730000[1]"/>
          <p:cNvPicPr/>
          <p:nvPr/>
        </p:nvPicPr>
        <p:blipFill>
          <a:blip r:embed="rId1"/>
          <a:stretch/>
        </p:blipFill>
        <p:spPr>
          <a:xfrm>
            <a:off x="6983280" y="340200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Arial"/>
              </a:rPr>
              <a:t>Интеллектуальная готов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Heavy"/>
              </a:rPr>
              <a:t>     </a:t>
            </a: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К 6–7-и годам ребенок должен зн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свой адрес и название города, в котором он жив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название страны и ее столиц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имена и отчества своих родителей, информацию о местах их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времена года, их последовательность и основные призна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названия месяцев, дней недел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основные виды деревьев и цв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Arial"/>
              </a:rPr>
              <a:t>Мотивационная готов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подразумевает наличие у ребенка желания принять новую социальную роль — роль шк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С этой целью родителям необходимо объяснить своему ребенку, 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что дети ходят учиться для получения знаний, которые необходимы каждому челов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что 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37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   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едполагает наличие у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пособностей ставить перед собой ц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инять решение о начале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метить план действ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ыполнить его, проявив определенные уси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оценить результат свое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а также умения длительно выполнять не очень привлекательн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1:47:51Z</dcterms:created>
  <dc:creator>Сергей</dc:creator>
  <dc:description/>
  <dc:language>en-US</dc:language>
  <cp:lastModifiedBy>Сергей</cp:lastModifiedBy>
  <dcterms:modified xsi:type="dcterms:W3CDTF">2012-10-18T16:32:41Z</dcterms:modified>
  <cp:revision>2</cp:revision>
  <dc:subject/>
  <dc:title>Слайд 1</dc:title>
</cp:coreProperties>
</file>