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6.png" ContentType="image/png"/>
  <Override PartName="/ppt/media/wind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1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C23-9EB4-49D1-B47C-A91857471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6E5-9C0D-4F1F-826B-C87B30DFAC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DE20-29C6-45EC-9794-627D1A66A9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482-D3BC-4F04-A387-106008CA74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46BA-3630-4667-A757-86DD1EA459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9ED4-2984-49BC-AD78-91BC7F60B0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BC5-4368-400A-A707-A2D1B14F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684-A6EC-4D5D-B67E-AA508F3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C55-83AC-4861-87FB-69847283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CCB-4FF2-4DD4-9EE0-B23B57F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3FCAE-610D-452C-AF09-D7008398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030C7-AFBC-4B0A-9461-68F1F2C7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3F71C-8773-456B-8329-EB44743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2FB82-3301-4AA5-ABB6-00A8CBBE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3A7C4-F839-40A9-9E1F-197533D5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51DBD-D10D-4AE7-8426-E3408FFF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3C417-CFEA-4FB3-86E4-856629A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875-964B-408A-96F9-E9B63ABA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CFF6F-278F-48B0-B023-61CD5C93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88970-24B0-46E5-9B7E-96F6EFE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89801-126C-4BE8-90B8-70D3D7CA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D12A-BCB5-4A53-9F94-AB86691E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643AE-24C2-4D28-8F50-A92C51C0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D98-7B36-4ADC-88BF-F3EA0209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AEC-CF10-48BA-872F-AA69B0E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69B-986D-48CB-A168-899CFB3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492-7943-454A-AD67-FD5F7775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48B-AEBF-47DC-A9F0-FA5CF60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E60-842B-4C37-BDCB-B1F8B60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83F-5A5F-4F45-9822-C1C54645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0AA-476C-45C4-B430-57B36CE8F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F2C-6DD4-4E9C-8AB0-FB2763CC45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7772400" cy="243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Роль классного родительского собрания во взаимодействии семьи и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Симоненко Алла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МБОУ «Гоноховская СОШ  Завьяловского района  Алтайского кра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 flipV="1" rot="10658400">
            <a:off x="761400" y="1599840"/>
            <a:ext cx="343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и ребята  часто  являются победителями различных школьных конкурсов и предметных олимпи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 ДОСТИЖЕНИЯ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3" descr="C:\Documents and Settings\Администратор\Рабочий стол\фото январь\SAM_0566.JPG"/>
          <p:cNvPicPr/>
          <p:nvPr/>
        </p:nvPicPr>
        <p:blipFill>
          <a:blip r:embed="rId1"/>
          <a:stretch/>
        </p:blipFill>
        <p:spPr>
          <a:xfrm>
            <a:off x="7072200" y="1500120"/>
            <a:ext cx="1428840" cy="18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Documents and Settings\Администратор\Рабочий стол\фото январь\SAM_0567.JPG"/>
          <p:cNvPicPr/>
          <p:nvPr/>
        </p:nvPicPr>
        <p:blipFill>
          <a:blip r:embed="rId2"/>
          <a:stretch/>
        </p:blipFill>
        <p:spPr>
          <a:xfrm>
            <a:off x="4357800" y="4143240"/>
            <a:ext cx="1928880" cy="1785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380880" y="6572160"/>
            <a:ext cx="8534520" cy="57240"/>
          </a:xfrm>
          <a:prstGeom prst="rect">
            <a:avLst/>
          </a:prstGeom>
        </p:spPr>
        <p:txBody>
          <a:bodyPr wrap="none" lIns="90000" rIns="90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ffff00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ffff00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85480"/>
            <a:ext cx="8686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Выставка детского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творчества             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                                 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Администратор\Рабочий стол\фото январь\SAM_0589.JPG"/>
          <p:cNvPicPr/>
          <p:nvPr/>
        </p:nvPicPr>
        <p:blipFill>
          <a:blip r:embed="rId1"/>
          <a:stretch/>
        </p:blipFill>
        <p:spPr>
          <a:xfrm>
            <a:off x="500040" y="2857680"/>
            <a:ext cx="3357720" cy="257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Администратор\Рабочий стол\конкурс\SAM_7321.JPG"/>
          <p:cNvPicPr/>
          <p:nvPr/>
        </p:nvPicPr>
        <p:blipFill>
          <a:blip r:embed="rId2"/>
          <a:stretch/>
        </p:blipFill>
        <p:spPr>
          <a:xfrm>
            <a:off x="4929120" y="2857680"/>
            <a:ext cx="3571920" cy="27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 ШКОЛЬНЫЕ   ДЕЛА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441972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овожу все КТД для ребят и их родителей на высоком методическом уровне.Ребята и их родители-мои первые помощни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6" descr="E:\Алла Васильевна\DSC00699.JPG"/>
          <p:cNvPicPr/>
          <p:nvPr/>
        </p:nvPicPr>
        <p:blipFill>
          <a:blip r:embed="rId1"/>
          <a:stretch/>
        </p:blipFill>
        <p:spPr>
          <a:xfrm>
            <a:off x="285840" y="1357200"/>
            <a:ext cx="3500280" cy="2428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Советы психолог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началом собрания лучше «оставить за дверью» плохое настро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собрания не более 1-2 час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амый приятный звук для человека – его имя. Хорошо иметь перед собой список с именами и отчествами родител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началом собрания объявить вопросы, которые будут обсуждаться на собр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ачинать собрание с позитивного, затем говорить о негативном, завершать разговор предложениями на будущ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упредить родителей, что не вся информация может стать достоянием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благодарить всех, кто нашел время придти ( особенно отцов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Десять секретов успешного проведения родительского собр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берите самый благоприятный день и час для проведения родительского собрания, постарайтесь, чтобы на это время не было запланировано других важных дел, интересных телепередач и т.д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ределите одну наиболее важную проблему, и на ее обсуждении постройте разговор с родителя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ставьте столы и стулья по кругу, чтобы все участники родительского собрания хорошо видели и слышали друг друг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регите время родителей. С этой целью установите регламент собрания и строго следите за его соблюдение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пользуйте игровые элементы, групповые формы и способы организации взаимодействия и общ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рганизуйте разговор за чашкой чая, что помогает сделать общение более непринужденным и откров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ирайтесь на жизненный и педагогический опыт наиболее авторитетных родителей, на мнение членов родительского комите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емитесь к тому, чтобы на собрании было принято конкретное реше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думайте вместе с родителями свои правила для участников собрания(например: снимать верхнюю одежду обязательно; не молчать при обсуждении; отвергая чье-то предложение, предлагать встречное; называть друг друга по имени и отчеству и т.д.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85680" y="-12600"/>
            <a:ext cx="8607600" cy="1305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714680"/>
            <a:ext cx="81867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Tahoma"/>
              </a:rPr>
              <a:t>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472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Tahoma"/>
              </a:rPr>
              <a:t>Какими дети рождаются, это ни от кого не зависит, но чтобы они путем правильного обучения и воспитания сделались хорошими людьми - это в наше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C:\Documents and Settings\Администратор\Рабочий стол\последний звонок\SAM_2153.JPG"/>
          <p:cNvPicPr/>
          <p:nvPr/>
        </p:nvPicPr>
        <p:blipFill>
          <a:blip r:embed="rId2"/>
          <a:stretch/>
        </p:blipFill>
        <p:spPr>
          <a:xfrm>
            <a:off x="5072040" y="3357720"/>
            <a:ext cx="3214800" cy="292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Documents and Settings\Администратор\Рабочий стол\1 сентября2011\SAM_3794.JPG"/>
          <p:cNvPicPr/>
          <p:nvPr/>
        </p:nvPicPr>
        <p:blipFill>
          <a:blip r:embed="rId3"/>
          <a:stretch/>
        </p:blipFill>
        <p:spPr>
          <a:xfrm>
            <a:off x="527040" y="3286080"/>
            <a:ext cx="361620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a00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Дереклеева Н. И. Родительские собрания 1-11 классы. М: Вербум-М, 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Фотографии из личного арх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00160"/>
            <a:ext cx="79009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Учитель - ученик - родител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лько вместе с родителями, общими усилиями, учителя могут дать детям большое человеческое счастье.                             В.А.Сухомлински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714400"/>
            <a:ext cx="3757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2128680"/>
            <a:ext cx="40417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4720" y="6000840"/>
            <a:ext cx="4041720" cy="1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5786280"/>
            <a:ext cx="40402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01600" y="133200"/>
            <a:ext cx="8491680" cy="154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e17"/>
                </a:solidFill>
                <a:latin typeface="Tahoma"/>
              </a:rPr>
              <a:t>Найти ключик к каждой детской душе, подарить детям частичку своего серд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e17"/>
                </a:solidFill>
                <a:latin typeface="Tahoma"/>
              </a:rPr>
              <a:t>Главное вера в ребёнка, уважение его личности, стремление помочь ему в достижении успех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e17"/>
                </a:solidFill>
                <a:latin typeface="Tahoma"/>
              </a:rPr>
              <a:t>Дети всегда должны находиться в поиске, каждый раз открывая для себя что-то новое. В творческой обстановке всегда рождаются новые идеи, замыслы, возникает атмосфера сотрудничества, которая в свою очередь рождает вкус к творчеству, делает его привлекательным для все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e17"/>
                </a:solidFill>
                <a:latin typeface="Tahoma"/>
              </a:rPr>
              <a:t>Не мыслями надо учить, а учить мысли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7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Успешный    учитель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Успешный  уче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ctr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57120" y="857160"/>
            <a:ext cx="814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Личность - это набор уникальных, индивидуальных черт характера, как врожденных, так и приобретенных в течение жизни, воспитания и взаимодействия с другими люд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642960" y="3244680"/>
            <a:ext cx="923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439"/>
                </a:solidFill>
                <a:latin typeface="Arial"/>
              </a:rPr>
              <a:t>Ключевые слова ЛО технологи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ндивидуаль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амосто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вор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Рисунок 3" descr="C:\Documents and Settings\Администратор\Рабочий стол\осень2011\SAM_4176.JPG"/>
          <p:cNvPicPr/>
          <p:nvPr/>
        </p:nvPicPr>
        <p:blipFill>
          <a:blip r:embed="rId1"/>
          <a:stretch/>
        </p:blipFill>
        <p:spPr>
          <a:xfrm>
            <a:off x="4357800" y="4071960"/>
            <a:ext cx="414324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071880" y="21420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286000" y="357120"/>
            <a:ext cx="6215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Constantia"/>
              </a:rPr>
              <a:t>«Ребёнок будет тянуться к урокам, если он найдёт в них условие для более интересного и стремительного движения своей жиз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5857920" y="19288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410082"/>
                </a:solidFill>
                <a:latin typeface="Constantia"/>
              </a:rPr>
              <a:t>Ш.А. Амонашв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1" descr="C:\Rovermate\ФОТОГРАФИИ\фото\Школа\Аним\fa29ca72f0a11ac44d55a0e1c44b4de5.gif"/>
          <p:cNvPicPr/>
          <p:nvPr/>
        </p:nvPicPr>
        <p:blipFill>
          <a:blip r:embed="rId1"/>
          <a:stretch/>
        </p:blipFill>
        <p:spPr>
          <a:xfrm flipH="1" rot="19380000">
            <a:off x="285120" y="285480"/>
            <a:ext cx="1350720" cy="92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G:\оформление класс\DSC00645.JPG"/>
          <p:cNvPicPr/>
          <p:nvPr/>
        </p:nvPicPr>
        <p:blipFill>
          <a:blip r:embed="rId2"/>
          <a:stretch/>
        </p:blipFill>
        <p:spPr>
          <a:xfrm>
            <a:off x="1143000" y="2577960"/>
            <a:ext cx="6215040" cy="3565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Формы взаимодейств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ют такие формы взаимодействия учителя с родителям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одительские собрания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ндивидуальные беседы в школе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ещения на дому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овместная деятельность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важной формой является – родительские собрани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Формы родительских собр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286000" y="-11160000"/>
            <a:ext cx="4572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Часто для работы с родителями используется тематическая лекция - самая распространенная форма систематического устного преподнесения знаний. К ее организации и проведению привлекаются родители, психолог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Обычно проводятся тематические лекции, например: «Трудовое воспитание детей» - 3 класс, «Авторитет родителей» - 2 класс, «Отец - воспитатель» - 4 класс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Беседа – не менее распространенная форма работы с родителями. И она часто используется педагогами начальной школы. В ходе совместного поиска ответа на вопросы учителя, родители, часто вместе с детьми, находят решение жизненных ситуаций. Интересно прошла этическая беседа с родителями и детьми 3 класса по теме: « Я - в мире людей»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В практике учителей начальных классов проведение научно- практической конференции родителей « Воспитание детей в семье». В такой форме прошло одно из общих родительских собраний начальных классов. В ходе конференции решались вопросы: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. Что является трудным для родителей в воспитании детей?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. Какие методы воздействия родители используют в воспитании детей?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3. Педагогический такт родителей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4. Пути самовоспитания родителей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5. В чем состоит влияние отца на ребенка?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6. Как вы организуете свободное время вашего ребенка?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7. Ваши предложения по улучшению внеклассной работы с детьми в начальной школе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В работе конференции приняли участие директор школы, заместители директора по учебно-воспитаельной и по воспитательной работе, школьный психолог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В ходе подготовки конференции учителя начальных классов выпустили газету, посвященную семьям, где лучше всего идет воспитание. После конференции приятным сюрпризом для родителей стал концерт, подготовленный детьми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Сложилась традиция использования педагогами нашей начальной школы такой активной формы работы, как родительские тренинги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В родительских тренингах участвуют оба родителя, от этого эффективность тренинга возрастает, и результаты не заставляют себя ждать. Родителям дается возможность на время ощутить себя ребенком, пережить эмоционально еще раз детские впечатления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С большим интересом родители выполняют такие тренинговые задания, как «детские гримасы», «любимая игрушка», «мой сказочный образ», «детские игры», «воспоминания детства»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Часто используют педагоги в работе с коллективом родителей такую форму как родительские чтения. Она дает возможность родителям не только слушать лекции учителя, но и изучать литературу по проблеме и участвовать в ее обсуждении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Огромную возможность сотрудничества школы с родителями детей дает проведение совместных классных праздников. В нашей начальной школе есть множество вариантов такого сотрудничества. Это спортивные соревнования: «Папа, мама, я – спортивная семья» , утренники «Папа, мама, я – читающая семья» и «Папа, мама, я – дружная семья», викторина для детей и родителей «Играем вместе», игры для всей семьи «Счастливый случай», «Крестики-нолики» , разговор- встреча родителей и детей «В сердце ты у каждого, Родина- Россия!» , праздники посвященные 8 Марта и Дню защитника Отечества и многие другие. Интересно и весело проходят такие праздники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357120" y="15825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о для работы с родителями используется тематическая лекция - самая распространенная форма систематического устного преподнесения знаний. К ее организации и проведению привлекаются родите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357120" y="2643120"/>
            <a:ext cx="821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седа – не менее распространенная форма работы с родителями. И она часто используется педагогами начальной школы. В ходе совместного поиска ответа на вопросы учителя, родители, часто вместе с детьми, находят решение жизненных ситуаций.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357120" y="3929040"/>
            <a:ext cx="75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одительских тренингах участвуют оба родителя, от этого эффективность тренинга возрастает, и результаты не заставляют себя ждать. Родителям дается возможность на время ощутить себя ребенком, пережить эмоционально еще раз детские впечат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252360" y="5587920"/>
            <a:ext cx="828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Palatino Linotype"/>
              </a:rPr>
              <a:t>Чтобы быть хорошим учителем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Palatino Linotype"/>
              <a:ea typeface="Palatino Linotype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304920" y="5943600"/>
            <a:ext cx="82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Palatino Linotype"/>
              </a:rPr>
              <a:t>нужно любить то, что преподаеш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Palatino Linotype"/>
              <a:ea typeface="Palatino Linotype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5940360" y="6454800"/>
            <a:ext cx="29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Palatino Linotype"/>
              </a:rPr>
              <a:t>(В.Ключевский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Palatino Linotype"/>
              <a:ea typeface="Palatino Linotype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0" y="1285560"/>
            <a:ext cx="45720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ладею  методикой  начального обучения. Провожу каждый урок увлекательно на высоком методическом уровне, использую творческие формы и приемы работы в зависимости от индивидуальных особенностей обучающихс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аждый год, ребята участвуют в конкурс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 </a:t>
            </a:r>
            <a:r>
              <a:rPr b="1" lang="en-US" sz="1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НАШИ  ДОСТИЖЕНИЯ </a:t>
            </a:r>
            <a:endParaRPr b="1" lang="en-US" sz="1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9" name="Рисунок 9" descr="C:\Documents and Settings\Администратор\Рабочий стол\фото январь\SAM_0570.JPG"/>
          <p:cNvPicPr/>
          <p:nvPr/>
        </p:nvPicPr>
        <p:blipFill>
          <a:blip r:embed="rId1"/>
          <a:stretch/>
        </p:blipFill>
        <p:spPr>
          <a:xfrm>
            <a:off x="214200" y="1357200"/>
            <a:ext cx="2500560" cy="3714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Администратор\Рабочий стол\фото январь\SAM_0568.JPG"/>
          <p:cNvPicPr/>
          <p:nvPr/>
        </p:nvPicPr>
        <p:blipFill>
          <a:blip r:embed="rId2"/>
          <a:stretch/>
        </p:blipFill>
        <p:spPr>
          <a:xfrm>
            <a:off x="3000240" y="1643040"/>
            <a:ext cx="1714680" cy="3286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00600" y="18288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 ДОСТИЖЕНИЯ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C:\Documents and Settings\Администратор\Мои документы\Выставка2\SAM_0600.JPG"/>
          <p:cNvPicPr/>
          <p:nvPr/>
        </p:nvPicPr>
        <p:blipFill>
          <a:blip r:embed="rId1"/>
          <a:stretch/>
        </p:blipFill>
        <p:spPr>
          <a:xfrm>
            <a:off x="357120" y="1428840"/>
            <a:ext cx="2357640" cy="2732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>
            <a:off x="214200" y="4286160"/>
            <a:ext cx="405288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куленко Анастасия участниц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а "Сибириад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Текст 5"/>
          <p:cNvSpPr/>
          <p:nvPr/>
        </p:nvSpPr>
        <p:spPr>
          <a:xfrm>
            <a:off x="5105520" y="142884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Рисунок 14" descr="C:\Documents and Settings\Администратор\Рабочий стол\Я и опыты\SAM_0503.JPG"/>
          <p:cNvPicPr/>
          <p:nvPr/>
        </p:nvPicPr>
        <p:blipFill>
          <a:blip r:embed="rId2"/>
          <a:stretch/>
        </p:blipFill>
        <p:spPr>
          <a:xfrm>
            <a:off x="5143680" y="1357200"/>
            <a:ext cx="2928600" cy="3086280"/>
          </a:xfrm>
          <a:prstGeom prst="rect">
            <a:avLst/>
          </a:prstGeom>
          <a:ln w="0">
            <a:noFill/>
          </a:ln>
        </p:spPr>
      </p:pic>
      <p:pic>
        <p:nvPicPr>
          <p:cNvPr id="127" name="WordArt 9" descr=""/>
          <p:cNvPicPr/>
          <p:nvPr/>
        </p:nvPicPr>
        <p:blipFill>
          <a:blip r:embed="rId3"/>
          <a:stretch/>
        </p:blipFill>
        <p:spPr>
          <a:xfrm>
            <a:off x="4091040" y="4035600"/>
            <a:ext cx="5175360" cy="2116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2:20Z</dcterms:created>
  <dc:creator>Симоненко А. В.</dc:creator>
  <dc:description/>
  <dc:language>en-US</dc:language>
  <cp:lastModifiedBy>Teachh</cp:lastModifiedBy>
  <dcterms:modified xsi:type="dcterms:W3CDTF">2012-05-09T01:01:53Z</dcterms:modified>
  <cp:revision>20</cp:revision>
  <dc:subject>конкурс</dc:subject>
  <dc:title>Роль классного родительского собрания во взаимодействии семьи и школы</dc:title>
</cp:coreProperties>
</file>