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6921-B518-4508-8172-26E9ECEF94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075-95FF-4AC1-B5BA-B72FB0651F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C915-0882-4425-8DDB-9D516B6155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7691-9405-4DF1-9428-A36A771EA7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96A-5ADF-4CBB-9216-92D692AF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129-F3BB-4C79-A8E8-2925D3C4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AFD-9AD0-4D9B-8D60-CBE64325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E2B-07C2-439E-9FE7-01BFAA8F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7D81-CE47-44E7-9606-ADC8BABC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970B-D907-420F-A96C-7C84209D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728D-31BF-40F2-9582-3B6BBF11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84F9-EA8B-4CB8-BFEA-3A169CEE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3235-849B-453C-B437-8D80DD4F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B67B-C627-4D6F-B540-1D7E9374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8490-982E-4C1E-B00E-1488A5E6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6B4-FE7C-4DA3-B016-FC709ABD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EED1-E9DF-423C-850B-EE34BE53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4FB3-7EAA-43BB-868D-846D49D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7B2F-B57F-4373-B505-A41DFCEB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478D-A7B0-4776-8B1A-F8DF8B6F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9D99-CA82-40F4-A621-0C0D6E0B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A9C-9736-4730-A88A-4315C783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1BE-779C-421B-98C9-A9D25C5A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F7D-BD81-489F-8196-9A51C31D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4DA-1915-4408-8CDA-36D7B2D2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943-B602-4438-A70D-5508683E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3CB-0110-4B19-B696-B8D20DF2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CCD-ECDE-43C3-A353-31EFDD8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5CBF-F538-4534-8D86-3C977B36A2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E6E4-E07E-494A-BE03-FD70031C7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8;&#1080;&#1089;&#1091;&#1085;&#1086;&#1082;%20&#1087;&#1091;&#1096;&#1082;&#1080;&amp;noreask=1&amp;pos=5&amp;lr=11&amp;rpt=simage&amp;uinfo=ww-1263-wh-899-fw-1038-fh-598-pd-1&amp;img_url=http%3A%2F%2Fpda.fedpress.ru%2Fsites%2Ffedpress%2Ffiles%2Fneverbetray27%2Fnews%2F46443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olstopuzzzz.narod.ru/photo/osen/img_4275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3&amp;uinfo=ww-1263-wh-899-fw-1038-fh-598-pd-1&amp;p=3&amp;text=&#1088;&#1080;&#1089;&#1091;&#1085;&#1086;&#1082;%20&#1088;&#1086;&#1078;&#1086;&#1082;&amp;noreask=1&amp;pos=105&amp;rpt=simage&amp;lr=11&amp;img_url=http%3A%2F%2Fnf.russiaregionpress.ru%2Ffiles%2F2009%2F04%2Fberesten.jpe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hyperlink" Target="http://www.myprism.ru.postman.ru/Gems/Emerald/0456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new.chronologia.org/volume11/gostev/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413000"/>
            <a:ext cx="480060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6015960" y="47628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246000" y="3284640"/>
            <a:ext cx="220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он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6806880" y="35733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6592320" y="2565360"/>
            <a:ext cx="80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85716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4786200" y="0"/>
            <a:ext cx="4143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Bookman Old Style"/>
              </a:rPr>
              <a:t>Императорский Царскосельский Лицей был создан для образования и воспитания юношества, предназначенного к «важнейшим частям службы Государственной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slide0010_image025"/>
          <p:cNvPicPr/>
          <p:nvPr/>
        </p:nvPicPr>
        <p:blipFill>
          <a:blip r:embed="rId1"/>
          <a:stretch/>
        </p:blipFill>
        <p:spPr>
          <a:xfrm>
            <a:off x="5286240" y="3286080"/>
            <a:ext cx="3651480" cy="341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535640" cy="285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214200" y="3143160"/>
            <a:ext cx="507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своих правах Лицей приравнивался к российским университетам и находился под особым покровительством Александра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. В Лицей принимали дворянских мальчиков 10-12 лет по результатам вступительных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3"/>
          <p:cNvSpPr/>
          <p:nvPr/>
        </p:nvSpPr>
        <p:spPr>
          <a:xfrm>
            <a:off x="214200" y="4643280"/>
            <a:ext cx="8715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Учебный год в Царскосельском Лицее продолжался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11 месяцев, с 1 августа по 1 июля. 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Лицей был закрытым заведением. В течение всего периода обучения воспитанники не имели права покидать пределов Царского С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Картинка 1 из 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14200"/>
            <a:ext cx="65725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slide0018_image066"/>
          <p:cNvPicPr/>
          <p:nvPr/>
        </p:nvPicPr>
        <p:blipFill>
          <a:blip r:embed="rId1"/>
          <a:stretch/>
        </p:blipFill>
        <p:spPr>
          <a:xfrm>
            <a:off x="214200" y="857160"/>
            <a:ext cx="3649680" cy="457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slide0018_image068"/>
          <p:cNvPicPr/>
          <p:nvPr/>
        </p:nvPicPr>
        <p:blipFill>
          <a:blip r:embed="rId2"/>
          <a:stretch/>
        </p:blipFill>
        <p:spPr>
          <a:xfrm>
            <a:off x="4643280" y="857160"/>
            <a:ext cx="3714840" cy="27892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6"/>
          <p:cNvSpPr/>
          <p:nvPr/>
        </p:nvSpPr>
        <p:spPr>
          <a:xfrm>
            <a:off x="3857760" y="3857760"/>
            <a:ext cx="528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, вместе и ночной. На конторке чернильница и подсвечник со щипцами…»       И.И.Пущин.Записки о Пушк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900000" y="333360"/>
            <a:ext cx="777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такой Александр Сергеевич Пушк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родился А.С.Пушк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братьев и сестёр было у Александ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звали няню Пушки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рассказывала няня Александру Сергеевич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стал учиться Александр Пушкин в 12 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539640" y="333360"/>
            <a:ext cx="489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Как ты понимаешь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тр.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мольбой погн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олоченный рож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тьме глубо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оо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чай твой лю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вы кра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тор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corpuscul.net/uploads/2009/01/2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1720" y="0"/>
            <a:ext cx="36622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840" y="573264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5" descr="C:\Documents and Settings\Guest\Рабочий стол\02labarlm1220114949.jpg"/>
          <p:cNvPicPr/>
          <p:nvPr/>
        </p:nvPicPr>
        <p:blipFill>
          <a:blip r:embed="rId1"/>
          <a:stretch/>
        </p:blipFill>
        <p:spPr>
          <a:xfrm>
            <a:off x="642960" y="0"/>
            <a:ext cx="8072280" cy="53578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6"/>
          <p:cNvSpPr/>
          <p:nvPr/>
        </p:nvSpPr>
        <p:spPr>
          <a:xfrm>
            <a:off x="1692360" y="4941720"/>
            <a:ext cx="671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ли были старик со старухой у самого синего моря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 Как называется сказка?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Сказка о рыбаке и рыбке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Сколько раз закидывал старик невод?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ри р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Овал 7" descr=""/>
          <p:cNvPicPr/>
          <p:nvPr/>
        </p:nvPicPr>
        <p:blipFill>
          <a:blip r:embed="rId2"/>
          <a:stretch/>
        </p:blipFill>
        <p:spPr>
          <a:xfrm>
            <a:off x="487440" y="5473800"/>
            <a:ext cx="115884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5857920" cy="65008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00840" y="274680"/>
            <a:ext cx="335736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"Посади ты эту птицу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олвил он царю, - на спиц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етушок мой золот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удет верный сторож твой..»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Овал 6" descr=""/>
          <p:cNvPicPr/>
          <p:nvPr/>
        </p:nvPicPr>
        <p:blipFill>
          <a:blip r:embed="rId2"/>
          <a:stretch/>
        </p:blipFill>
        <p:spPr>
          <a:xfrm>
            <a:off x="6991200" y="1835280"/>
            <a:ext cx="11592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7"/>
          <p:cNvSpPr/>
          <p:nvPr/>
        </p:nvSpPr>
        <p:spPr>
          <a:xfrm>
            <a:off x="5929200" y="32148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Сказка о золо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тушк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  Вспомните как Петушок кричал в случае опасности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«Кири-ку-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арствуй, лежа на боку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5840" y="5500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5572080" y="3143160"/>
            <a:ext cx="32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«Сказка о золотом петушк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зовут царя из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азки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Дад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Овал 7" descr=""/>
          <p:cNvPicPr/>
          <p:nvPr/>
        </p:nvPicPr>
        <p:blipFill>
          <a:blip r:embed="rId1"/>
          <a:stretch/>
        </p:blipFill>
        <p:spPr>
          <a:xfrm>
            <a:off x="6566040" y="1835280"/>
            <a:ext cx="1157040" cy="1047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C:\Documents and Settings\Guest\Рабочий стол\4d6f0dcd3ab1.jpg"/>
          <p:cNvPicPr/>
          <p:nvPr/>
        </p:nvPicPr>
        <p:blipFill>
          <a:blip r:embed="rId2"/>
          <a:stretch/>
        </p:blipFill>
        <p:spPr>
          <a:xfrm>
            <a:off x="214200" y="142920"/>
            <a:ext cx="4643640" cy="65008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2"/>
          <p:cNvSpPr/>
          <p:nvPr/>
        </p:nvSpPr>
        <p:spPr>
          <a:xfrm>
            <a:off x="5929200" y="357120"/>
            <a:ext cx="264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Шамаханская цар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сияя как за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хо встретила царя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5840" y="5500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5572080" y="278604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?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Сказка о мертвой царевне и о семи богатырях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  С какими сло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щается мачеха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ц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вет мой, зеркальце! Скаж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 всю правду долож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 ль на свете всех миле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х румяней и белее?"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Овал 7" descr=""/>
          <p:cNvPicPr/>
          <p:nvPr/>
        </p:nvPicPr>
        <p:blipFill>
          <a:blip r:embed="rId1"/>
          <a:stretch/>
        </p:blipFill>
        <p:spPr>
          <a:xfrm>
            <a:off x="6566040" y="1689120"/>
            <a:ext cx="1157040" cy="10476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0" descr="C:\Documents and Settings\Guest\Рабочий стол\281768.jpg"/>
          <p:cNvPicPr/>
          <p:nvPr/>
        </p:nvPicPr>
        <p:blipFill>
          <a:blip r:embed="rId2"/>
          <a:stretch/>
        </p:blipFill>
        <p:spPr>
          <a:xfrm>
            <a:off x="285840" y="285840"/>
            <a:ext cx="4357440" cy="61862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11"/>
          <p:cNvSpPr/>
          <p:nvPr/>
        </p:nvSpPr>
        <p:spPr>
          <a:xfrm>
            <a:off x="5500800" y="57168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На девичник собир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царица наряжая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зеркальцем сво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олвилася с ним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вы можете рассказать об Александре Сергеевиче Пушки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1855440" y="2492280"/>
            <a:ext cx="499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 названия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 о рыбаке 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 о золото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 о цар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 о поп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 о мёртвой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 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5500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6"/>
          <p:cNvSpPr/>
          <p:nvPr/>
        </p:nvSpPr>
        <p:spPr>
          <a:xfrm>
            <a:off x="1214280" y="542916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 Как называется сказка?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Сказка о мертвой царевне и семи богатырях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А как зовут королевича из этой сказки?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Елис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Овал 7" descr=""/>
          <p:cNvPicPr/>
          <p:nvPr/>
        </p:nvPicPr>
        <p:blipFill>
          <a:blip r:embed="rId1"/>
          <a:stretch/>
        </p:blipFill>
        <p:spPr>
          <a:xfrm>
            <a:off x="60480" y="5407200"/>
            <a:ext cx="1158840" cy="1049040"/>
          </a:xfrm>
          <a:prstGeom prst="rect">
            <a:avLst/>
          </a:prstGeom>
          <a:ln w="0">
            <a:noFill/>
          </a:ln>
        </p:spPr>
      </p:pic>
      <p:pic>
        <p:nvPicPr>
          <p:cNvPr id="165" name="Содержимое 9" descr="C:\Documents and Settings\Guest\Рабочий стол\2-119.jpg"/>
          <p:cNvPicPr/>
          <p:nvPr/>
        </p:nvPicPr>
        <p:blipFill>
          <a:blip r:embed="rId2"/>
          <a:stretch/>
        </p:blipFill>
        <p:spPr>
          <a:xfrm>
            <a:off x="357120" y="428760"/>
            <a:ext cx="5643720" cy="50004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0"/>
          <p:cNvSpPr/>
          <p:nvPr/>
        </p:nvSpPr>
        <p:spPr>
          <a:xfrm>
            <a:off x="6143760" y="1928880"/>
            <a:ext cx="300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Ветер, ветер! Ты могу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гоняешь стаи ту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волнуешь сине мо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юду веешь на просто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боишься ник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бога 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5640" y="4941360"/>
            <a:ext cx="3889440" cy="12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казка о попе и о работнике его Балд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4103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17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722"/>
                </a:solidFill>
                <a:latin typeface="Calibri"/>
              </a:rPr>
              <a:t>Узнай сказку по её нача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72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1722"/>
                </a:solidFill>
                <a:latin typeface="Calibri"/>
              </a:rPr>
              <a:t>Жил-был поп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72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1722"/>
                </a:solidFill>
                <a:latin typeface="Calibri"/>
              </a:rPr>
              <a:t>Толоконный ло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72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1722"/>
                </a:solidFill>
                <a:latin typeface="Calibri"/>
              </a:rPr>
              <a:t>Пошёл поп по база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72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1722"/>
                </a:solidFill>
                <a:latin typeface="Calibri"/>
              </a:rPr>
              <a:t>Посмотреть кой-какого това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12"/>
          <p:cNvPicPr/>
          <p:nvPr/>
        </p:nvPicPr>
        <p:blipFill>
          <a:blip r:embed="rId1"/>
          <a:stretch/>
        </p:blipFill>
        <p:spPr>
          <a:xfrm>
            <a:off x="4716360" y="1413000"/>
            <a:ext cx="399744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840" y="5500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5429160" y="3143160"/>
            <a:ext cx="32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?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Сказкао царе Салтане…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что внутри орешков, которые грызет бел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Изумру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Овал 7" descr=""/>
          <p:cNvPicPr/>
          <p:nvPr/>
        </p:nvPicPr>
        <p:blipFill>
          <a:blip r:embed="rId1"/>
          <a:stretch/>
        </p:blipFill>
        <p:spPr>
          <a:xfrm>
            <a:off x="6345360" y="1908000"/>
            <a:ext cx="1158840" cy="1047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" descr=""/>
          <p:cNvPicPr/>
          <p:nvPr/>
        </p:nvPicPr>
        <p:blipFill>
          <a:blip r:embed="rId2"/>
          <a:stretch/>
        </p:blipFill>
        <p:spPr>
          <a:xfrm>
            <a:off x="428760" y="428760"/>
            <a:ext cx="4643280" cy="62150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8"/>
          <p:cNvSpPr/>
          <p:nvPr/>
        </p:nvSpPr>
        <p:spPr>
          <a:xfrm>
            <a:off x="5857920" y="42876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Ель в лесу, под елью бел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во, право, не безделк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лка песенки по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 орешки все грыз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орешки не простые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8" descr="Кристалл Колумбийского изумруда в пород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5445000"/>
            <a:ext cx="1584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547640" y="1484280"/>
          <a:ext cx="458316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547640" y="2133720"/>
          <a:ext cx="261792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547640" y="2852640"/>
          <a:ext cx="720108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547640" y="3573360"/>
          <a:ext cx="392760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547640" y="4292640"/>
          <a:ext cx="458316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547640" y="5013360"/>
          <a:ext cx="327348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184" name="TextBox 9"/>
          <p:cNvSpPr/>
          <p:nvPr/>
        </p:nvSpPr>
        <p:spPr>
          <a:xfrm>
            <a:off x="2775960" y="476280"/>
            <a:ext cx="29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799920" y="6237360"/>
            <a:ext cx="60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ую птицу посадили на спиц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7020000" y="4292640"/>
            <a:ext cx="15350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547640" y="1484280"/>
          <a:ext cx="458316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547640" y="2133720"/>
          <a:ext cx="261792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547640" y="2852640"/>
          <a:ext cx="720108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547640" y="3573360"/>
          <a:ext cx="392760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547640" y="4292640"/>
          <a:ext cx="458316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547640" y="5013360"/>
          <a:ext cx="327348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193" name="TextBox 9"/>
          <p:cNvSpPr/>
          <p:nvPr/>
        </p:nvSpPr>
        <p:spPr>
          <a:xfrm>
            <a:off x="2819520" y="549360"/>
            <a:ext cx="29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495720" y="6093000"/>
            <a:ext cx="79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зка ложь, да в ней намёк! Добрым молодцам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547640" y="1484280"/>
          <a:ext cx="458316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547640" y="2133720"/>
          <a:ext cx="261792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547640" y="2852640"/>
          <a:ext cx="720108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47640" y="3573360"/>
          <a:ext cx="392760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547640" y="4292640"/>
          <a:ext cx="458316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547640" y="5013360"/>
          <a:ext cx="327348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201" name="TextBox 9"/>
          <p:cNvSpPr/>
          <p:nvPr/>
        </p:nvSpPr>
        <p:spPr>
          <a:xfrm>
            <a:off x="2819520" y="549360"/>
            <a:ext cx="29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585360" y="6093000"/>
            <a:ext cx="69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звали царицу в сказке о петуш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9" descr="C:\Documents and Settings\Guest\Рабочий стол\4d6f0dcd3ab1.jpg"/>
          <p:cNvPicPr/>
          <p:nvPr/>
        </p:nvPicPr>
        <p:blipFill>
          <a:blip r:embed="rId1"/>
          <a:srcRect l="20960" t="5132" r="30969" b="35056"/>
          <a:stretch/>
        </p:blipFill>
        <p:spPr>
          <a:xfrm>
            <a:off x="7236000" y="3860640"/>
            <a:ext cx="151272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547640" y="1484280"/>
          <a:ext cx="458316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547640" y="2133720"/>
          <a:ext cx="261792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547640" y="2852640"/>
          <a:ext cx="720108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547640" y="3573360"/>
          <a:ext cx="392760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547640" y="4292640"/>
          <a:ext cx="458316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547640" y="5013360"/>
          <a:ext cx="327348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210" name="TextBox 9"/>
          <p:cNvSpPr/>
          <p:nvPr/>
        </p:nvSpPr>
        <p:spPr>
          <a:xfrm>
            <a:off x="2819520" y="549360"/>
            <a:ext cx="29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1289520" y="6021360"/>
            <a:ext cx="60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опросила старуха у рыб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9" descr="http://znanie.podelise.ru/tw_files2/urls_925/2/d-1869/img7.jpg"/>
          <p:cNvPicPr/>
          <p:nvPr/>
        </p:nvPicPr>
        <p:blipFill>
          <a:blip r:embed="rId1"/>
          <a:srcRect l="0" t="0" r="39788" b="13858"/>
          <a:stretch/>
        </p:blipFill>
        <p:spPr>
          <a:xfrm>
            <a:off x="6372360" y="3716280"/>
            <a:ext cx="2160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547640" y="1484280"/>
          <a:ext cx="458316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547640" y="2133720"/>
          <a:ext cx="261792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547640" y="2852640"/>
          <a:ext cx="720108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547640" y="3573360"/>
          <a:ext cx="392760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547640" y="4292640"/>
          <a:ext cx="458316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547640" y="5013360"/>
          <a:ext cx="327348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219" name="TextBox 9"/>
          <p:cNvSpPr/>
          <p:nvPr/>
        </p:nvSpPr>
        <p:spPr>
          <a:xfrm>
            <a:off x="2819520" y="549360"/>
            <a:ext cx="29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1639440" y="5950080"/>
            <a:ext cx="48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было внутри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9" descr="http://drawi.ru/pic/7e0eac02d9b230a3.jpeg"/>
          <p:cNvPicPr/>
          <p:nvPr/>
        </p:nvPicPr>
        <p:blipFill>
          <a:blip r:embed="rId1"/>
          <a:stretch/>
        </p:blipFill>
        <p:spPr>
          <a:xfrm>
            <a:off x="6875640" y="5300640"/>
            <a:ext cx="19954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547640" y="1484280"/>
          <a:ext cx="458316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547640" y="2133720"/>
          <a:ext cx="261792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547640" y="2852640"/>
          <a:ext cx="720108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547640" y="3573360"/>
          <a:ext cx="392760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547640" y="4292640"/>
          <a:ext cx="458316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47640" y="5013360"/>
          <a:ext cx="327348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228" name="TextBox 9"/>
          <p:cNvSpPr/>
          <p:nvPr/>
        </p:nvSpPr>
        <p:spPr>
          <a:xfrm>
            <a:off x="2819520" y="549360"/>
            <a:ext cx="29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1859040" y="6093000"/>
            <a:ext cx="53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забросил старик в м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одержимое 5" descr="C:\Documents and Settings\Guest\Рабочий стол\02labarlm1220114949.jpg"/>
          <p:cNvPicPr/>
          <p:nvPr/>
        </p:nvPicPr>
        <p:blipFill>
          <a:blip r:embed="rId1"/>
          <a:stretch/>
        </p:blipFill>
        <p:spPr>
          <a:xfrm>
            <a:off x="6443640" y="4149720"/>
            <a:ext cx="23432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547640" y="1484280"/>
          <a:ext cx="458316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547640" y="2133720"/>
          <a:ext cx="261792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547640" y="2852640"/>
          <a:ext cx="720108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547640" y="3573360"/>
          <a:ext cx="3927600" cy="68436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547640" y="4292640"/>
          <a:ext cx="458316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547640" y="5013360"/>
          <a:ext cx="3273480" cy="684000"/>
        </p:xfrm>
        <a:graphic>
          <a:graphicData uri="http://schemas.openxmlformats.org/drawingml/2006/table">
            <a:tbl>
              <a:tblPr/>
              <a:tblGrid>
                <a:gridCol w="654120"/>
                <a:gridCol w="655920"/>
                <a:gridCol w="653760"/>
                <a:gridCol w="654120"/>
                <a:gridCol w="65556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237" name="TextBox 9"/>
          <p:cNvSpPr/>
          <p:nvPr/>
        </p:nvSpPr>
        <p:spPr>
          <a:xfrm>
            <a:off x="2819520" y="549360"/>
            <a:ext cx="29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071013144031.jpg"/>
          <p:cNvPicPr/>
          <p:nvPr/>
        </p:nvPicPr>
        <p:blipFill>
          <a:blip r:embed="rId1"/>
          <a:stretch/>
        </p:blipFill>
        <p:spPr>
          <a:xfrm>
            <a:off x="214200" y="42876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35712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21420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786280" y="285840"/>
            <a:ext cx="2519640" cy="37148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214200" y="207180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"Он все с ней, коли дома", вспоминали дворовые люди с. Михайловско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ojar1i"/>
          <p:cNvPicPr/>
          <p:nvPr/>
        </p:nvPicPr>
        <p:blipFill>
          <a:blip r:embed="rId1"/>
          <a:stretch/>
        </p:blipFill>
        <p:spPr>
          <a:xfrm>
            <a:off x="428760" y="21420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arevn1i"/>
          <p:cNvPicPr/>
          <p:nvPr/>
        </p:nvPicPr>
        <p:blipFill>
          <a:blip r:embed="rId2"/>
          <a:stretch/>
        </p:blipFill>
        <p:spPr>
          <a:xfrm>
            <a:off x="3571920" y="214200"/>
            <a:ext cx="1785960" cy="1895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arevni"/>
          <p:cNvPicPr/>
          <p:nvPr/>
        </p:nvPicPr>
        <p:blipFill>
          <a:blip r:embed="rId3"/>
          <a:stretch/>
        </p:blipFill>
        <p:spPr>
          <a:xfrm>
            <a:off x="642960" y="421488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Riba1i"/>
          <p:cNvPicPr/>
          <p:nvPr/>
        </p:nvPicPr>
        <p:blipFill>
          <a:blip r:embed="rId4"/>
          <a:stretch/>
        </p:blipFill>
        <p:spPr>
          <a:xfrm>
            <a:off x="6215040" y="214200"/>
            <a:ext cx="2462400" cy="183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alt3i"/>
          <p:cNvPicPr/>
          <p:nvPr/>
        </p:nvPicPr>
        <p:blipFill>
          <a:blip r:embed="rId5"/>
          <a:stretch/>
        </p:blipFill>
        <p:spPr>
          <a:xfrm>
            <a:off x="6500880" y="4214880"/>
            <a:ext cx="2144520" cy="2387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6"/>
          <a:stretch/>
        </p:blipFill>
        <p:spPr>
          <a:xfrm>
            <a:off x="3571920" y="4143240"/>
            <a:ext cx="2206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2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2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2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2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2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User</cp:lastModifiedBy>
  <dcterms:modified xsi:type="dcterms:W3CDTF">2014-10-31T12:28:58Z</dcterms:modified>
  <cp:revision>101</cp:revision>
  <dc:subject/>
  <dc:title>Слайд 1</dc:title>
</cp:coreProperties>
</file>