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gif" ContentType="image/gif"/>
  <Override PartName="/ppt/media/image9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42E-3931-4CC8-AFB2-6224468A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A55-30F2-43F9-BC23-316821D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EBB-3297-4026-AFC0-D27BF95D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320-657E-40A7-8830-25361B8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3EA-AC27-484F-8401-251916DA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3CE8-8B56-4D7F-A214-FD742B7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593-2339-4931-B735-E3A0B8D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75ED-43EF-42DD-94F9-BB2D623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F95-BFC6-4AD7-BD57-F4F864C8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AED-03D5-49AD-81B2-872A2944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4A2-D332-4BB1-AD69-BA5E9034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9F4-D63D-477D-8218-1E3091C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9715-79E2-48D5-A973-7DCDEDA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A215-E9C9-4826-B096-47694F6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DC44-C02F-4613-852A-A171F4FF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86CB-DB47-48A5-95BA-848E81CD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9EB9-2A73-4C25-B73D-74CE72EC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E573-040B-4F9D-94F2-D8B18EFF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7B260-0E28-473A-8172-A75BAF1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4969-8519-4B4A-A679-2AF6BC8B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3D11-9F88-4F67-BA7D-310B1632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948F-DE69-4513-9A17-51010C6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D69-FCE6-46CE-8ABA-28D6E10C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F2B9-8E78-4F3C-9AA8-14C3CDC6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BED35-BE2A-4ADE-B84A-28F25ED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80FE-C303-4D6A-847E-348821EA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598D6-105D-490F-8263-10AD1F9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EB3E-58F7-491C-86EE-A2990B1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52A3-D0EF-464E-B71F-7E2A8E19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BC57-B5B4-46FD-8E3B-8A40E7BC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489-FD48-47C3-A273-B1B2F72A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4B2-938F-4B9C-BDC5-7F7B38C7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297-E7FA-4199-8C54-3614A9A6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BE1-9FD4-4C24-8BEF-10AC35F1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184-E8D8-4D4C-A0C1-539FF4C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27C-EC04-4800-9A10-9192CEF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EAE5-916C-4B75-B312-FEE13843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0A6-855C-48DF-8F00-F823FC01B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A81C-2F84-41CE-8BBB-C77FC5992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5280" y="972720"/>
            <a:ext cx="849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ришла, улыбнулась – утихли мет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Позванивать стал колокольчик кап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ека пробудилась, растаяли ль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И птицы пропели: «Вить гнёзда пор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55640" y="62164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И. Левитан «Конец зимы. Мар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99240" y="6156360"/>
            <a:ext cx="56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К. Юон «Конец зи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5013360"/>
            <a:ext cx="34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ёдор Иванович    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4140360" y="1052640"/>
            <a:ext cx="4464000" cy="262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Ф. И. Тютч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«Зима недаром злится…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Фёдор Тютчев"/>
          <p:cNvPicPr/>
          <p:nvPr/>
        </p:nvPicPr>
        <p:blipFill>
          <a:blip r:embed="rId2"/>
          <a:stretch/>
        </p:blipFill>
        <p:spPr>
          <a:xfrm>
            <a:off x="468360" y="333360"/>
            <a:ext cx="3713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5986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нудит   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всё засуетилось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хлопочет    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наперекор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7640" y="1484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заставля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2708280"/>
            <a:ext cx="48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Зашевелилось, пришло в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400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пытается останов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7640" y="458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против  жел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8768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427640" y="-31608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8269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59130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sp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70" name="Text Box 5"/>
          <p:cNvSpPr/>
          <p:nvPr/>
        </p:nvSpPr>
        <p:spPr>
          <a:xfrm>
            <a:off x="324000" y="0"/>
            <a:ext cx="3600360" cy="198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Ф. И. Тютч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Весенние вод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2565360"/>
            <a:ext cx="3095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нный бр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н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лас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2421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рег, спящий под снег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9337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сланцы вес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лосят, крич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polenovo6"/>
          <p:cNvPicPr/>
          <p:nvPr/>
        </p:nvPicPr>
        <p:blipFill>
          <a:blip r:embed="rId2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12600">
            <a:solidFill>
              <a:srgbClr val="0066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3330720"/>
            <a:ext cx="4788000" cy="352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spring"/>
          <p:cNvPicPr/>
          <p:nvPr/>
        </p:nvPicPr>
        <p:blipFill>
          <a:blip r:embed="rId5"/>
          <a:stretch/>
        </p:blipFill>
        <p:spPr>
          <a:xfrm>
            <a:off x="4716360" y="0"/>
            <a:ext cx="4427640" cy="330048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0" y="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40360" y="342900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59640" y="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8360" y="33577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8768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427640" y="-316080"/>
            <a:ext cx="4716360" cy="3645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"/>
          <a:stretch/>
        </p:blipFill>
        <p:spPr>
          <a:xfrm>
            <a:off x="8269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913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7:51:50Z</dcterms:created>
  <dc:creator>Наталья</dc:creator>
  <dc:description/>
  <dc:language>en-US</dc:language>
  <cp:lastModifiedBy>user</cp:lastModifiedBy>
  <dcterms:modified xsi:type="dcterms:W3CDTF">2014-02-06T16:37:09Z</dcterms:modified>
  <cp:revision>13</cp:revision>
  <dc:subject/>
  <dc:title>Слайд 1</dc:title>
</cp:coreProperties>
</file>