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5AD-9AF9-4481-96DB-6C2164EE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B47A-D376-463B-BF1F-BC4FE42B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CDBC-1A94-4507-88A5-53D7351A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4097-07D2-4C13-A77E-D9CEC3D0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C8A0A-E3C4-41A1-B744-C880E5A15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043F-313A-40CC-8BCB-4265BC4CF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71A8-05D6-44EE-9D6D-1D9397F6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2814-2BAD-48CD-8F01-95253855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A3F4-D035-4E02-8257-EB44B0ABB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D2F8-133B-4479-A816-E4CDB5CE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A09E-160C-49B7-BE3E-F639F52E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A0F3-B973-4E49-8FC3-397A8E7A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45B2-7067-4F82-80D0-B749B4E6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5047-5A32-42C5-BB50-C5B8A025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F1DC-30F3-40C2-A439-4D3D7768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FCAB-3B76-4F88-B8A6-728B5D1B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8C87-BD02-459B-B42B-410060D20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EC38-FD1A-4DF3-95D4-5DBAF0F8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EBF-EC11-4538-B0B9-2E8F494DA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3DEF-C9B5-4984-9177-E5A41F37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212-1293-483A-A31A-7DE75B66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8804-2DC8-4BAF-B752-8BB92E50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3A88-038C-4444-864A-4D140E10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E8E8-7464-4C99-A964-3A654532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5050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CD49-127D-42D3-B8A5-06FB373D7DA2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5050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87D30-22AF-4750-AB7D-A47F1DC594C6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280" y="1483920"/>
            <a:ext cx="7791480" cy="16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Tahoma"/>
              </a:rPr>
              <a:t>ИГРА-ВИКТОРИНА</a:t>
            </a:r>
            <a:br>
              <a:rPr sz="6000"/>
            </a:b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ПО СКАЗКАМ А.С.ПУШКИНА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cf01"/>
                </a:solidFill>
                <a:latin typeface="Tahoma"/>
              </a:rPr>
              <a:t>«СКАЗКА ЗА СКАЗКОЙ»</a:t>
            </a:r>
            <a:endParaRPr b="0" lang="en-US" sz="5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690D-9E78-4DAE-A875-368489F6CB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322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4301-7BF5-4DB3-8592-4E88CE8D496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6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47640" y="1268280"/>
            <a:ext cx="5904000" cy="4448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8571-A735-4431-8E21-8C3121102F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" dur="5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19280" y="1125360"/>
            <a:ext cx="6013440" cy="451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AEB-2684-487A-999B-2D7AD38451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9360">
            <a:solidFill>
              <a:srgbClr val="ffcf01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E778-35AD-4FCC-8FAB-71D882D397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676760" y="0"/>
            <a:ext cx="446724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8AEF-2375-4CFB-92C2-D182689F3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228000" cy="4672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A22-9353-42B6-A6F8-D69E2192F9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514-C7BD-4081-A62C-DB5BA04636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0"/>
                            </p:stCondLst>
                            <p:childTnLst>
                              <p:par>
                                <p:cTn id="4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6011640" cy="450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AFD6-BC05-4AF2-B40F-7E0DC51C1A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" dur="3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63640" y="1197000"/>
            <a:ext cx="5867640" cy="4400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AB1-290C-42A1-B19E-FB99B3D1F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Боряева Ирина Валерьевна г.Заречный Пензенской обл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1C32-6DBF-4AB5-89BD-B1DDF49DAE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6:13:25Z</dcterms:created>
  <dc:creator>Татьяна</dc:creator>
  <dc:description/>
  <dc:language>en-US</dc:language>
  <cp:lastModifiedBy>Admin</cp:lastModifiedBy>
  <dcterms:modified xsi:type="dcterms:W3CDTF">2014-12-13T09:43:00Z</dcterms:modified>
  <cp:revision>5</cp:revision>
  <dc:subject/>
  <dc:title>ИГРА-ВИКТОРИНА ПО СКАЗКАМ А.С.ПУШКИНА</dc:title>
</cp:coreProperties>
</file>