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433B-0D8D-490B-AAB8-DAF784B52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AEA7-2367-4B9A-BA05-489811941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2D74-2F04-4C58-85C8-F1E090BF7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A6D3-0CF0-41C3-A99B-D557852D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3D35-D984-4A31-8CEC-8471523C6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482A-F91A-4448-B09B-152826884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15AB8-52D8-4156-915E-912F64B3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2352-AEA7-483E-A0EC-6D70D09FB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CE77-003C-44A5-B7F1-073EBB74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46C-8303-45D3-81D2-A9FF83DD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D38C-7031-443F-97E6-9B2EC917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B75C-3E6A-4CF6-B1C6-A1A0CC4A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1C63-4059-4908-B56F-AE56568B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9D97-B643-4209-BBB0-BDB4CD5E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7DE9-D877-48A7-BEA6-E6ED0A24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0EB1-6BE9-4C55-BA9D-49B30AA1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1342-5CE3-441D-92E4-C11738CEC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FB4-3E31-45B1-93CE-BA228BC6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0DF-B79D-4E5D-813C-FF0F06E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D39E-EEC3-448B-9EC3-D0BD65BA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1F8-0BDE-4BCC-BAA2-0445133A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EDB4-C7AD-4EE6-A809-3031B8FA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2823-600A-4545-8919-4EA70CF5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391-0434-4C65-8959-0E00D045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E6CEE-1803-4ECD-B22C-73CA57BA5250}" type="slidenum">
              <a:rPr b="0" lang="ru-RU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47BC7-2C7A-47FB-80DE-AB376AC1E0A0}" type="slidenum">
              <a:rPr b="0" lang="ru-RU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483920"/>
            <a:ext cx="7791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ahoma"/>
              </a:rPr>
              <a:t>ИГРА-ВИКТОРИНА</a:t>
            </a:r>
            <a:br>
              <a:rPr sz="6000"/>
            </a:b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ПО СТИХАМ А.С.ПУШКИНА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486F-FB00-4472-A136-C14F47F242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ПОДСКАЖИ СЛОВЕЧКО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71280" y="5589720"/>
            <a:ext cx="7421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1.  Буря мглою небо кроет ..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5473800" cy="34322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48FD-B6F8-46CC-98C4-10175D47D4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ПОДСКАЖИ СЛОВЕЧКО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7280" y="5373720"/>
            <a:ext cx="74217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2.  Мороз и солнце!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День чудесный!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4824360" cy="3281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DE60-EE18-4813-A0E1-66B75313D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ПОДСКАЖИ СЛОВЕЧКО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5157720"/>
            <a:ext cx="742176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3.  У лукоморья дуб зелёны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Златая цепь на дубе том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165920" cy="29718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DC6-6597-473E-936E-C88F35967C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ПОДСКАЖИ СЛОВЕЧКО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7280" y="5516280"/>
            <a:ext cx="7421760" cy="10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4.  Уж небо сенью дышало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50920" y="2060640"/>
            <a:ext cx="4824720" cy="34099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D3E4-5C65-4118-A6D8-91D8A5A6C9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ПОДСКАЖИ СЛОВЕЧКО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6560" y="5157720"/>
            <a:ext cx="7782120" cy="13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5.  Зима! Крестьянин, торжествуя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     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На дровнях обновляет путь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464360" cy="29955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8940-8BAA-4B50-B802-C92D89A1D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49:56Z</dcterms:created>
  <dc:creator>Татьяна</dc:creator>
  <dc:description/>
  <dc:language>en-US</dc:language>
  <cp:lastModifiedBy>Admin</cp:lastModifiedBy>
  <dcterms:modified xsi:type="dcterms:W3CDTF">2011-11-25T11:29:04Z</dcterms:modified>
  <cp:revision>13</cp:revision>
  <dc:subject/>
  <dc:title>ВИКТОРИНА</dc:title>
</cp:coreProperties>
</file>