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9BAF-5431-4E20-A725-02415D1B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169F-3823-4D5E-8005-E6723411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1E7E-2601-442F-A63A-DE9E1689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E8B-99E0-446C-994E-F1AAB637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710A7-5FC0-4DB4-B085-919EFCE7F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A436-50B0-49BC-BACC-AB8E7EA1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963A-8838-4F0F-A9A8-D547C409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9683-9DC4-40A4-8369-E3B0063E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4287-35E2-4289-808A-A3644C3D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75CF-7425-4BB3-A1CE-719C71264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C3BE-7502-4976-BB5D-9177D571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5116-4A45-4E11-BB48-BB0C84102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C454-DFF9-4501-85C3-C863D7E6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8122-F9C6-42EC-BB40-548FBF0A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927A-21FE-4094-9153-3772F762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C5599-834F-49BA-9ECA-B553160C8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58FF-FF73-4D03-A9FE-A2A62C53B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552-F975-4242-846C-5E823515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4FF1-BBC1-4E62-AC74-B9BFD112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C0CC-E85B-46FB-BF0C-A55F31A1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144-44DF-4C7A-89AC-A486DB40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F557-FBDD-43B4-87A7-FC948E81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D97-F1F2-474E-859A-8DF41252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39F2-1FC6-49F1-A07F-95E2B906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BEBE-FF37-4654-A2BF-77728840BC1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F1E1-879D-4F48-9193-503390AE1AFC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1483920"/>
            <a:ext cx="77914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Tahoma"/>
              </a:rPr>
              <a:t>ИГРА-ВИКТОРИНА</a:t>
            </a:r>
            <a:br>
              <a:rPr sz="6000"/>
            </a:b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ПО СКАЗКАМ А.С.ПУШКИНА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cf01"/>
                </a:solidFill>
                <a:latin typeface="Tahoma"/>
              </a:rPr>
              <a:t>«СКАЗКА ЗА СКАЗКОЙ»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986C-8888-4FCB-A2B7-F2D5120421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V 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КОНКУРС</a:t>
            </a:r>
            <a:br>
              <a:rPr sz="4400"/>
            </a:b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ТАК ВСЕ НАЧИНАЛОСЬ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475920" y="3716280"/>
            <a:ext cx="621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Жил-был поп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олоконный ло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шел поп по база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смотреть кой-какого това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Сказка о попе и работнике его Балд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32680" y="2060640"/>
            <a:ext cx="2590560" cy="3313080"/>
          </a:xfrm>
          <a:prstGeom prst="rect">
            <a:avLst/>
          </a:prstGeom>
          <a:ln w="9360">
            <a:solidFill>
              <a:srgbClr val="ffcf01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B0E-B331-4FC7-9528-92602DC8E90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V 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КОНКУРС</a:t>
            </a:r>
            <a:br>
              <a:rPr sz="4400"/>
            </a:b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ТАК ВСЕ НАЧИНАЛОСЬ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997360"/>
            <a:ext cx="566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Жил старик со своею старухо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У самого синего мор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Сказка о рыбаке и рыбке.</a:t>
            </a:r>
            <a:r>
              <a:rPr b="1" lang="en-US" sz="2400" spc="-1" strike="noStrike">
                <a:solidFill>
                  <a:srgbClr val="ffcf01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443640" y="2708280"/>
            <a:ext cx="2125800" cy="3311640"/>
          </a:xfrm>
          <a:prstGeom prst="rect">
            <a:avLst/>
          </a:prstGeom>
          <a:ln w="9360">
            <a:solidFill>
              <a:srgbClr val="ffcf01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6A1-39B0-46E1-BFE4-795E2CBEFD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0" dur="5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3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V 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КОНКУРС</a:t>
            </a:r>
            <a:br>
              <a:rPr sz="4400"/>
            </a:b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ТАК ВСЕ НАЧИНАЛОСЬ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2708280"/>
            <a:ext cx="412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ри девицы под окн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яли поздно вечерк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Сказка о царе Салт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46000" y="2708280"/>
            <a:ext cx="2373480" cy="3457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E85-568B-4AA1-8D6F-ABCE4C5974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V 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КОНКУРС</a:t>
            </a:r>
            <a:br>
              <a:rPr sz="4400"/>
            </a:b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ТАК ВСЕ НАЧИНАЛОСЬ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3280" y="4220640"/>
            <a:ext cx="712944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Царь с царицею простилс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В путь дорогу снарядился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И царица у окна села ждать его одна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2000" spc="-1" strike="noStrike">
                <a:solidFill>
                  <a:srgbClr val="ffcf01"/>
                </a:solidFill>
                <a:latin typeface="Tahoma"/>
              </a:rPr>
              <a:t>Сказка о мёртвой царевне и о семи богатырях.</a:t>
            </a:r>
            <a:r>
              <a:rPr b="1" lang="en-US" sz="2000" spc="-1" strike="noStrike">
                <a:solidFill>
                  <a:srgbClr val="ffcf01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2232000" cy="16588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877080" y="2205000"/>
            <a:ext cx="1592280" cy="23050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BA23-5315-4D9D-B205-F03EBEE731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V 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КОНКУРС</a:t>
            </a:r>
            <a:br>
              <a:rPr sz="4400"/>
            </a:b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ТАК ВСЕ НАЧИНАЛОСЬ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2924280"/>
            <a:ext cx="567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Некогда в тридевятом царств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 тридесятом государств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Жил-был славный царь Дадон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Смолоду был грозен о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cf01"/>
                </a:solidFill>
                <a:latin typeface="Tahoma"/>
              </a:rPr>
              <a:t>Сказка о золотом петуш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81200" y="2492280"/>
            <a:ext cx="1728720" cy="2592360"/>
          </a:xfrm>
          <a:prstGeom prst="rect">
            <a:avLst/>
          </a:prstGeom>
          <a:ln w="9360">
            <a:solidFill>
              <a:srgbClr val="ffcf01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514E-5289-4956-8E62-9D8B1E97D22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4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7" dur="1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10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10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576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8920" y="333000"/>
            <a:ext cx="68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ИНСЦЕНИРОВКА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63640" y="2276640"/>
            <a:ext cx="5113440" cy="38066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A14-8096-41BB-BF77-A8B347AF24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19280" y="836280"/>
            <a:ext cx="65167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ИНСЦЕНИРОВКА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58920" y="1824120"/>
            <a:ext cx="7885080" cy="5033880"/>
          </a:xfrm>
          <a:prstGeom prst="rect">
            <a:avLst/>
          </a:prstGeom>
          <a:ln w="9360">
            <a:solidFill>
              <a:srgbClr val="ffcf0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31CF-A9E6-4C74-BDF8-CAA648484B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Х  КОНКУРС</a:t>
            </a:r>
            <a:br>
              <a:rPr sz="4400"/>
            </a:b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ВОПРОСЫ УЧЕНОГО КОТА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569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f01"/>
                </a:solidFill>
                <a:latin typeface="Tahoma"/>
              </a:rPr>
              <a:t>Как называется остров, лежащий на пути в царство славного Салтана?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 rot="21070200">
            <a:off x="2410920" y="3860280"/>
            <a:ext cx="3313080" cy="2478240"/>
          </a:xfrm>
          <a:prstGeom prst="rect">
            <a:avLst/>
          </a:prstGeom>
          <a:ln w="9360">
            <a:solidFill>
              <a:srgbClr val="ffcf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15FE-F1B4-441A-94E1-EB30D99904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Х  КОНКУРС</a:t>
            </a:r>
            <a:br>
              <a:rPr sz="4400"/>
            </a:b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ВОПРОСЫ УЧЕНОГО КОТА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74200" y="2421000"/>
            <a:ext cx="81010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f01"/>
                </a:solidFill>
                <a:latin typeface="Tahoma"/>
              </a:rPr>
              <a:t>За какую плату нанял поп работника?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12877" t="12204" r="11958" b="24408"/>
          <a:stretch/>
        </p:blipFill>
        <p:spPr>
          <a:xfrm rot="20751600">
            <a:off x="3419280" y="3860280"/>
            <a:ext cx="1935000" cy="20876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FE70-F618-46BA-A758-E272D35DC5F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Х  КОНКУРС</a:t>
            </a:r>
            <a:br>
              <a:rPr sz="4400"/>
            </a:b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ВОПРОСЫ УЧЕНОГО КОТА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28036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f01"/>
                </a:solidFill>
                <a:latin typeface="Tahoma"/>
              </a:rPr>
              <a:t>Назовите любимую песенку белочки из сказки о царе Салтане.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 rot="21127200">
            <a:off x="2627280" y="3789000"/>
            <a:ext cx="3382920" cy="253044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9EA0-7796-4932-8BE9-CA2AF8EE4E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I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 КОНКУРС</a:t>
            </a:r>
            <a:br>
              <a:rPr sz="4400"/>
            </a:b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Сказка за сказкой</a:t>
            </a:r>
            <a:r>
              <a:rPr b="0" lang="ru-RU" sz="4000" spc="-1" strike="noStrike">
                <a:solidFill>
                  <a:srgbClr val="ddddd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2421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Сказка о попе и о работнике его Балд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Сказка о царе Салтан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Сказке о рыбаке и рыб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Сказка о мёртвой царевне .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Сказка о золотом петуш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Сказка о медведихе. ( не закончен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 rot="20664000">
            <a:off x="899640" y="333000"/>
            <a:ext cx="1513080" cy="20160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484360" y="260280"/>
            <a:ext cx="1398600" cy="2160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20245200">
            <a:off x="3779640" y="404640"/>
            <a:ext cx="1885680" cy="186876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5508720" y="260280"/>
            <a:ext cx="1492200" cy="2160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 rot="753000">
            <a:off x="7103880" y="325080"/>
            <a:ext cx="1517400" cy="208764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4AA1-BAC4-451E-ACF8-CE29746283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Х  КОНКУРС</a:t>
            </a:r>
            <a:br>
              <a:rPr sz="4400"/>
            </a:b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ВОПРОСЫ УЧЕНОГО КОТА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3640" y="2133360"/>
            <a:ext cx="8569080" cy="17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 algn="just">
              <a:lnSpc>
                <a:spcPct val="8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f01"/>
                </a:solidFill>
                <a:latin typeface="Tahoma"/>
              </a:rPr>
              <a:t>Как звали бабушку князя Гвидона?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523800" indent="-523800" algn="just">
              <a:lnSpc>
                <a:spcPct val="8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f01"/>
                </a:solidFill>
                <a:latin typeface="Tahoma"/>
              </a:rPr>
              <a:t>Какая природная сила знала ответ на вопрос королевича Елисея?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 rot="21001800">
            <a:off x="4284720" y="4076640"/>
            <a:ext cx="1825560" cy="25178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44C8-F491-43F1-A24D-19E8B97980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36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Х  КОНКУРС</a:t>
            </a:r>
            <a:br>
              <a:rPr sz="4400"/>
            </a:b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ВОПРОСЫ УЧЕНОГО КОТА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7920000" cy="44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f01"/>
                </a:solidFill>
                <a:latin typeface="Tahoma"/>
              </a:rPr>
              <a:t>Назовите кличку собаки семи богатырей.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f01"/>
                </a:solidFill>
                <a:latin typeface="Tahoma"/>
              </a:rPr>
              <a:t>В кого превращался царь Гвидон?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just">
              <a:lnSpc>
                <a:spcPct val="80000"/>
              </a:lnSpc>
              <a:spcBef>
                <a:spcPts val="850"/>
              </a:spcBef>
              <a:buClr>
                <a:srgbClr val="ffcf01"/>
              </a:buClr>
              <a:buSzPct val="60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cf01"/>
                </a:solidFill>
                <a:latin typeface="Tahoma"/>
              </a:rPr>
              <a:t>Кто был наказан за то, что не выполнил обещание, данное</a:t>
            </a:r>
            <a:r>
              <a:rPr b="0" lang="ru-RU" sz="3400" spc="-1" strike="noStrike">
                <a:solidFill>
                  <a:srgbClr val="ffcf01"/>
                </a:solidFill>
                <a:latin typeface="Tahoma"/>
              </a:rPr>
              <a:t> </a:t>
            </a:r>
            <a:r>
              <a:rPr b="1" lang="ru-RU" sz="3400" spc="-1" strike="noStrike">
                <a:solidFill>
                  <a:srgbClr val="ffcf01"/>
                </a:solidFill>
                <a:latin typeface="Tahoma"/>
              </a:rPr>
              <a:t>мудрецу? 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9996-6C44-407B-9022-8A07D4D1F7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2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7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2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II 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КОНКУРС</a:t>
            </a:r>
            <a:br>
              <a:rPr sz="3200"/>
            </a:br>
            <a:r>
              <a:rPr b="1" lang="ru-RU" sz="3200" spc="-1" strike="noStrike">
                <a:solidFill>
                  <a:srgbClr val="ff5050"/>
                </a:solidFill>
                <a:latin typeface="Tahoma"/>
              </a:rPr>
              <a:t>ТАМ НА НЕВЕДОМЫХ ДОРОЖКАХ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843280" y="2565360"/>
            <a:ext cx="60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Живёт он в поповом дом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пит на солом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ст за четверы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Работает за семер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Балд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2363760" cy="252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4D4-D6A8-4CAA-8358-96A1F051C2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II 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КОНКУРС</a:t>
            </a:r>
            <a:br>
              <a:rPr sz="3200"/>
            </a:br>
            <a:r>
              <a:rPr b="1" lang="ru-RU" sz="3200" spc="-1" strike="noStrike">
                <a:solidFill>
                  <a:srgbClr val="ff5050"/>
                </a:solidFill>
                <a:latin typeface="Tahoma"/>
              </a:rPr>
              <a:t>ТАМ НА НЕВЕДОМЫХ ДОРОЖКАХ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2060640"/>
            <a:ext cx="6415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равду молвить, молодиц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ж и впрямь была цар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ысока, стройна, бел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И умом и всем взял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Мачех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76720" y="4127400"/>
            <a:ext cx="3814920" cy="248292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73AB-846F-4B58-BDFF-7844BEA764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II 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КОНКУРС</a:t>
            </a:r>
            <a:br>
              <a:rPr sz="3200"/>
            </a:br>
            <a:r>
              <a:rPr b="1" lang="ru-RU" sz="3200" spc="-1" strike="noStrike">
                <a:solidFill>
                  <a:srgbClr val="ff5050"/>
                </a:solidFill>
                <a:latin typeface="Tahoma"/>
              </a:rPr>
              <a:t>ТАМ НА НЕВЕДОМЫХ ДОРОЖКАХ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99600" y="2205000"/>
            <a:ext cx="6400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Говорят, царевна ес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Что не можно глаз отве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нём свет божий затмевае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очью землю освеща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Царевна-лебед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407280" y="3860640"/>
            <a:ext cx="2317680" cy="26514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A818-F6B1-4977-B893-60E9DFB6D4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II 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КОНКУРС</a:t>
            </a:r>
            <a:br>
              <a:rPr sz="3200"/>
            </a:br>
            <a:r>
              <a:rPr b="1" lang="ru-RU" sz="3200" spc="-1" strike="noStrike">
                <a:solidFill>
                  <a:srgbClr val="ff5050"/>
                </a:solidFill>
                <a:latin typeface="Tahoma"/>
              </a:rPr>
              <a:t>ТАМ НА НЕВЕДОМЫХ ДОРОЖКАХ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1989000"/>
            <a:ext cx="784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Чуть опасность где видн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ерный сторож, как во сн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Шевельнётся, встрепенётс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 той сторонке обернёт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Золотой петуш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84720" y="4094280"/>
            <a:ext cx="2536920" cy="2433600"/>
          </a:xfrm>
          <a:prstGeom prst="rect">
            <a:avLst/>
          </a:prstGeom>
          <a:ln w="9360">
            <a:solidFill>
              <a:srgbClr val="ffcf01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7DF-2CAE-4046-8AD7-2F7E6C6D24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II 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КОНКУРС</a:t>
            </a:r>
            <a:br>
              <a:rPr sz="3200"/>
            </a:br>
            <a:r>
              <a:rPr b="1" lang="ru-RU" sz="3200" spc="-1" strike="noStrike">
                <a:solidFill>
                  <a:srgbClr val="ff5050"/>
                </a:solidFill>
                <a:latin typeface="Tahoma"/>
              </a:rPr>
              <a:t>ТАМ НА НЕВЕДОМЫХ ДОРОЖКАХ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48120" y="2205000"/>
            <a:ext cx="586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се красавцы молоды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еликаны удалы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се равны как на подбо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 ними дядька Черномо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33 богатыря.</a:t>
            </a:r>
            <a:r>
              <a:rPr b="1" lang="ru-RU" sz="3200" spc="-1" strike="noStrike">
                <a:solidFill>
                  <a:srgbClr val="ffcf01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3280" y="4624560"/>
            <a:ext cx="4199040" cy="19825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D39-16B7-4994-8FC1-71342BA17F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II 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КОНКУРС</a:t>
            </a:r>
            <a:br>
              <a:rPr sz="3200"/>
            </a:br>
            <a:r>
              <a:rPr b="1" lang="ru-RU" sz="3200" spc="-1" strike="noStrike">
                <a:solidFill>
                  <a:srgbClr val="ff5050"/>
                </a:solidFill>
                <a:latin typeface="Tahoma"/>
              </a:rPr>
              <a:t>ТАМ НА НЕВЕДОМЫХ ДОРОЖКАХ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3637440" y="3068640"/>
            <a:ext cx="5269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Белолица, чернобров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Нраву кроткого таког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f01"/>
                </a:solidFill>
                <a:latin typeface="Tahoma"/>
              </a:rPr>
              <a:t>Царев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26920" y="2997360"/>
            <a:ext cx="2484720" cy="1935000"/>
          </a:xfrm>
          <a:prstGeom prst="rect">
            <a:avLst/>
          </a:prstGeom>
          <a:ln w="9360">
            <a:solidFill>
              <a:srgbClr val="ffcf01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569-3F56-4630-B129-25C82F4D138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5050"/>
                </a:solidFill>
                <a:latin typeface="Tahoma"/>
              </a:rPr>
              <a:t>III </a:t>
            </a:r>
            <a:r>
              <a:rPr b="1" lang="ru-RU" sz="4400" spc="-1" strike="noStrike">
                <a:solidFill>
                  <a:srgbClr val="ff5050"/>
                </a:solidFill>
                <a:latin typeface="Tahoma"/>
              </a:rPr>
              <a:t>КОНКУРС</a:t>
            </a:r>
            <a:br>
              <a:rPr sz="3200"/>
            </a:br>
            <a:r>
              <a:rPr b="1" lang="ru-RU" sz="3200" spc="-1" strike="noStrike">
                <a:solidFill>
                  <a:srgbClr val="ff5050"/>
                </a:solidFill>
                <a:latin typeface="Tahoma"/>
              </a:rPr>
              <a:t>ТАМ НА НЕВЕДОМЫХ ДОРОЖКАХ</a:t>
            </a:r>
            <a:endParaRPr b="0" lang="en-US" sz="32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456000" y="2276640"/>
            <a:ext cx="56880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арчовая на маковке кичк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Жемчуги огрузили шею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руках золотые перстн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ногах красные сапожк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cf01"/>
                </a:solidFill>
                <a:latin typeface="Tahoma"/>
              </a:rPr>
              <a:t>Старух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5280" y="2349360"/>
            <a:ext cx="2881440" cy="2735280"/>
          </a:xfrm>
          <a:prstGeom prst="rect">
            <a:avLst/>
          </a:prstGeom>
          <a:ln w="9360">
            <a:solidFill>
              <a:srgbClr val="ffcf01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92B-7149-4857-8E80-C9A4AD4DFB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7:49:56Z</dcterms:created>
  <dc:creator>Татьяна</dc:creator>
  <dc:description/>
  <dc:language>en-US</dc:language>
  <cp:lastModifiedBy>Admin</cp:lastModifiedBy>
  <dcterms:modified xsi:type="dcterms:W3CDTF">2014-12-13T09:43:56Z</dcterms:modified>
  <cp:revision>14</cp:revision>
  <dc:subject/>
  <dc:title>ВИКТОРИНА</dc:title>
</cp:coreProperties>
</file>