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24A4-E1F8-4852-9A64-1E21F9AF1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19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5320"/>
            <a:ext cx="82119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1BE3-E917-40FF-8B78-858582B4A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F41C-EA3D-4109-9C71-89F65821A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160" y="160020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9840" y="160020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532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160" y="395532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9840" y="395532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B678-B953-4657-8B66-4558125C9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F1570-9943-4D27-A851-9CFB98B312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7C44-9446-4A52-BCB6-D2D98CCD8C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C10AB-22B8-4A5F-84A7-F1A85FF66A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5232-C293-4F32-91BC-26DEBAAAFA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C7CFE-9483-4936-8394-6107BDEB6F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-206640"/>
            <a:ext cx="82119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9786-E1A5-48B5-B5BA-BBF78C7245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9BC4-4B6C-44C9-9EEB-8E3276E092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E51F-FA72-454A-889B-B8EC5D6BA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488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6895E-7FBE-430A-90E5-C9862669FC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55320"/>
            <a:ext cx="82119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679D-698A-43C4-A61B-59B2A5D0ED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19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55320"/>
            <a:ext cx="82119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233F7-8CF0-4F6E-8FC4-175B178EAA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488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5D04-D327-4038-9B83-D10B021C84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3160" y="160020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9840" y="160020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5532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3160" y="395532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9840" y="3955320"/>
            <a:ext cx="264384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787C0-96F6-4D6D-8DF2-BCFC85B854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91B7-2C5B-4679-BA21-485FD0E49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B9D8-463F-4029-9C4B-365455916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15C9-58CC-4750-B483-0BBBC5B53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206640"/>
            <a:ext cx="82119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822A5-80F1-41AD-85A8-0A08BB91D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5D7B-229A-4C8F-88CB-0486DE741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395532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65FA7-3DB4-4BC8-8FDD-F339A6275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40071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5320"/>
            <a:ext cx="8211960" cy="2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34F3-0FEC-4E2F-9F4F-E88A9118E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4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16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3AD93-0CC3-4C07-B330-ECB48D97609B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11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160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53D9DF-3533-4477-A590-289A2C2E2BEA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79640" y="1260360"/>
            <a:ext cx="7380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ма урока: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Parts of the bod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0720" y="2519280"/>
            <a:ext cx="1619280" cy="1440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240000" y="25192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348160" y="2519280"/>
            <a:ext cx="1492200" cy="1440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380360" y="251928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720720" y="4680000"/>
            <a:ext cx="1619280" cy="126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3240000" y="4732200"/>
            <a:ext cx="1440000" cy="1208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5400720" y="4680000"/>
            <a:ext cx="1439640" cy="126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7380360" y="4680000"/>
            <a:ext cx="1422360" cy="1260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19280" y="539640"/>
            <a:ext cx="63007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big ey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19280" y="2160720"/>
            <a:ext cx="3600360" cy="2879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79640" y="360360"/>
            <a:ext cx="73800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Poggo has got a big hea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700360" y="2160720"/>
            <a:ext cx="3600360" cy="2879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79640" y="539640"/>
            <a:ext cx="59403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Find the word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519280"/>
            <a:ext cx="3959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ooeeark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3240000"/>
            <a:ext cx="3240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lkxnosee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140360"/>
            <a:ext cx="2519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odyyuu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0720" y="5040360"/>
            <a:ext cx="2700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lkjheadd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0720" y="2519280"/>
            <a:ext cx="2879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gtttleg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80000" y="3419640"/>
            <a:ext cx="2519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lktataillp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4319640"/>
            <a:ext cx="2519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longgsdf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5219640"/>
            <a:ext cx="2519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yeghjmn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60360" y="539640"/>
            <a:ext cx="6480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Look. read and comple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0720" y="1800360"/>
            <a:ext cx="6119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A sheep has got a sm_l_  n_s_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0720" y="2700360"/>
            <a:ext cx="6840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A chimp has got b_g ea_ 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0720" y="3600360"/>
            <a:ext cx="6840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A chick has got a sma_ _ h_a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720" y="4500720"/>
            <a:ext cx="828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A frog has got _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ig   ey_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0720" y="5400720"/>
            <a:ext cx="738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. A bear has got f_t  b_d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79640" y="1260360"/>
            <a:ext cx="73800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Hometask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19280" y="3060720"/>
            <a:ext cx="52196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р. т. с 38 упр. 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360360"/>
            <a:ext cx="70200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It's got a big mout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700360" y="2160720"/>
            <a:ext cx="4140000" cy="3240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60360" y="900000"/>
            <a:ext cx="70200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Small no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79640" y="2700360"/>
            <a:ext cx="3600360" cy="2879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20720" y="539640"/>
            <a:ext cx="75596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big ear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19280" y="2160720"/>
            <a:ext cx="3780000" cy="318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60360" y="539640"/>
            <a:ext cx="66596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small hea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19280" y="1979640"/>
            <a:ext cx="3780000" cy="306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79640" y="720720"/>
            <a:ext cx="66592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thin leg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700360" y="2160720"/>
            <a:ext cx="3600360" cy="3100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60360" y="720720"/>
            <a:ext cx="64803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fat bod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00360" y="1979640"/>
            <a:ext cx="3600360" cy="306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60360" y="179280"/>
            <a:ext cx="73803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long tai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340000" y="1800360"/>
            <a:ext cx="4140000" cy="3419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60360" y="720720"/>
            <a:ext cx="61200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short tai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340000" y="2160720"/>
            <a:ext cx="3959280" cy="3240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6:19:28Z</dcterms:created>
  <dc:creator>Егор</dc:creator>
  <dc:description/>
  <dc:language>en-US</dc:language>
  <cp:lastModifiedBy>User</cp:lastModifiedBy>
  <dcterms:modified xsi:type="dcterms:W3CDTF">2010-06-24T10:32:38Z</dcterms:modified>
  <cp:revision>9</cp:revision>
  <dc:subject/>
  <dc:title>Слайд 1</dc:title>
</cp:coreProperties>
</file>