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6D8-BC0A-450B-90F3-9B8FDE95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0A9-AEE7-4226-BBA3-0C6E1534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3F6-C8D6-44FB-9FDE-7AF2E6A6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BC8-7937-4CB9-90D2-440DB69C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BF3-DFDF-4BBF-94FB-32312EAC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9EF-508A-4CE1-A9CB-DAEF265C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E594-8356-4DB1-97D1-52B890C8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0F6C-BDE6-4F14-8D43-4731703B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D5F8-2328-4104-957B-F2362A7E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A69-5D3D-457D-8DCB-D9E8530F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D4A-2611-46B3-B961-254E70BA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17C-0141-4CCF-B284-F1DBCA32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B17E-80B7-488F-A176-2A083424A0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Домашнее задание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47640" y="1628640"/>
            <a:ext cx="60595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читать текс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готовить пересказ от имени мальчи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Урок оконч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Прямоугольник 3" descr=""/>
          <p:cNvPicPr/>
          <p:nvPr/>
        </p:nvPicPr>
        <p:blipFill>
          <a:blip r:embed="rId1"/>
          <a:stretch/>
        </p:blipFill>
        <p:spPr>
          <a:xfrm>
            <a:off x="2090880" y="2279520"/>
            <a:ext cx="523692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7742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Лев Николаевич Толстой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9 сентября 1828 г. – 20  ноября   1910 г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rcRect l="0" t="14037" r="0" b="13861"/>
          <a:stretch/>
        </p:blipFill>
        <p:spPr>
          <a:xfrm>
            <a:off x="2556000" y="2133720"/>
            <a:ext cx="41400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Речевая размин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7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6600" spc="-1" strike="noStrike">
                <a:solidFill>
                  <a:srgbClr val="1f497d"/>
                </a:solidFill>
                <a:latin typeface="Monotype Corsiva"/>
              </a:rPr>
              <a:t>Вез корабль карамель, наскочил  корабль  на мель,    матросы   две       недели   карамель   на    мели ели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Словарная работа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Monotype Corsiva"/>
              </a:rPr>
              <a:t>быль – рассказ о действительном происшеств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Monotype Corsiva"/>
              </a:rPr>
              <a:t>палуба – открытое место на корабле, куда пассажиры и члены команды могут выходить из своих каю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Monotype Corsiva"/>
              </a:rPr>
              <a:t>расходилась – дошла до крайней степени в проявлении каких-либо действий или чувст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Monotype Corsiva"/>
              </a:rPr>
              <a:t>мачта – конструкция на палубе, которая служит основой для крепления парус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Monotype Corsiva"/>
              </a:rPr>
              <a:t>аршин – старая русская мера дли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Monotype Corsiva"/>
              </a:rPr>
              <a:t>каюта – небольшая жилая комната на корабл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Monotype Corsiva"/>
              </a:rPr>
              <a:t>молодец– храбрец; сильный молодой челов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Кораб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5296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ФИЗМИНУТ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42920" y="1341360"/>
            <a:ext cx="36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Monotype Corsiva"/>
              </a:rPr>
              <a:t>Над волнами чайки кружа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Monotype Corsiva"/>
              </a:rPr>
              <a:t>Полетим за ними друж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Monotype Corsiva"/>
              </a:rPr>
              <a:t>Брызги пены, шум прибо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Monotype Corsiva"/>
              </a:rPr>
              <a:t>А над морем - мы с тобою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Monotype Corsiva"/>
              </a:rPr>
              <a:t>Мы теперь плывём по мор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Monotype Corsiva"/>
              </a:rPr>
              <a:t>И резвимся на просто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Monotype Corsiva"/>
              </a:rPr>
              <a:t>Веселее загреб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Monotype Corsiva"/>
              </a:rPr>
              <a:t>И дельфинов догоня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Monotype Corsiva"/>
              </a:rPr>
              <a:t>Поглядите: чайки важ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Monotype Corsiva"/>
              </a:rPr>
              <a:t>Ходят по морскому пляж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Monotype Corsiva"/>
              </a:rPr>
              <a:t>Сядьте, дети на песо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Monotype Corsiva"/>
              </a:rPr>
              <a:t>Продолжаем наш уро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На какие смысловые части можно разделить текст?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Monotype Corsiva"/>
              </a:rPr>
              <a:t>1. Где произошел этот случай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Monotype Corsiva"/>
              </a:rPr>
              <a:t>2. Кто зачинщи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Monotype Corsiva"/>
              </a:rPr>
              <a:t>3. Упрямый мальчи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Monotype Corsiva"/>
              </a:rPr>
              <a:t>4. Опасный момен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Monotype Corsiva"/>
              </a:rPr>
              <a:t>5. Выход из сложившейся ситуа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Monotype Corsiva"/>
              </a:rPr>
              <a:t>6. Счастливый конец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Композиционные части сюж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Billy051"/>
          <p:cNvPicPr/>
          <p:nvPr/>
        </p:nvPicPr>
        <p:blipFill>
          <a:blip r:embed="rId1"/>
          <a:stretch/>
        </p:blipFill>
        <p:spPr>
          <a:xfrm>
            <a:off x="324000" y="1197000"/>
            <a:ext cx="8424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Итог уро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71680" y="1052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произведением, какого писателя мы познакомились на уро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нового  узнали о корабля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главный герой рассказ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в конце рассказа ничего не говорится об обезья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User</cp:lastModifiedBy>
  <dcterms:modified xsi:type="dcterms:W3CDTF">2014-02-26T13:18:10Z</dcterms:modified>
  <cp:revision>13</cp:revision>
  <dc:subject/>
  <dc:title>Презентация PowerPoint</dc:title>
</cp:coreProperties>
</file>