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9.png" ContentType="image/png"/>
  <Override PartName="/ppt/media/image28.png" ContentType="image/png"/>
  <Override PartName="/ppt/media/image38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5.jpeg" ContentType="image/jpeg"/>
  <Override PartName="/ppt/media/image46.jpeg" ContentType="image/jpeg"/>
  <Override PartName="/ppt/media/image50.png" ContentType="image/png"/>
  <Override PartName="/ppt/media/image51.png" ContentType="image/png"/>
  <Override PartName="/ppt/media/image43.png" ContentType="image/png"/>
  <Override PartName="/ppt/media/image53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8.jpeg" ContentType="image/jpeg"/>
  <Override PartName="/ppt/media/image55.jpeg" ContentType="image/jpeg"/>
  <Override PartName="/ppt/media/image13.png" ContentType="image/png"/>
  <Override PartName="/ppt/media/image54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491-9915-462E-8368-ADAF249D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069-6178-4F9C-B783-9ADE6B1F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AA2-F1D6-4060-A275-A33116D7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70B3-CCEB-4757-AFD2-C16E6065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12C11-286B-4782-B100-8F174C6C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28DD3-082B-4A85-A370-9F02B780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BEEB3-2262-4261-9416-AE378806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D4278-820D-4757-B198-699FE757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B1FFB-AB0B-4436-94C2-94A04FD8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9767B-47A2-485A-960E-3F2D822C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16807-96A1-4A01-84A4-6A4228A4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3EE-1FE9-4693-84DB-9935F26F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9705A-ED6A-42B7-94CD-A3FD4DB1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0AF3B-C85A-4CA7-ACD0-061D46B4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220DF-8704-4CA7-96E5-29C5A887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DBEEE-406B-4FEE-9256-11AA2010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40BA4-51C5-4B7D-A8B5-522E8B88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7EF51-1374-4E12-B785-385B291E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FCD10-E8F4-4895-B0E2-004C044D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D7E61-1E83-4653-AB00-D6EE51FA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6762E-1EC3-49FD-9AB5-D408646F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DB160-8961-4C9F-9B07-963EC807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A760-F547-4F8B-A3E3-50B1EF44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FE949-C5C9-4953-8D16-FF4F3858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CF4F3-510A-4F38-B54D-70203817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E75B2-C207-4DFD-AD4C-1D6A27B6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47268-B6A4-47F8-B0A0-234D84B2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1ECCF-734F-4DF7-80F7-32BA3F80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1F3D5-8FA1-4D27-B261-C9804927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F48B4-18C4-4B21-824A-CAFF81D1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0FC76-0591-426E-B8BF-0AA05D28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81781-569A-480A-B8A2-C78CDE7E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0B4F8-395B-480E-B6FE-D329FFE2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C62-FD25-494F-AF60-EA846749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B1C81-ADB4-466C-8299-7C74F96E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C7E34-5A63-4918-A54E-D8EA65B6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069F7-5EDB-4913-BA96-535D2A9E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81CA6-AD1C-4501-8E2C-B7C2571D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BCBFC-8CBB-4D66-AC4D-DDF5F41E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B8861-8173-4D16-A083-CE7F231F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EA98E-F112-4A84-B119-E61D7691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BED4A-3B1E-48BA-B7CF-BF0E78B1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6E4C9-4786-4E3D-B978-10428F95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48C-A5ED-4445-9561-6F29975E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F28-23B6-4603-9709-C979E838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E83-352F-4E21-992D-37B4FB2D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C9D-F8A6-44BE-8224-95412BA8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6283-7690-463C-AC83-AD25E9C2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2.png"/><Relationship Id="rId32" Type="http://schemas.openxmlformats.org/officeDocument/2006/relationships/slideLayout" Target="../slideLayouts/slideLayout25.xml"/><Relationship Id="rId33" Type="http://schemas.openxmlformats.org/officeDocument/2006/relationships/slideLayout" Target="../slideLayouts/slideLayout26.xml"/><Relationship Id="rId34" Type="http://schemas.openxmlformats.org/officeDocument/2006/relationships/slideLayout" Target="../slideLayouts/slideLayout27.xml"/><Relationship Id="rId35" Type="http://schemas.openxmlformats.org/officeDocument/2006/relationships/slideLayout" Target="../slideLayouts/slideLayout28.xml"/><Relationship Id="rId36" Type="http://schemas.openxmlformats.org/officeDocument/2006/relationships/slideLayout" Target="../slideLayouts/slideLayout29.xml"/><Relationship Id="rId37" Type="http://schemas.openxmlformats.org/officeDocument/2006/relationships/slideLayout" Target="../slideLayouts/slideLayout30.xml"/><Relationship Id="rId38" Type="http://schemas.openxmlformats.org/officeDocument/2006/relationships/slideLayout" Target="../slideLayouts/slideLayout31.xml"/><Relationship Id="rId39" Type="http://schemas.openxmlformats.org/officeDocument/2006/relationships/slideLayout" Target="../slideLayouts/slideLayout32.xml"/><Relationship Id="rId40" Type="http://schemas.openxmlformats.org/officeDocument/2006/relationships/slideLayout" Target="../slideLayouts/slideLayout33.xml"/><Relationship Id="rId41" Type="http://schemas.openxmlformats.org/officeDocument/2006/relationships/slideLayout" Target="../slideLayouts/slideLayout34.xml"/><Relationship Id="rId42" Type="http://schemas.openxmlformats.org/officeDocument/2006/relationships/slideLayout" Target="../slideLayouts/slideLayout35.xml"/><Relationship Id="rId4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3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dae1"/>
            </a:gs>
            <a:gs pos="100000">
              <a:srgbClr val="8489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e9ed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6386-B046-45EE-8DA6-D85761A2E877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Rectangle 11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69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" name="Rectangle 12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72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4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5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9d9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3B56-D430-486F-8434-AAAB3A1FFE07}" type="slidenum">
              <a:rPr b="0" lang="ru-RU" sz="1200" spc="-1" strike="noStrike">
                <a:solidFill>
                  <a:srgbClr val="a79d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/>
            <a:ahLst/>
            <a:rect l="l" t="t" r="r" b="b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a79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dt" idx="6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dae1"/>
            </a:gs>
            <a:gs pos="100000">
              <a:srgbClr val="8489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17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18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25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e9ed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8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35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3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144" name="Oval 31"/>
            <p:cNvGrpSpPr/>
            <p:nvPr/>
          </p:nvGrpSpPr>
          <p:grpSpPr>
            <a:xfrm>
              <a:off x="5457240" y="1424880"/>
              <a:ext cx="1108800" cy="1099080"/>
              <a:chOff x="5457240" y="1424880"/>
              <a:chExt cx="1108800" cy="1099080"/>
            </a:xfrm>
          </p:grpSpPr>
          <p:pic>
            <p:nvPicPr>
              <p:cNvPr id="145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7240" y="1424880"/>
                <a:ext cx="11088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5635440" y="1600920"/>
                <a:ext cx="75132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Oval 32"/>
            <p:cNvGrpSpPr/>
            <p:nvPr/>
          </p:nvGrpSpPr>
          <p:grpSpPr>
            <a:xfrm>
              <a:off x="5624280" y="1401120"/>
              <a:ext cx="858240" cy="844920"/>
              <a:chOff x="5624280" y="1401120"/>
              <a:chExt cx="858240" cy="844920"/>
            </a:xfrm>
          </p:grpSpPr>
          <p:pic>
            <p:nvPicPr>
              <p:cNvPr id="148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4280" y="1401120"/>
                <a:ext cx="85824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5766480" y="1540080"/>
                <a:ext cx="574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Oval 28"/>
            <p:cNvGrpSpPr/>
            <p:nvPr/>
          </p:nvGrpSpPr>
          <p:grpSpPr>
            <a:xfrm>
              <a:off x="5242680" y="1868040"/>
              <a:ext cx="631800" cy="626400"/>
              <a:chOff x="5242680" y="1868040"/>
              <a:chExt cx="631800" cy="626400"/>
            </a:xfrm>
          </p:grpSpPr>
          <p:pic>
            <p:nvPicPr>
              <p:cNvPr id="151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68040"/>
                <a:ext cx="63180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5348160" y="1975680"/>
                <a:ext cx="41652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3" name="Oval 30"/>
            <p:cNvGrpSpPr/>
            <p:nvPr/>
          </p:nvGrpSpPr>
          <p:grpSpPr>
            <a:xfrm>
              <a:off x="5403600" y="1791360"/>
              <a:ext cx="524520" cy="514080"/>
              <a:chOff x="5403600" y="1791360"/>
              <a:chExt cx="524520" cy="514080"/>
            </a:xfrm>
          </p:grpSpPr>
          <p:pic>
            <p:nvPicPr>
              <p:cNvPr id="154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3600" y="1791360"/>
                <a:ext cx="5245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5496120" y="1879200"/>
                <a:ext cx="338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6" name="Oval 27"/>
            <p:cNvGrpSpPr/>
            <p:nvPr/>
          </p:nvGrpSpPr>
          <p:grpSpPr>
            <a:xfrm>
              <a:off x="4718160" y="2051280"/>
              <a:ext cx="291960" cy="289440"/>
              <a:chOff x="4718160" y="2051280"/>
              <a:chExt cx="291960" cy="289440"/>
            </a:xfrm>
          </p:grpSpPr>
          <p:pic>
            <p:nvPicPr>
              <p:cNvPr id="157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19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4773240" y="210996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9" name="Oval 29"/>
            <p:cNvGrpSpPr/>
            <p:nvPr/>
          </p:nvGrpSpPr>
          <p:grpSpPr>
            <a:xfrm>
              <a:off x="6095160" y="993600"/>
              <a:ext cx="298080" cy="295200"/>
              <a:chOff x="6095160" y="993600"/>
              <a:chExt cx="298080" cy="295200"/>
            </a:xfrm>
          </p:grpSpPr>
          <p:pic>
            <p:nvPicPr>
              <p:cNvPr id="160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5160" y="993600"/>
                <a:ext cx="2980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>
                <a:off x="6155280" y="105300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2" name="Oval 33"/>
            <p:cNvGrpSpPr/>
            <p:nvPr/>
          </p:nvGrpSpPr>
          <p:grpSpPr>
            <a:xfrm>
              <a:off x="5045760" y="1868040"/>
              <a:ext cx="238320" cy="236160"/>
              <a:chOff x="5045760" y="1868040"/>
              <a:chExt cx="238320" cy="236160"/>
            </a:xfrm>
          </p:grpSpPr>
          <p:pic>
            <p:nvPicPr>
              <p:cNvPr id="163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45760" y="186804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>
                <a:off x="5097600" y="19180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5" name="Oval 34"/>
            <p:cNvGrpSpPr/>
            <p:nvPr/>
          </p:nvGrpSpPr>
          <p:grpSpPr>
            <a:xfrm>
              <a:off x="6113160" y="1058400"/>
              <a:ext cx="238320" cy="236160"/>
              <a:chOff x="6113160" y="1058400"/>
              <a:chExt cx="238320" cy="236160"/>
            </a:xfrm>
          </p:grpSpPr>
          <p:pic>
            <p:nvPicPr>
              <p:cNvPr id="166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3160" y="105840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6163200" y="11098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1563-F165-46C1-A143-0695076957DF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2"/>
    <p:sldLayoutId id="2147483676" r:id="rId33"/>
    <p:sldLayoutId id="2147483677" r:id="rId34"/>
    <p:sldLayoutId id="2147483678" r:id="rId35"/>
    <p:sldLayoutId id="2147483679" r:id="rId36"/>
    <p:sldLayoutId id="2147483680" r:id="rId37"/>
    <p:sldLayoutId id="2147483681" r:id="rId38"/>
    <p:sldLayoutId id="2147483682" r:id="rId39"/>
    <p:sldLayoutId id="2147483683" r:id="rId40"/>
    <p:sldLayoutId id="2147483684" r:id="rId41"/>
    <p:sldLayoutId id="2147483685" r:id="rId42"/>
    <p:sldLayoutId id="2147483686" r:id="rId4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Rectangle 10"/>
          <p:cNvGrpSpPr/>
          <p:nvPr/>
        </p:nvGrpSpPr>
        <p:grpSpPr>
          <a:xfrm>
            <a:off x="0" y="0"/>
            <a:ext cx="749160" cy="6858000"/>
            <a:chOff x="0" y="0"/>
            <a:chExt cx="749160" cy="6858000"/>
          </a:xfrm>
        </p:grpSpPr>
        <p:pic>
          <p:nvPicPr>
            <p:cNvPr id="210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745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0" y="0"/>
              <a:ext cx="749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12" name="Group 6" descr=""/>
          <p:cNvPicPr/>
          <p:nvPr/>
        </p:nvPicPr>
        <p:blipFill>
          <a:blip r:embed="rId4"/>
          <a:stretch/>
        </p:blipFill>
        <p:spPr>
          <a:xfrm>
            <a:off x="7467480" y="208080"/>
            <a:ext cx="658800" cy="4316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0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2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79d9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6C92-2134-4990-9428-37F2E8D1D0A4}" type="slidenum">
              <a:rPr b="0" lang="ru-RU" sz="1400" spc="-1" strike="noStrike">
                <a:solidFill>
                  <a:srgbClr val="a79d9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video.yandex.ru/" TargetMode="External"/><Relationship Id="rId5" Type="http://schemas.openxmlformats.org/officeDocument/2006/relationships/hyperlink" Target="http://video.yandex.ru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22320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Verdana"/>
              </a:rPr>
              <a:t>Раздел: 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619280" y="3645000"/>
            <a:ext cx="53625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Страница 179 учебника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56" name="Прямоугольник 3" descr=""/>
          <p:cNvPicPr/>
          <p:nvPr/>
        </p:nvPicPr>
        <p:blipFill>
          <a:blip r:embed="rId1"/>
          <a:stretch/>
        </p:blipFill>
        <p:spPr>
          <a:xfrm>
            <a:off x="865080" y="1231920"/>
            <a:ext cx="7400880" cy="2425680"/>
          </a:xfrm>
          <a:prstGeom prst="rect">
            <a:avLst/>
          </a:prstGeom>
          <a:ln w="0">
            <a:noFill/>
          </a:ln>
        </p:spPr>
      </p:pic>
      <p:sp>
        <p:nvSpPr>
          <p:cNvPr id="257" name="Подзаголовок 2"/>
          <p:cNvSpPr/>
          <p:nvPr/>
        </p:nvSpPr>
        <p:spPr>
          <a:xfrm>
            <a:off x="4567320" y="5554800"/>
            <a:ext cx="431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рок подготовил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КОУ Тамтачетская СОШ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тскова Лариса Юрьев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Прямоугольник 3" descr=""/>
          <p:cNvPicPr/>
          <p:nvPr/>
        </p:nvPicPr>
        <p:blipFill>
          <a:blip r:embed="rId1"/>
          <a:stretch/>
        </p:blipFill>
        <p:spPr>
          <a:xfrm>
            <a:off x="433440" y="96840"/>
            <a:ext cx="8558280" cy="6761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http://www.libozersk.ru/pics/pages/id_1173/image041.jpg"/>
          <p:cNvPicPr/>
          <p:nvPr/>
        </p:nvPicPr>
        <p:blipFill>
          <a:blip r:embed="rId2"/>
          <a:stretch/>
        </p:blipFill>
        <p:spPr>
          <a:xfrm>
            <a:off x="5138640" y="1657440"/>
            <a:ext cx="4303800" cy="5481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009800" y="1809720"/>
            <a:ext cx="34718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62360" y="1809720"/>
            <a:ext cx="34704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85" name="Прямоугольник 4" descr=""/>
          <p:cNvPicPr/>
          <p:nvPr/>
        </p:nvPicPr>
        <p:blipFill>
          <a:blip r:embed="rId1"/>
          <a:stretch/>
        </p:blipFill>
        <p:spPr>
          <a:xfrm>
            <a:off x="1450800" y="530280"/>
            <a:ext cx="6004080" cy="1457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http://www.libex.ru/dimg/13a30.jpg"/>
          <p:cNvPicPr/>
          <p:nvPr/>
        </p:nvPicPr>
        <p:blipFill>
          <a:blip r:embed="rId2"/>
          <a:stretch/>
        </p:blipFill>
        <p:spPr>
          <a:xfrm>
            <a:off x="155520" y="1773360"/>
            <a:ext cx="3851280" cy="4895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http://img.4pk.ru/300x10000/images/48/3548648.jpg"/>
          <p:cNvPicPr/>
          <p:nvPr/>
        </p:nvPicPr>
        <p:blipFill>
          <a:blip r:embed="rId3"/>
          <a:stretch/>
        </p:blipFill>
        <p:spPr>
          <a:xfrm>
            <a:off x="5219640" y="1773360"/>
            <a:ext cx="3722760" cy="4960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http://img.4pk.ru/300x10000/images/08/1539408.jpg"/>
          <p:cNvPicPr/>
          <p:nvPr/>
        </p:nvPicPr>
        <p:blipFill>
          <a:blip r:embed="rId4"/>
          <a:stretch/>
        </p:blipFill>
        <p:spPr>
          <a:xfrm>
            <a:off x="-3240" y="7920"/>
            <a:ext cx="5076720" cy="6850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http://www.biblio-globus.us/photos1/992/9929138.jpg"/>
          <p:cNvPicPr/>
          <p:nvPr/>
        </p:nvPicPr>
        <p:blipFill>
          <a:blip r:embed="rId5"/>
          <a:stretch/>
        </p:blipFill>
        <p:spPr>
          <a:xfrm>
            <a:off x="4621320" y="7920"/>
            <a:ext cx="4522680" cy="6850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Используемая литература: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1. Литературное чтение. 3 класс. Учебник для общеобразоват. учреждений, часть 1/</a:t>
            </a: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Л.Ф. Климанова, В.Г. Горецкий, М.В. Голованова и др.</a:t>
            </a: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—М.: Просвещение, 2013.-с.180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Интернет-ресурсы: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3885ad"/>
                </a:solidFill>
                <a:uFillTx/>
                <a:latin typeface="Verdana"/>
                <a:hlinkClick r:id="rId1"/>
              </a:rPr>
              <a:t>http</a:t>
            </a:r>
            <a:r>
              <a:rPr b="0" lang="en-US" sz="1800" spc="-1" strike="noStrike" u="sng">
                <a:solidFill>
                  <a:srgbClr val="3885ad"/>
                </a:solidFill>
                <a:uFillTx/>
                <a:latin typeface="Verdana"/>
                <a:hlinkClick r:id="rId2"/>
              </a:rPr>
              <a:t>://</a:t>
            </a:r>
            <a:r>
              <a:rPr b="0" lang="en-US" sz="1800" spc="-1" strike="noStrike" u="sng">
                <a:solidFill>
                  <a:srgbClr val="3885ad"/>
                </a:solidFill>
                <a:uFillTx/>
                <a:latin typeface="Verdana"/>
                <a:hlinkClick r:id="rId3"/>
              </a:rPr>
              <a:t>images.yandex.ru/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3885ad"/>
                </a:solidFill>
                <a:uFillTx/>
                <a:latin typeface="Verdana"/>
                <a:hlinkClick r:id="rId4"/>
              </a:rPr>
              <a:t>http://video.yandex.ru</a:t>
            </a:r>
            <a:r>
              <a:rPr b="0" lang="en-US" sz="1800" spc="-1" strike="noStrike" u="sng">
                <a:solidFill>
                  <a:srgbClr val="3885ad"/>
                </a:solidFill>
                <a:uFillTx/>
                <a:latin typeface="Verdana"/>
                <a:hlinkClick r:id="rId5"/>
              </a:rPr>
              <a:t>/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http://muzofon.com/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http://biografix.ru/biografii/pisateli/42-biografiya-dmitriya-mamina-sibiryaka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/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http://900igr.net/datai/pedagogika/Uchitel-eto-chelovek/0007-010-Bez-truda-ne-vynesh-rybku-iz-pruda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1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218960" y="837720"/>
            <a:ext cx="7467480" cy="4419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http://img3.proshkolu.ru/content/media/pic/std/1000000/388000/387529-0dc53b61e5213d99.jpg"/>
          <p:cNvPicPr/>
          <p:nvPr/>
        </p:nvPicPr>
        <p:blipFill>
          <a:blip r:embed="rId2"/>
          <a:stretch/>
        </p:blipFill>
        <p:spPr>
          <a:xfrm>
            <a:off x="233280" y="1440"/>
            <a:ext cx="8910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218960" y="837720"/>
            <a:ext cx="7467480" cy="4419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http://pics.kz/s4/44/40/c5/d6/4440c5d6a0ffe8882bc5ced14fc2a91b.jpeg"/>
          <p:cNvPicPr/>
          <p:nvPr/>
        </p:nvPicPr>
        <p:blipFill>
          <a:blip r:embed="rId2"/>
          <a:stretch/>
        </p:blipFill>
        <p:spPr>
          <a:xfrm>
            <a:off x="233280" y="0"/>
            <a:ext cx="8972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218960" y="837720"/>
            <a:ext cx="7467480" cy="4419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http://img0.liveinternet.ru/images/attach/c/2/71/84/71084280_1298414681_0093.jpg"/>
          <p:cNvPicPr/>
          <p:nvPr/>
        </p:nvPicPr>
        <p:blipFill>
          <a:blip r:embed="rId2"/>
          <a:stretch/>
        </p:blipFill>
        <p:spPr>
          <a:xfrm>
            <a:off x="171360" y="0"/>
            <a:ext cx="8972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18960" y="837720"/>
            <a:ext cx="7467480" cy="4419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http://ozzzi.ru/img215/8422/76773453.jpg"/>
          <p:cNvPicPr/>
          <p:nvPr/>
        </p:nvPicPr>
        <p:blipFill>
          <a:blip r:embed="rId2"/>
          <a:stretch/>
        </p:blipFill>
        <p:spPr>
          <a:xfrm>
            <a:off x="250920" y="-19080"/>
            <a:ext cx="8893080" cy="687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09800" y="2247480"/>
            <a:ext cx="7124400" cy="413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72" name="Picture 2" descr="http://image.newsru.com/pict/id/large/484673_20021105170642.gif"/>
          <p:cNvPicPr/>
          <p:nvPr/>
        </p:nvPicPr>
        <p:blipFill>
          <a:blip r:embed="rId1"/>
          <a:stretch/>
        </p:blipFill>
        <p:spPr>
          <a:xfrm>
            <a:off x="1908000" y="2276640"/>
            <a:ext cx="5472360" cy="4105080"/>
          </a:xfrm>
          <a:prstGeom prst="rect">
            <a:avLst/>
          </a:prstGeom>
          <a:ln w="0">
            <a:noFill/>
          </a:ln>
        </p:spPr>
      </p:pic>
      <p:pic>
        <p:nvPicPr>
          <p:cNvPr id="273" name="Прямоугольник 3" descr=""/>
          <p:cNvPicPr/>
          <p:nvPr/>
        </p:nvPicPr>
        <p:blipFill>
          <a:blip r:embed="rId2"/>
          <a:stretch/>
        </p:blipFill>
        <p:spPr>
          <a:xfrm>
            <a:off x="-165240" y="-171360"/>
            <a:ext cx="9418680" cy="2360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714640" y="1052640"/>
            <a:ext cx="324972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Дмитрий Мамин появился на свет 6 ноября 1852 года в заводском поселке Висимо-Шайтан, Пермская губерния. Сейчас это поселок Висим в Свердловской области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Отец очень хотел, чтобы Дмитрий пошел по его стопам и посвятил свою жизнь служению Богу. Семья Дмитрия была весьма просвещенной, поэтому свое первое образование он получил в домашних условиях.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75" name="Прямоугольник 3" descr=""/>
          <p:cNvPicPr/>
          <p:nvPr/>
        </p:nvPicPr>
        <p:blipFill>
          <a:blip r:embed="rId1"/>
          <a:stretch/>
        </p:blipFill>
        <p:spPr>
          <a:xfrm>
            <a:off x="3255840" y="-55440"/>
            <a:ext cx="5869080" cy="1536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shkolazhizni.ru/img/content/i44/44416_or.jpg"/>
          <p:cNvPicPr/>
          <p:nvPr/>
        </p:nvPicPr>
        <p:blipFill>
          <a:blip r:embed="rId2"/>
          <a:stretch/>
        </p:blipFill>
        <p:spPr>
          <a:xfrm>
            <a:off x="0" y="2657520"/>
            <a:ext cx="5715000" cy="4200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http://fenixclub.com/uploads/62111/img-435123-d41d8cd98f.jpg"/>
          <p:cNvPicPr/>
          <p:nvPr/>
        </p:nvPicPr>
        <p:blipFill>
          <a:blip r:embed="rId3"/>
          <a:stretch/>
        </p:blipFill>
        <p:spPr>
          <a:xfrm>
            <a:off x="0" y="1440"/>
            <a:ext cx="3348000" cy="2511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0" y="5373360"/>
            <a:ext cx="8964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Желание родителей направить ребенка по духовной стезе привело Дмитрия в 1866 году в Екатеринбургское духовное училище. Там он проучился два года, а затем перешел в Пермскую духовную семинарию.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79" name="Прямоугольник 3" descr=""/>
          <p:cNvPicPr/>
          <p:nvPr/>
        </p:nvPicPr>
        <p:blipFill>
          <a:blip r:embed="rId1"/>
          <a:stretch/>
        </p:blipFill>
        <p:spPr>
          <a:xfrm>
            <a:off x="1616040" y="-171360"/>
            <a:ext cx="5864400" cy="1536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http://img0.liveinternet.ru/images/attach/c/6/93/824/93824382_large_6_0.jpg"/>
          <p:cNvPicPr/>
          <p:nvPr/>
        </p:nvPicPr>
        <p:blipFill>
          <a:blip r:embed="rId2"/>
          <a:stretch/>
        </p:blipFill>
        <p:spPr>
          <a:xfrm>
            <a:off x="1100160" y="1054080"/>
            <a:ext cx="694368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7T15:09:05Z</dcterms:created>
  <dc:creator>СЭМ</dc:creator>
  <dc:description/>
  <dc:language>en-US</dc:language>
  <cp:lastModifiedBy>СЭМ</cp:lastModifiedBy>
  <dcterms:modified xsi:type="dcterms:W3CDTF">2013-12-09T14:04:48Z</dcterms:modified>
  <cp:revision>10</cp:revision>
  <dc:subject/>
  <dc:title>Раздел:</dc:title>
</cp:coreProperties>
</file>