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8.png" ContentType="image/png"/>
  <Override PartName="/ppt/media/image21.jpeg" ContentType="image/jpeg"/>
  <Override PartName="/ppt/media/image16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5C4-10C2-47A0-B2F1-2F79EB42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9EA-2248-4B76-8CA6-6D25A567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729-B4DC-4C0C-A44F-7E23B8C2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1E5-6196-4BC5-BF2C-F2BBDE84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4BF-ECD0-470B-B3FA-2082C43B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C79-DB37-4491-8C16-B380080D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9F1-B015-44AB-B9C3-699311D2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42F-BE71-4E69-BDB3-3E3203DD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C53-B9A5-4F2A-AA77-C2FD2081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E09-25DF-478D-B9D7-5B0243D5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3AA-DA26-40C4-B243-B5630946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C42-2DC3-4C05-8FC0-743418C0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920E-EEA6-42A3-AE22-A667180257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нфликт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 Воспитатель-родитель»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ичины возникновения и пути решения.                        </a:t>
            </a:r>
            <a:br>
              <a:rPr sz="24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lifeafter50.ru/wp-content/uploads/2011/02/conflikt.jpg"/>
          <p:cNvPicPr/>
          <p:nvPr/>
        </p:nvPicPr>
        <p:blipFill>
          <a:blip r:embed="rId2"/>
          <a:stretch/>
        </p:blipFill>
        <p:spPr>
          <a:xfrm>
            <a:off x="2071800" y="2928960"/>
            <a:ext cx="5105160" cy="36432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тадии прохождения конфликта</a:t>
            </a: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никновение конфликт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появление противоречий)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знание  конфликтной  ситуац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онфликтное взаимодействие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решение  конфликт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конструктивное или деструктивно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4140360" y="4005360"/>
            <a:ext cx="485640" cy="473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140360" y="4869000"/>
            <a:ext cx="485640" cy="473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4140360" y="3141720"/>
            <a:ext cx="485640" cy="473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5" descr="http://t1.gstatic.com/images?q=tbn:ANd9GcRq0HuMW99x4_Ao3Xa0GkYdYFje1CEH08p8IZ2uz-uJuXFAxT9HXwc5ig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395280" y="1700280"/>
            <a:ext cx="1638360" cy="17985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79" name="Picture 17" descr="http://t3.gstatic.com/images?q=tbn:ANd9GcRvPnz_UdMY9u34Lp8siEQg18ZHOY3KTUTqv2Rmx1etYNzdcH9TKpL_R8FO"/>
          <p:cNvPicPr/>
          <p:nvPr/>
        </p:nvPicPr>
        <p:blipFill>
          <a:blip r:embed="rId3">
            <a:lum bright="-18000"/>
          </a:blip>
          <a:srcRect l="4288" t="0" r="6433" b="0"/>
          <a:stretch/>
        </p:blipFill>
        <p:spPr>
          <a:xfrm>
            <a:off x="325440" y="4653000"/>
            <a:ext cx="1440" cy="14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80" name="Picture 19" descr="http://www.pravmir.ru/wp-content/uploads/2010/01/depression-main_Full.jpg"/>
          <p:cNvPicPr/>
          <p:nvPr/>
        </p:nvPicPr>
        <p:blipFill>
          <a:blip r:embed="rId4"/>
          <a:stretch/>
        </p:blipFill>
        <p:spPr>
          <a:xfrm>
            <a:off x="7236000" y="1700280"/>
            <a:ext cx="1411200" cy="18018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81" name="Picture 20" descr="http://www.dancetusovka.com/wp-content/uploads/43121.shared.mom_madillo.jp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395280" y="4581360"/>
            <a:ext cx="1255680" cy="101628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82" name="Picture 21" descr="http://ekbclock.ru/images/foto/buyer.jpg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7524720" y="4508640"/>
            <a:ext cx="1258920" cy="10285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Упражнение </a:t>
            </a: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«Нужны ли конфликты с родителями?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нфликты конфликты  недопустимы необходимы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Позитивные функции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онфликт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755640" y="342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Получение социального опы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Нормализация морального состоя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Получение новой инфор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4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Помогает прояснить отно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5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Разрядка напряж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6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Стимулирует позитивные изме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356000" y="2133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9" descr="http://thumbs.dreamstime.com/thumblarge_132/1174443825qyp8hn.jp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2519280" cy="2519280"/>
          </a:xfrm>
          <a:prstGeom prst="rect">
            <a:avLst/>
          </a:prstGeom>
          <a:ln w="324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Негативные функции 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конфлик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50920" y="3933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Настроение враждеб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Ухудшение самочувст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Формализация об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4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Депрессия, ухудшение здоров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5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Эмоциональные затр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6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нижение работоспособ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7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Умышленное,целенаправлен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структивное повед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4284720" y="1700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3" descr="http://oevrope.ru/images/16280_2.jpg"/>
          <p:cNvPicPr/>
          <p:nvPr/>
        </p:nvPicPr>
        <p:blipFill>
          <a:blip r:embed="rId2"/>
          <a:srcRect l="13278" t="0" r="9473" b="0"/>
          <a:stretch/>
        </p:blipFill>
        <p:spPr>
          <a:xfrm>
            <a:off x="6588000" y="4724280"/>
            <a:ext cx="2367000" cy="19782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95" name="Picture 15" descr="http://1.bp.blogspot.com/-xUUQ0QpPWVM/TcO4fJuwPQI/AAAAAAAAA4g/6ce7Vk7Hvno/s1600/jenshina-plachet-foto.jpg"/>
          <p:cNvPicPr/>
          <p:nvPr/>
        </p:nvPicPr>
        <p:blipFill>
          <a:blip r:embed="rId3"/>
          <a:srcRect l="9291" t="0" r="18740" b="16631"/>
          <a:stretch/>
        </p:blipFill>
        <p:spPr>
          <a:xfrm>
            <a:off x="6516720" y="260280"/>
            <a:ext cx="2454120" cy="19796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96" name="Picture 16" descr="http://sciencemagic.ru/wp-content/uploads/2011/10/clip_image002_thumb1.jpg"/>
          <p:cNvPicPr/>
          <p:nvPr/>
        </p:nvPicPr>
        <p:blipFill>
          <a:blip r:embed="rId4">
            <a:lum bright="-12000"/>
          </a:blip>
          <a:srcRect l="5664" t="0" r="9379" b="0"/>
          <a:stretch/>
        </p:blipFill>
        <p:spPr>
          <a:xfrm>
            <a:off x="6588000" y="2492280"/>
            <a:ext cx="2378160" cy="19796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Способы выхода из конфликтной ситуа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11280" y="1628640"/>
            <a:ext cx="5616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уренция (соревновани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бегание (уклонение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проми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способ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5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трудни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http://t2.gstatic.com/images?q=tbn:ANd9GcQI5PcREIo2TVapsd6B8Cpr7XO6IX3BCqasmjE9NMdv288u-So6UzgNJg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6372360" y="1700280"/>
            <a:ext cx="2400120" cy="24001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101" name="Picture 13" descr="http://www.mobiset.ru/photos/2009/june/04/salon_conflict/ris2.jpg"/>
          <p:cNvPicPr/>
          <p:nvPr/>
        </p:nvPicPr>
        <p:blipFill>
          <a:blip r:embed="rId3"/>
          <a:stretch/>
        </p:blipFill>
        <p:spPr>
          <a:xfrm>
            <a:off x="6443640" y="4653000"/>
            <a:ext cx="2400480" cy="18003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102" name="Picture 14" descr="http://nano5.ru/uploads/images/fckeditors/image/cooperation_01.jpg"/>
          <p:cNvPicPr/>
          <p:nvPr/>
        </p:nvPicPr>
        <p:blipFill>
          <a:blip r:embed="rId4">
            <a:lum bright="-12000"/>
          </a:blip>
          <a:srcRect l="10731" t="0" r="9083" b="0"/>
          <a:stretch/>
        </p:blipFill>
        <p:spPr>
          <a:xfrm>
            <a:off x="324000" y="4653000"/>
            <a:ext cx="2158920" cy="18003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103" name="Picture 15" descr="http://www.bogushtime.com/media/news/konflict.jpg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2843280" y="4653000"/>
            <a:ext cx="3313080" cy="17985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9840" y="-2916720"/>
            <a:ext cx="87138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Алгоритм   действия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                                   в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онфликтной  ситуации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делить  суть  проблемы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мотреть  на   нее  со  стороны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тавить себя  на  место  другого участника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фликта  -  что   б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т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сделал   в   данной ситуаци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йти  конструктивное   решение  проблемы,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оторое  будет  оптимальным  для тебя  и для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уг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9840" y="-2916720"/>
            <a:ext cx="87138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пражнение  «Ваши предложения»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дание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ормулировать и записать несколько рекомендаций по проведению мероприятий, которые могут помочь спло­тить воспитателей и родителе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струкция. Для выполнения задания необходимо разделиться на подгруппы: каждая представляет свой перечень мероприятий и объясняет целесообразность их реализаци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пражнение «Предъявление  конфликтной ситуации»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гровое моделирование способов поведения педагога в ситуациях разрешения противоречий между воспитателем и родителями.  Необходимо показать  развязку данной ситуации, выбрав внутри группы роль воспитателя и роль родителя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9840" y="-2916720"/>
            <a:ext cx="87138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Упражнение «Список претензий к родителям»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сознание воспитателем невозможности построения общения на взаимных претензиях.</a:t>
            </a:r>
            <a:br>
              <a:rPr sz="2000"/>
            </a:b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струкц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 наша  работа предполагает постоянное ежедневное общение с родителями детей. В жизни бывает всякое, мы не всегда довольны друг другом, иногда наши самые  близкие люди вызывают у нас отрицательные эмоции, наши родители не устраивают  нас.  Давайте проанализируем наше недовольство родителями группы и назовем это списком претензий, претензии вносим напротив каждой фамилии, необходимо быть предельно откровенным, ведь претензии могут быть даже самыми незначительными, но обязательными конкретным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вод: чтобы принять людей, нужно понять, чем они вас не устраивают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Упражнение «Желаю Вам...»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ь: Развивать умение доброжелательно общаться с родителями.</a:t>
            </a:r>
            <a:br>
              <a:rPr sz="2000"/>
            </a:b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струкц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 сделать комплимент сидящему рядом педагогу, выступающему в роли одного из родителей вашей группы. Лучший комплимент — похвала успехов их ребенка.</a:t>
            </a:r>
            <a:br>
              <a:rPr sz="24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Arial"/>
              </a:rPr>
              <a:t>Психологическая зарядка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ля поддержания стабильного психологического состояния у вас и родителей, а также для профилактики различных  профессиональных психофизических расстройств важно уметь забывать. Как бы «стирать»  из памяти конфликтные ситуации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пражнение на стирание антистрессовой ситуации. Сядьте и расслабьтесь. Закройте глаза. Представьте  перед собой чистый альбомный лист бумаги. Карандаши ластик. Медленно нарисуйте на листе негативную ситуацию, которую необходимо забыть. Это может быть реальная картинка. Мысленно возьмите ластик и начинайте последовательно «стирать» с листа бумаги представленную ситуацию. Стирайте до тех пор, пока картинка не исчезнет с листа. Откройте глаза. Произведите проверку. Для этого закройте глаза и представьте тот же лист бумаги. Если картинка не исчезла, снова возьмите ластик и «стирайте» до ее полного исчезновения. Через некоторое время методику можно повторить. 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714240"/>
            <a:ext cx="87138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</a:rPr>
              <a:t>Психологические  рекомендации, при правильном поведении человека в        противоречащей, предконфликтный и конфликтной ситуации, таковы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Решать спорный вопрос в настоящем времени, не упоминая прошлые  обиды,  конфликты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Адекватно воспринимать, сознавать суть конфликта с точки зрения психологических механизмов - интересов, нужд, целей и задач сторон. Чаще задавать вопрос: " Правильно ли  я Вас понял (поняла)?", это  поможет избежать умственных барьеров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Быть открытым в общении, доброжелательным и стремиться к созданию климата взаимного доверия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Попробовать понять позицию оппонента "изнутри", поставив  себя на его место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Не говорить обидных, унижающих достоинство личности слов,  не употреблять неутешительных  эпитетов. Резкость вызывает резкость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Уметь аргументированно высказать свои намерения в случае неудовлетворения требований.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7. В минуты торжества над другим  давайте ему возможность » спасти себя", то есть выйти из ситуации с достоинством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8. Искореняя недостатки других людей, сделайте так, чтобы эти недостатки выглядели легко поправимыми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                           </a:t>
            </a:r>
            <a:r>
              <a:rPr b="1" i="1" lang="ru-RU" sz="1600" spc="-1" strike="noStrike">
                <a:solidFill>
                  <a:srgbClr val="ffc000"/>
                </a:solidFill>
                <a:latin typeface="Arial"/>
              </a:rPr>
              <a:t>Краткий курс доброжелательных отношени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Шесть важных слов: «Я признаю, что допустил эту ошибку»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Пять важных слов: «Ты сделал это просто чудесно»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Четыре важных слова: «А как ты считаешь?»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Три важных слова: «Вы посоветуйте, пожалуйста»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Два важных слова: «Искренне благодарю»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Важнейшее слово: «Мы»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24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-AC4TAcg-3I.jpg"/>
          <p:cNvPicPr/>
          <p:nvPr/>
        </p:nvPicPr>
        <p:blipFill>
          <a:blip r:embed="rId2"/>
          <a:stretch/>
        </p:blipFill>
        <p:spPr>
          <a:xfrm>
            <a:off x="6122880" y="0"/>
            <a:ext cx="302112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138636.jpg"/>
          <p:cNvPicPr/>
          <p:nvPr/>
        </p:nvPicPr>
        <p:blipFill>
          <a:blip r:embed="rId3"/>
          <a:stretch/>
        </p:blipFill>
        <p:spPr>
          <a:xfrm>
            <a:off x="2214720" y="2071800"/>
            <a:ext cx="4068720" cy="27144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7" descr="0_5213a_5a947eb7_XL.jpg"/>
          <p:cNvPicPr/>
          <p:nvPr/>
        </p:nvPicPr>
        <p:blipFill>
          <a:blip r:embed="rId4"/>
          <a:stretch/>
        </p:blipFill>
        <p:spPr>
          <a:xfrm>
            <a:off x="0" y="4857840"/>
            <a:ext cx="2986200" cy="20001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101499697.jpg"/>
          <p:cNvPicPr/>
          <p:nvPr/>
        </p:nvPicPr>
        <p:blipFill>
          <a:blip r:embed="rId5"/>
          <a:stretch/>
        </p:blipFill>
        <p:spPr>
          <a:xfrm>
            <a:off x="6429240" y="4830840"/>
            <a:ext cx="2714760" cy="20271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konflikt.jpg"/>
          <p:cNvPicPr/>
          <p:nvPr/>
        </p:nvPicPr>
        <p:blipFill>
          <a:blip r:embed="rId6"/>
          <a:stretch/>
        </p:blipFill>
        <p:spPr>
          <a:xfrm>
            <a:off x="0" y="0"/>
            <a:ext cx="2097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 напоследок еще немного. Иногда отзывы о детских садах напоминают передачу про интриги, скандалы и расследования. Мамы и папы шпионят за воспитателями, подслушивают, что происходит в группе, ищут любую мелочь, чтобы придраться к педагогу, ведь их самый лучший ребенок достоин только самого лучшего воспитателя. За царапину они, по крайней мере, на словах, грозятся "порвать" или "встретить в темном переулке" эту "воспиталку", "чужую тетку", которая никогда не полюбит ребенка. Но ведь воспитатель в садике и не должен любить детей как родных. Для этого у ребенка есть родители. Воспитатели выполняют свою работу, работу очень сложную и, на мой взгляд, достойную большого уважения. И если родитель настроен на негатив, скорее всего по закону притяжения он его и получит. Детский сад — это не рай и не ад для ребенка, это такой же этап в его жизни, как школа, институт, и от умения выстраивать правильно отношения с людьми, работающими с нашими детьми, зависит во многом то, как будет складываться их жизнь в детском саду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바탕"/>
                <a:ea typeface="바탕"/>
              </a:rPr>
              <a:t>«ДАВАЙТЕ ЖИТЬ ДРУЖНО!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바탕"/>
                <a:ea typeface="바탕"/>
              </a:rPr>
              <a:t> ВСЕ В НАШИХ РУКАХ!..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\</a:t>
            </a:r>
            <a:br>
              <a:rPr sz="28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Б ДОУ «Детский сад 148»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дагог - психолог Кобзарь М.А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C:\Documents and Settings\Семья Плаховых\Мои документы\Мои рисунки\ДЕТИ ДАУНЫ\0_50141_aaa7f3b3_L.jpg"/>
          <p:cNvPicPr/>
          <p:nvPr/>
        </p:nvPicPr>
        <p:blipFill>
          <a:blip r:embed="rId2"/>
          <a:stretch/>
        </p:blipFill>
        <p:spPr>
          <a:xfrm>
            <a:off x="1511280" y="1011240"/>
            <a:ext cx="59500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900"/>
            </a:br>
            <a:r>
              <a:rPr b="1" lang="ru-RU" sz="19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ffc000"/>
                </a:solidFill>
                <a:latin typeface="Arial"/>
              </a:rPr>
              <a:t>Воспитатель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это работник дошкольного учреждения, который не только непосредственно отвечает за жизнь и здоровье вверенных ему детей, но и осуществляет воспитательно-образовательную работу в соответствии с программой детского сада. </a:t>
            </a:r>
            <a:br>
              <a:rPr sz="1900"/>
            </a:br>
            <a:r>
              <a:rPr b="1" lang="ru-RU" sz="1900" spc="-1" strike="noStrike">
                <a:solidFill>
                  <a:srgbClr val="ffc000"/>
                </a:solidFill>
                <a:latin typeface="Arial"/>
              </a:rPr>
              <a:t>Родитель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 — это "заказчик", который приводит своего ребенка в детский сад и хочет, чтобы в нем для его любимого (а, зачастую, и единственного ребенка) были созданы самые благоприятные условия. 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 родителя ребенок один (два, три). 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 воспитателя — в среднем от 15 до 30. И это тоже нужно учитывать, потому что количество персонального внимания на каждого ребенка обратно пропорционально количеству детей. И он также заинтересован в том, чтобы обеспечить детям благоприятные условия, не забывая про свои образовательно-воспитательные обязанности. </a:t>
            </a:r>
            <a:br>
              <a:rPr sz="24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C:\Documents and Settings\Семья Плаховых\Мои документы\Мои рисунки\news732.jpg"/>
          <p:cNvPicPr/>
          <p:nvPr/>
        </p:nvPicPr>
        <p:blipFill>
          <a:blip r:embed="rId2"/>
          <a:stretch/>
        </p:blipFill>
        <p:spPr>
          <a:xfrm>
            <a:off x="-201600" y="-201600"/>
            <a:ext cx="3956040" cy="301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Documents and Settings\Семья Плаховых\Мои документы\Мои рисунки\ФОТО ДЕТЕЙ\1234995698_kids_46.jpg"/>
          <p:cNvPicPr/>
          <p:nvPr/>
        </p:nvPicPr>
        <p:blipFill>
          <a:blip r:embed="rId3"/>
          <a:stretch/>
        </p:blipFill>
        <p:spPr>
          <a:xfrm>
            <a:off x="5297400" y="-201600"/>
            <a:ext cx="42433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«ЯБЛОКО И ЧЕРВЯЧОК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7" descr="20111104_10_57_28366.jpg"/>
          <p:cNvPicPr/>
          <p:nvPr/>
        </p:nvPicPr>
        <p:blipFill>
          <a:blip r:embed="rId2"/>
          <a:stretch/>
        </p:blipFill>
        <p:spPr>
          <a:xfrm>
            <a:off x="1500120" y="785880"/>
            <a:ext cx="5857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                                   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                                 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онфликт </a:t>
            </a:r>
            <a:br>
              <a:rPr sz="4000"/>
            </a:b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 столкновение  отдельных  людей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ли  социальных  групп, выражающих      различные, а нередко противоположные цели, интересы, взгляды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возникновения конфликта необходима конфликтная ситуац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www.stihi.ru/pics/2011/01/03/3275.jpg"/>
          <p:cNvPicPr/>
          <p:nvPr/>
        </p:nvPicPr>
        <p:blipFill>
          <a:blip r:embed="rId2">
            <a:lum bright="-6000"/>
          </a:blip>
          <a:srcRect l="0" t="0" r="0" b="7729"/>
          <a:stretch/>
        </p:blipFill>
        <p:spPr>
          <a:xfrm>
            <a:off x="826920" y="981000"/>
            <a:ext cx="3502080" cy="21607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таринная английская игра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br>
              <a:rPr sz="24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gifts.jpg"/>
          <p:cNvPicPr/>
          <p:nvPr/>
        </p:nvPicPr>
        <p:blipFill>
          <a:blip r:embed="rId2"/>
          <a:stretch/>
        </p:blipFill>
        <p:spPr>
          <a:xfrm>
            <a:off x="357120" y="928800"/>
            <a:ext cx="8566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7854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Причины конфликтов между педагогом и родителя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95280" y="3789360"/>
            <a:ext cx="1203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Родитель  не  удовлетворен  положени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бенка  в  коллекти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Родитель  не  удовлетворен  отношени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  нему  воспитате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Родитель  не  удовлетворен  организаци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спитательно-образовательног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роцесс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т. 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785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Times New Roman"/>
              </a:rPr>
              <a:t>Что чаще всего может стать поводом для непонимания и</a:t>
            </a:r>
            <a:r>
              <a:rPr b="1" lang="ru-RU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Times New Roman"/>
              </a:rPr>
              <a:t>недовольства? </a:t>
            </a:r>
            <a:br>
              <a:rPr sz="2800"/>
            </a:b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Times New Roman"/>
              </a:rPr>
              <a:t>Со</a:t>
            </a:r>
            <a:r>
              <a:rPr b="1" lang="ru-RU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Times New Roman"/>
              </a:rPr>
              <a:t>стороны родителей это: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57120" y="3786120"/>
            <a:ext cx="1203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 ребенком мало занимаются в сад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 создают должных условий для укрепления его здоровь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 могут найти подход к ребенк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спользуют непедагогические методы в отношении ребен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моральные и физические наказания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лохо следят за ребенком (не вытерли сопельки, не переоде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грязную футболку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ебенка заставляют есть или не следят, чтобы он все съед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граничивают свободу ребен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часто наказывают и жалуются на ребенка, если его повед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 устраивает воспитател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 принимают меры в отношении гиперактивных и агрессив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детей, особенно если их ребенка укусили, ударили, поцарап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78508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Times New Roman"/>
              </a:rPr>
              <a:t>У</a:t>
            </a:r>
            <a:r>
              <a:rPr b="1" lang="ru-RU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Times New Roman"/>
              </a:rPr>
              <a:t>воспитателей тоже есть «свой список» </a:t>
            </a:r>
            <a:br>
              <a:rPr sz="2800"/>
            </a:b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Times New Roman"/>
              </a:rPr>
              <a:t>претензий к</a:t>
            </a:r>
            <a:r>
              <a:rPr b="1" lang="ru-RU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Times New Roman"/>
              </a:rPr>
              <a:t>родителя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3286080"/>
            <a:ext cx="1203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уважительно относятся к персоналу детского сада, могут отчит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а повышенных тонах при ребен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бывают оплатить квитанции, вовремя внести плату за дополни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ельные занят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бывают положить детям в шкафчик сменную одежд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водят детей в садик совершенно неподготовленными (бе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элементарных навыков самообслуживания, не привыкших к режим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дня садика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здно забирают дет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лохо воспитывают детей (чрезмерно балуют или, наоборот, не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уделяют должного внимания ребенку; обычно к таким детям оч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ложно найти подход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ъявляют необоснованные претензии к персоналу, придираю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к мелоч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5:14:25Z</dcterms:created>
  <dc:creator>Сафин</dc:creator>
  <dc:description/>
  <dc:language>en-US</dc:language>
  <cp:lastModifiedBy>BEST</cp:lastModifiedBy>
  <dcterms:modified xsi:type="dcterms:W3CDTF">2013-04-11T12:26:25Z</dcterms:modified>
  <cp:revision>52</cp:revision>
  <dc:subject/>
  <dc:title>Слайд 1</dc:title>
</cp:coreProperties>
</file>