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550-F9B8-41A3-824B-5B9FCA96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E50-10E8-447C-ABC0-92054CDA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317E-4A9D-4988-83E3-8762D60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E735-E009-43E0-B5AB-BFBB354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4F3C9-5863-49A8-9A78-769CF2D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94AC-F2A2-48AD-9D43-6DF7B594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DA6F3-CA3A-4CB6-AAD3-FF8BBED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8A60-901A-43A3-BAC5-F8C538B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FB87A-11A8-4D54-8849-B08B1C6E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48F3-50B7-4931-AA23-C4C96D6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D0018-C71B-4372-8CDC-3989416C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85210-11BC-4F7F-8060-7AE5E29D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EF3-D510-4AB9-8E29-3DA6B8BB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98816-4696-45BA-AC44-6D3071C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F1C97-4428-4847-B250-4D7D1667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87AEE-B924-4A5D-B240-8335EAA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E1D11-8BB2-43D7-ADBA-9C061DA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756E7-8694-4AAD-97FD-14CF318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2E739-66D4-4206-898D-4F5B2D6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E634-D031-4661-B79B-F755E20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9AEDB-D160-4321-940D-C02EA67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02CB3-D8AF-4A1E-A3D9-D78FCF2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F0E8-F0E8-4099-A4FD-44CE81D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4F3-B4B5-41A0-9DC9-5ECD9EF9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13D96-7C7C-4DD2-A16C-EDF56822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C0124-4199-4BB5-8E3A-C97E51D3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07E3-2EB6-4819-907C-12A0FB05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87FF-885D-4BED-AAB2-C650853B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00D1-3F46-4B66-A70E-055A0D1C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43E36-09A8-4ADB-B89C-460F72CC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88A3-2CD5-40CC-A6AC-123B8995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CEB6-0468-483F-8DBA-011C0C0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2CD0-1ACE-4F61-A790-9A86891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8ED02-A282-4417-837C-3A998338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299E-74F4-49B5-9093-93A3EA99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24190-5726-446E-B901-A4A6A7B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449D-9328-4971-9627-7D3F08CB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3DE85-EBAC-47FE-849A-16CE2CD5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A77BD-4944-4B03-91EE-EFB83E26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070AB-3318-498B-A667-72A0CD05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305B7-21DF-4FC4-A376-0C913D24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357BB-53CB-4C04-BBB2-E351876D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D80B9-ACD7-4F43-89DD-04EB6CF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17E24-C46B-45AC-ACBD-AE6B250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2F48F-F136-4E3D-80E3-061084A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8AA-2D34-4BBA-8956-849049D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FBF41-F8A2-4370-9C5E-B932247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EA513-32B4-4838-A23E-1AF10FE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AC8A4-1EFA-4E30-8485-36BB1C59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7B321-1108-48A4-B720-613BAFFE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E4CE1-FAEE-4A66-A6C1-E14DBA4B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153-BA08-492B-A92B-BB65DF6F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847B-B623-4579-8F53-6DA91A04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DF5A-F18A-45AB-A68F-7A2FA38C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07F5-846D-49E2-86FD-2EB8E95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405-0518-4BAA-81AF-9E72631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DF3-E615-4C86-9582-C6A1685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D722-FA83-4473-AC18-7B097863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0A13-3AB7-4EA0-B7CE-2FC7071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E6B-16B9-40A3-954F-5C150E4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D85-9736-4FA2-83C9-B6D458A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841-3B52-4E72-BC71-EA27AED4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1E0E-F6CE-4316-86C1-D92399AE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DA2A-7D9B-4A3C-9577-E2DA6E8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260B-0283-4038-963A-FCD51FB6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F344-DDD1-4D42-8B74-984CBA1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E10E-359D-4C5F-AA8E-AE2C432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853-D960-4BC3-9F72-644C3BE2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6CB0-E642-4D5B-BA36-D336675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A417-4CA3-4ADC-ADBA-6FB51C6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54A8-57E6-4168-AD68-AAFA21F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B519-3148-44AE-A754-120DC886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268E-B0D1-4889-B337-347218B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48EB-3E69-41CA-9062-4E102AA3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4656-8CFB-4AE5-9D3A-0674691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9960-C79A-465F-B771-594979C5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1F32-44A1-4B2C-9A36-5B74E86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BA1A-A5DB-4D4B-9B8D-4E5467B9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FF1-F85B-4CF4-B694-C251F9EE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2A9C-04EA-4CCB-B172-7B04CE1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B38C-71B9-4311-A38A-E871034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25B1-18C7-4749-9C48-2903B7BA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552E-2E34-45E0-BE34-EEC24FE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A07E-6800-4C8A-97C7-2338340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03EC-CD02-4571-B680-8D5DDCD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D612-3C7F-4A40-9612-5518FA2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7F91-0B6D-44C5-9CDE-88E1B2F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4174-94FA-4994-B6AA-866DDDA0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8B54-8C64-45A7-AFFC-722FBB42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8A1-CF20-4B76-967B-3616D12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A032-42F9-4FEA-9AEF-92BF7D3B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026F-08C2-48A8-8617-6EFF386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B6A09-02F9-4C06-BA72-7E4C2E6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B6B0-D1E6-4430-B5F0-21F391F1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256B-1B1D-4D81-AB88-4787606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17BF-DFDC-45BF-8B12-1A0BC09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5615-37BC-4A8E-8B09-D3771BAC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63F8-9396-4CDB-BD9C-60996CF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2FCB-2FD8-4026-A563-3F6FA7F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748E-7451-4899-A243-DC7EDBE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05C-1E10-47A0-BB47-533A66B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85174-5FEA-4E9B-8F70-6E020002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411E-3F2B-450B-AAA9-B943CFBC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797B-A4FC-4849-909B-7B253DB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7ADB-FC90-4E4C-893D-B624061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05C7-799C-4DF7-8F4A-59A4F3F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0E22-1424-4E2A-B78F-38B03BD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BF15-CB15-48AC-8330-79BCA2B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D8947-B1E9-4AB7-BF78-E40D751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DFCD-3750-4B6A-8425-2A6FBFB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208F-569B-42E9-BB16-EC981DD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D7D-F6CF-4713-A18D-87DE412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6DC8-5CA8-4DFB-8492-5DA0544C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13DB-EE97-4781-B0B8-6B835365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506B-B8BF-43E1-9F81-840F14F8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415C-BEFB-4775-B0BD-AFAF692F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C5CE2-1856-403F-86F0-AC7BE79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73399-48CB-44A8-B94B-4DCD6F9B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7B71-B344-4289-9393-31BC5D0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457C-6E7B-415A-A5BB-E0364AA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B23A-EB54-41E9-BF62-818B92D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09CB-33E7-4D12-BBE4-C1D5A2B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B57-3581-464C-BD26-35B17C0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E0C0E-7AA0-454C-B4E0-C53318C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AF52-0786-47B8-8A68-2D3FFC6E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4881-F293-40C1-8166-72CAFBC0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5BD7-0248-4A60-B807-C76CB36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0925-9F34-4AC5-979A-90EC76EF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F717-BFED-484E-9184-D48BDBC9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8DEA-ED1A-4834-9585-54EB019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7E58-CADE-4AD7-830C-40F42B7E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F0FFB-814F-49F2-A38E-51E76651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312DD-B3F0-4ABF-82EA-9385051D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D8F-9251-44D8-A25E-CBF6766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58C79-1A96-46F1-B3C3-B093DBB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D089-688B-4225-A6D7-9EBA6C2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7044-6A0C-41DF-89E6-462D941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8C45-729D-4B67-96FC-3B9C887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1546F-8807-44FA-95C9-4AF528FF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11E67-F6C9-4B1E-A520-192F24F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BADF3-3DF4-444D-86A0-4490F4C4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61C2-4208-4D2B-9AD0-9D3D66FA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46A3-6574-4928-B111-1CC5A8A6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BAF7-14FC-48D4-88BE-7430B59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1006-BF1A-43DB-BC0C-747A2E7B974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AFB-A2C6-4F9A-B431-7F979AE050E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B62A-AB29-4BCF-B08C-8D6CF73115D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F33-2C50-43BE-A5AB-42D11C5F67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CCF-372F-4294-A71F-4597E86BD96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D9CA-DC02-4502-AF87-689A06F0F0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19CD-8E63-468D-B205-E961667B8C1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E04-2401-42B3-900A-97580E3F290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904-2C07-40CD-84E2-1082EAC425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CA8-AC3D-4AA7-8BBA-C7B9B453EC9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7A9D-D1D7-4CA2-AAEC-4657249F999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5B7-5CB2-4E02-B2C9-8D68F552D50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4133880" y="-231840"/>
            <a:ext cx="4808520" cy="5681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68000" y="5373360"/>
            <a:ext cx="60483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f0"/>
              </a:solidFill>
              <a:latin typeface="Trebuchet MS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2"/>
          <a:srcRect l="0" t="0" r="25478" b="6332"/>
          <a:stretch/>
        </p:blipFill>
        <p:spPr>
          <a:xfrm>
            <a:off x="395280" y="404640"/>
            <a:ext cx="34560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79200" y="476280"/>
            <a:ext cx="87408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2855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rebuchet MS"/>
              </a:rPr>
              <a:t>Личностные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рмирование любознательности, активности и заинтересованности в познании мира; способности к организации собственной деятельности; доброжелательности, умения слушать и слышать собеседника, обосновывать свою позицию, высказывать свое мне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rebuchet MS"/>
              </a:rPr>
              <a:t>Регулятивные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моционально-положительный настрой на урок, создание ситуации успеха, доверия; обеспечение учащимся организации их учебной деятельности; выделение и осознание того, что уже усвоено и что еще подлежит усвоени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rebuchet MS"/>
              </a:rPr>
              <a:t>Коммуникативные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правление поведением партнера, контроль; сотрудничество с учителем и детьми, высказывание своего мн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rebuchet MS"/>
              </a:rPr>
              <a:t>Познавательные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амостоятельное формулирование познавательной цели; анализ объектов с целью выделения признаков; умение осознанно и произвольно строить речевые высказывания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7291440" cy="1681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950920" cy="280836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4" descr=""/>
          <p:cNvPicPr/>
          <p:nvPr/>
        </p:nvPicPr>
        <p:blipFill>
          <a:blip r:embed="rId3"/>
          <a:srcRect l="4239" t="3001" r="3179" b="8989"/>
          <a:stretch/>
        </p:blipFill>
        <p:spPr>
          <a:xfrm>
            <a:off x="900000" y="1844640"/>
            <a:ext cx="266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242120" cy="1012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420840" y="285840"/>
            <a:ext cx="7358040" cy="14763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3780000" y="1844280"/>
            <a:ext cx="52560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Дятел лечит древний дуб,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Добрый дятел дубу люб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6" name="Рисунок 4" descr=""/>
          <p:cNvPicPr/>
          <p:nvPr/>
        </p:nvPicPr>
        <p:blipFill>
          <a:blip r:embed="rId2"/>
          <a:srcRect l="17496" t="0" r="28104" b="5007"/>
          <a:stretch/>
        </p:blipFill>
        <p:spPr>
          <a:xfrm>
            <a:off x="108000" y="1628640"/>
            <a:ext cx="28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НА УРОКЕ Я УЗНАЛ…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Я НАУЧИЛСЯ…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САМОЕ ТРУДНОЕ НА УРОКЕ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6:40:53Z</dcterms:created>
  <dc:creator>АМИ</dc:creator>
  <dc:description/>
  <dc:language>en-US</dc:language>
  <cp:lastModifiedBy>Admin</cp:lastModifiedBy>
  <dcterms:modified xsi:type="dcterms:W3CDTF">2014-01-16T19:54:04Z</dcterms:modified>
  <cp:revision>55</cp:revision>
  <dc:subject/>
  <dc:title>Презентация PowerPoint</dc:title>
</cp:coreProperties>
</file>