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C2E-EC3B-4B0E-9035-3699B897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115-CA9E-496C-B035-D759DE07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2AA-73D7-41E7-88BA-26A85475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A1C-029D-48D3-A719-56FA36D1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293-0CD0-477B-A88D-8C8749B9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6AA-9649-477C-B672-506FF451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5AE-ED7C-4797-8FE8-8C7941EE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C0E-8043-44D5-8EF9-81BD5648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31E-C1D1-46FD-AC89-7A76AAF4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86F-9275-41DE-9047-2A841E8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053-BDA7-4FFB-A801-DED684E9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D16-67D3-4849-86E8-C3F2731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A549-035F-4B44-AD7E-C5ABB1DC29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9ea8"/>
                </a:solidFill>
                <a:latin typeface="Arial"/>
              </a:rPr>
              <a:t>А.О.Ишимова. Славяне.</a:t>
            </a:r>
            <a:br>
              <a:rPr sz="4000"/>
            </a:br>
            <a:br>
              <a:rPr sz="4000"/>
            </a:br>
            <a:r>
              <a:rPr b="0" i="1" lang="ru-RU" sz="2400" spc="-1" strike="noStrike">
                <a:solidFill>
                  <a:srgbClr val="d1d1cb"/>
                </a:solidFill>
                <a:latin typeface="Arial"/>
              </a:rPr>
              <a:t>Урок</a:t>
            </a:r>
            <a:br>
              <a:rPr sz="2400"/>
            </a:br>
            <a:r>
              <a:rPr b="0" i="1" lang="ru-RU" sz="2400" spc="-1" strike="noStrike">
                <a:solidFill>
                  <a:srgbClr val="d1d1cb"/>
                </a:solidFill>
                <a:latin typeface="Arial"/>
              </a:rPr>
              <a:t>литературного</a:t>
            </a:r>
            <a:br>
              <a:rPr sz="2400"/>
            </a:br>
            <a:r>
              <a:rPr b="0" i="1" lang="ru-RU" sz="2400" spc="-1" strike="noStrike">
                <a:solidFill>
                  <a:srgbClr val="d1d1cb"/>
                </a:solidFill>
                <a:latin typeface="Arial"/>
              </a:rPr>
              <a:t>чтения в 4 классе.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нова Татьяна Анатольевн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У СОШ 4 г.Сыктывка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спублика Ко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9ea8"/>
                </a:solidFill>
                <a:latin typeface="Arial"/>
              </a:rPr>
              <a:t>Вера древних славян.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ун                                  Яри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2955960" cy="4105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80692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9ea8"/>
                </a:solidFill>
                <a:latin typeface="Arial"/>
              </a:rPr>
              <a:t>Идолы богов.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11684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9ea8"/>
                </a:solidFill>
                <a:latin typeface="Arial"/>
              </a:rPr>
              <a:t>Варяги.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9e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9ea8"/>
                </a:solidFill>
                <a:latin typeface="Arial"/>
              </a:rPr>
              <a:t>Рюр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920" y="1557360"/>
            <a:ext cx="6634080" cy="497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2060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9ea8"/>
                </a:solidFill>
                <a:latin typeface="Arial"/>
              </a:rPr>
              <a:t>Алексанра Осиповна Ишимова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352680" cy="523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17196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9ea8"/>
                </a:solidFill>
                <a:latin typeface="Arial"/>
              </a:rPr>
              <a:t>Усть – Сысольск (Сыктывкар)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0581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9ea8"/>
                </a:solidFill>
                <a:latin typeface="Arial"/>
              </a:rPr>
              <a:t>Последнее письмо Пушкина перед дуэлью.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913200" cy="29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38466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9ea8"/>
                </a:solidFill>
                <a:latin typeface="Arial"/>
              </a:rPr>
              <a:t>Прочитайте книгу                           А. Ишимовой </a:t>
            </a:r>
            <a:br>
              <a:rPr sz="4400"/>
            </a:br>
            <a:r>
              <a:rPr b="0" lang="ru-RU" sz="4400" spc="-1" strike="noStrike">
                <a:solidFill>
                  <a:srgbClr val="809ea8"/>
                </a:solidFill>
                <a:latin typeface="Arial"/>
              </a:rPr>
              <a:t>«История России в рассказах для детей»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9ea8"/>
                </a:solidFill>
                <a:latin typeface="Arial"/>
              </a:rPr>
              <a:t>Придумайте задание к этим словам.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атары, летопись,  А.Пушкин, Д.С. Лихачев,эскимосы ,арабы, былина, индейцы, А.Ишимова, статья, славяне, рассказ,  Л. Н,Толстой, стихотворение,   сказ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Проверим!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7259760" cy="4705200"/>
        </p:xfrm>
        <a:graphic>
          <a:graphicData uri="http://schemas.openxmlformats.org/drawingml/2006/table">
            <a:tbl>
              <a:tblPr/>
              <a:tblGrid>
                <a:gridCol w="1773360"/>
                <a:gridCol w="2743200"/>
                <a:gridCol w="2743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нар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жан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пис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тат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летопи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А. С. Пушк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араб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бы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Д.С. Лихач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эским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стат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Л.Н. Толст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индей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расс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А.О.Ишим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слав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стихотвор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Проверим!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09880"/>
                <a:gridCol w="3109680"/>
                <a:gridCol w="31100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нар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жан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пис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т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топи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С. Пушк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аб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.С. Лихач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ским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т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.Н. Толст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ей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О.Ишим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ЛАВЯ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хотвор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Проверим!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240" cy="4525920"/>
        </p:xfrm>
        <a:graphic>
          <a:graphicData uri="http://schemas.openxmlformats.org/drawingml/2006/table">
            <a:tbl>
              <a:tblPr/>
              <a:tblGrid>
                <a:gridCol w="2010240"/>
                <a:gridCol w="3109320"/>
                <a:gridCol w="310968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нар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жан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пис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тат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летопи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. С. Пушк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раб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ы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Д.С. Лихач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ским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тат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Л.Н. Толст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индей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расс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.О.Ишим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лав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тихотвор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Проверим!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240" cy="4525920"/>
        </p:xfrm>
        <a:graphic>
          <a:graphicData uri="http://schemas.openxmlformats.org/drawingml/2006/table">
            <a:tbl>
              <a:tblPr/>
              <a:tblGrid>
                <a:gridCol w="2010240"/>
                <a:gridCol w="3109320"/>
                <a:gridCol w="310968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нар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жан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9ea8"/>
                          </a:solidFill>
                          <a:latin typeface="Arial"/>
                        </a:rPr>
                        <a:t>пис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тат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летопи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. С. Пушк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раб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ы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Д.С. Лихач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ским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тат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Л.Н. Толст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индей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расс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А.О.Ишим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лав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тихотвор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9ea8"/>
                </a:solidFill>
                <a:latin typeface="Arial"/>
              </a:rPr>
              <a:t>Рассказ А. О. Ишимов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9ea8"/>
                </a:solidFill>
                <a:latin typeface="Arial"/>
              </a:rPr>
              <a:t>«Славяне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9ea8"/>
                </a:solidFill>
                <a:latin typeface="Arial"/>
              </a:rPr>
              <a:t>«Христианское летоисчисление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5384880"/>
            <a:ext cx="77752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62 год                                          988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нязь Олег                             князь Влади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68760" y="1700280"/>
            <a:ext cx="268776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6082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9ea8"/>
                </a:solidFill>
                <a:latin typeface="Arial"/>
              </a:rPr>
              <a:t>О чем мы можем узнать из рассказа?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значит название народа «славян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о жительства славя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ий обл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льтура( традиции, песни, танцы, язык, кухн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циональный харак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отличается рассказ Ишимовой от статьи в учебнике истории? Почему он помещен в учебник лит. чт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такая Александра Ишим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08:45:51Z</dcterms:created>
  <dc:creator>Темнова</dc:creator>
  <dc:description/>
  <dc:language>en-US</dc:language>
  <cp:lastModifiedBy>Темнова</cp:lastModifiedBy>
  <dcterms:modified xsi:type="dcterms:W3CDTF">2013-08-01T17:02:13Z</dcterms:modified>
  <cp:revision>4</cp:revision>
  <dc:subject/>
  <dc:title>А.О.Ишимова. Славяне. Урок литературного чтения в 4 классе. </dc:title>
</cp:coreProperties>
</file>