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68A-2379-424C-8B58-51D34652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640-269D-427B-B306-65E26834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CCC-EF5D-430F-8B49-C6198CAA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FAC-0E70-4DD2-92BE-894D9BC9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1366-C916-4A06-B670-3DE5FFC2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3DB-EF38-4130-A536-E97F2439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F8F-60D2-458A-ADA7-CCFA9337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41F-2C5E-40C9-B1ED-F2D2C17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058-DE48-4E79-842B-C2C317A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D16-1DE6-4F14-8FCC-3338B2D1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17E-1739-478C-B5D5-840D9A0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69D-A0D7-4573-9855-6B0D168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2101-3466-4C60-AA13-E7E2D4C0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B220-27FF-4BF2-A7A8-04B6C0E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6C19-F4E5-4BFE-94A1-4F19E1E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94F-81E4-4780-99A6-00474860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517-3F83-4E89-8191-52A85C84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1C8-DB1F-4022-8758-C21D66A4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9AB-6D21-415B-B553-C92545E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FBA-E42F-4AE1-B972-33B0CA61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839-79FD-4204-B97A-A0E0C49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6E3-01CF-48BC-8D49-88B2D33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EAE-272E-46D4-8E0D-6DCB639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F48-244A-4596-B046-100E36E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6E62-3B89-40FF-96C2-ECFA0EFC3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F00-2900-4987-9912-A022746148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64360" cy="588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Александр</a:t>
            </a:r>
            <a:br>
              <a:rPr sz="9600"/>
            </a:b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Сергеевич</a:t>
            </a:r>
            <a:br>
              <a:rPr sz="9600"/>
            </a:b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Пушкин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143000"/>
            <a:ext cx="4714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 вместе с народом в своих сказках Пушкин жестоко высмеял и осудил глуповатых и злых царей, жадных попов, хитрых и невежественных бояр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3" descr="pushkin_alser"/>
          <p:cNvPicPr/>
          <p:nvPr/>
        </p:nvPicPr>
        <p:blipFill>
          <a:blip r:embed="rId1"/>
          <a:stretch/>
        </p:blipFill>
        <p:spPr>
          <a:xfrm>
            <a:off x="5435640" y="1052640"/>
            <a:ext cx="3292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-675000"/>
            <a:ext cx="8436240" cy="20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следние годы жиз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28960" y="692280"/>
            <a:ext cx="575784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8 февраля 1831 г. - венчание Пушкина в Москве с Н. Н. Гончаров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женитьбы Пушкин поселяется в Петербург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37 Пушкин, вступаясь за честь жены, дрался на дуэли с французским эмигрантом Ж. Дантесом.  Был смертельно ранен  и 10 февраля (29 января)  в 2 часа 45 минут пополудни поэт скончался. Похоронен поэт у стен Святогорского монастыря близ села Михайловск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pushkina_natnik"/>
          <p:cNvPicPr/>
          <p:nvPr/>
        </p:nvPicPr>
        <p:blipFill>
          <a:blip r:embed="rId1"/>
          <a:stretch/>
        </p:blipFill>
        <p:spPr>
          <a:xfrm>
            <a:off x="571680" y="3571920"/>
            <a:ext cx="2104920" cy="284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71680" y="1000080"/>
            <a:ext cx="2143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56760" y="836640"/>
            <a:ext cx="43657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я Александра Сергеевича Пушкина никогда не забудется: он всегда с нами, наш живой, любимый, наш великий Пушкин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pushkin"/>
          <p:cNvPicPr/>
          <p:nvPr/>
        </p:nvPicPr>
        <p:blipFill>
          <a:blip r:embed="rId1"/>
          <a:stretch/>
        </p:blipFill>
        <p:spPr>
          <a:xfrm>
            <a:off x="5143680" y="1357200"/>
            <a:ext cx="31572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«Сказка о мёртвой царевне и о семи богатырях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357156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4929120" y="2000160"/>
            <a:ext cx="38577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«Сказка о рыбаке и рыбк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7" descr="Старуха"/>
          <p:cNvPicPr/>
          <p:nvPr/>
        </p:nvPicPr>
        <p:blipFill>
          <a:blip r:embed="rId2"/>
          <a:stretch/>
        </p:blipFill>
        <p:spPr>
          <a:xfrm>
            <a:off x="4357800" y="2000160"/>
            <a:ext cx="4628880" cy="3714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«Сказка о  попе и о работнике его Балд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000760" y="2214720"/>
            <a:ext cx="3228840" cy="4143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857160" y="2214720"/>
            <a:ext cx="3214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«Сказка о золотом петушк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215040" y="3000240"/>
            <a:ext cx="25002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786120" y="15001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9" descr="Петушок 1"/>
          <p:cNvPicPr/>
          <p:nvPr/>
        </p:nvPicPr>
        <p:blipFill>
          <a:blip r:embed="rId3"/>
          <a:stretch/>
        </p:blipFill>
        <p:spPr>
          <a:xfrm>
            <a:off x="714240" y="3000240"/>
            <a:ext cx="2643480" cy="335772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«Сказка о царе Салтане…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4214880" y="2357280"/>
            <a:ext cx="421488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2" descr="Лебедь 1"/>
          <p:cNvPicPr/>
          <p:nvPr/>
        </p:nvPicPr>
        <p:blipFill>
          <a:blip r:embed="rId2"/>
          <a:stretch/>
        </p:blipFill>
        <p:spPr>
          <a:xfrm>
            <a:off x="642960" y="2071800"/>
            <a:ext cx="2952720" cy="3889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102520" cy="30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1799-1837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85840" y="3143160"/>
            <a:ext cx="85723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шкин Александр Сергеевич – самый любимый писатель у нас в стране. Его все знают, книги его все читают; многие его произведения перечитываются по нескольку раз. Его стихи заучиваются наизусть. Его портрет всем знаком – всякий, взглянув на это лицо с живыми, ясными глазами, на эти вьющиеся волосы, скажет: это Пушки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pushkin"/>
          <p:cNvPicPr/>
          <p:nvPr/>
        </p:nvPicPr>
        <p:blipFill>
          <a:blip r:embed="rId1"/>
          <a:stretch/>
        </p:blipFill>
        <p:spPr>
          <a:xfrm>
            <a:off x="1000080" y="428760"/>
            <a:ext cx="2156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ья поэт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8" descr="pushkina_mama"/>
          <p:cNvPicPr/>
          <p:nvPr/>
        </p:nvPicPr>
        <p:blipFill>
          <a:blip r:embed="rId1"/>
          <a:stretch/>
        </p:blipFill>
        <p:spPr>
          <a:xfrm>
            <a:off x="1285920" y="1000080"/>
            <a:ext cx="2316240" cy="31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pushkin_otec"/>
          <p:cNvPicPr/>
          <p:nvPr/>
        </p:nvPicPr>
        <p:blipFill>
          <a:blip r:embed="rId2"/>
          <a:stretch/>
        </p:blipFill>
        <p:spPr>
          <a:xfrm>
            <a:off x="5500800" y="1000080"/>
            <a:ext cx="2357280" cy="3167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4287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июня (26 мая) 1799 г. - А. С. Пушкин родился в Москве в семье офицера Гвардии Сергея Львовича Пушкина и Надежды Осиповны Ганнибал,  внучки Ганнибала А. П., сына эфиопского князя, попавшего в Россию ок. 1706 г. (Арап Петра Великог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57840" y="35712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детстве Саша начал рано читать. Он в совершенстве знал французский язык. Любовь к родному языку ему привили бабушка, Мария Алексеевна Ганнибал, превосходно говорившая и писавшая по-русс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42386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57320" y="499680"/>
            <a:ext cx="610380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явление редкое в дворянских семьях того времени), и няня Арина Родионовна. Раннему развитию литературных склонностей Пушкина способствовали литературные вечера в доме Пушкиных, где собирались видные писател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571680" y="4357800"/>
            <a:ext cx="200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на единст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я подруга — и с нею то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е не скучн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ц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95280" y="549000"/>
            <a:ext cx="4907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811 году Пушкин поступил в только что открытый Царскосельский лицей - привилегированное учебное заведение, предназначенное для подготовки по специальной программе высших государственных чиновников из детей дворянского сослов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licei"/>
          <p:cNvPicPr/>
          <p:nvPr/>
        </p:nvPicPr>
        <p:blipFill>
          <a:blip r:embed="rId1"/>
          <a:stretch/>
        </p:blipFill>
        <p:spPr>
          <a:xfrm>
            <a:off x="250920" y="2781360"/>
            <a:ext cx="3803400" cy="3686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881000" y="6195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едназначен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95280" y="549000"/>
            <a:ext cx="4907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есь Пушкин впервые почувствовал себя Поэтом: талант его был признан товарищами по лицею, среди которых были Дельвиг, Кюхельбекер, Пущин, наставниками лицея, а также такими корифеями русской литературы, как Державин, Жуковский, Батюшков, Карамзин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licei"/>
          <p:cNvPicPr/>
          <p:nvPr/>
        </p:nvPicPr>
        <p:blipFill>
          <a:blip r:embed="rId1"/>
          <a:stretch/>
        </p:blipFill>
        <p:spPr>
          <a:xfrm>
            <a:off x="250920" y="2781360"/>
            <a:ext cx="3803400" cy="36860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881000" y="6195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едназначен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357200" y="571680"/>
            <a:ext cx="1657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pushkin_tropinin"/>
          <p:cNvPicPr/>
          <p:nvPr/>
        </p:nvPicPr>
        <p:blipFill>
          <a:blip r:embed="rId1"/>
          <a:stretch/>
        </p:blipFill>
        <p:spPr>
          <a:xfrm>
            <a:off x="357120" y="1214280"/>
            <a:ext cx="2857680" cy="4025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86080" y="285840"/>
            <a:ext cx="55720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1824  Пушкин был сослан в имение родителей село Михайловское. В длинные зимние вечера Арина Родионовна как и в детстве, рассказывала поэту сказки. «Что за прелесть эти сказки! – говорил он. – Каждая есть поэма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14200" y="785520"/>
            <a:ext cx="5143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ушкин перенес в свои сказки чудесные и живые образы народной фантазии: золотую рыбку, царевну Лебедь, Золотого петушка и затейницу белку, Черномора и морских богатыр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6000840" y="571680"/>
            <a:ext cx="2247840" cy="2857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715000" y="3929040"/>
            <a:ext cx="28576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04:40Z</dcterms:created>
  <dc:creator>User</dc:creator>
  <dc:description/>
  <dc:language>en-US</dc:language>
  <cp:lastModifiedBy>Любовь</cp:lastModifiedBy>
  <dcterms:modified xsi:type="dcterms:W3CDTF">2012-01-22T14:43:15Z</dcterms:modified>
  <cp:revision>36</cp:revision>
  <dc:subject/>
  <dc:title>Биография А.С.Пушкина</dc:title>
</cp:coreProperties>
</file>