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9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083-F6A8-48A5-8526-6E24902C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48F-851A-41D2-89AE-30F65A6F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8BB8-2F54-4A6F-B531-6C3ECD7B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23F-FBF0-435B-A9B6-08B9EE41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9599-D839-4050-A700-046B07BD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395D-CA33-47DB-AA41-44B525D4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1B67-F44D-414E-9C72-FAF851AA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B3E8-84DB-41C5-A95C-92AEDB51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AC93-D895-4838-A4BD-71EB9A36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8C3F-FA9E-4B26-BBA6-E93D2A69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8F31-9CB4-469B-BAA2-79B6C25C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5CDA-13D0-4A1F-B12E-93B2D04E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85A6-B0AA-498D-9033-FF149A60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1A03-C881-43DA-9AE8-5CF25EB4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6DC7-F9E8-4904-A0FE-59C2D89F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6D6D-C4FD-4533-8759-ED07B763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FFBA-7BAA-496D-AE5B-D642DAF3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12B-6011-48C9-A71A-5AB59C96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8AF-BFCC-4273-BE17-91494E6E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224-131E-48FA-94A3-A83AB276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273-4AFA-49B4-906E-FC886078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375-B6EC-49BF-854C-0E0E132C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E52-AA77-449C-BF09-D8488479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7CB-65E2-466E-BF6B-672306E9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2A9B-2C2E-47F9-9253-5392F5B2E61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AD1E-DEC1-4B44-9A40-82313A405D5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44440" y="463680"/>
            <a:ext cx="8386920" cy="2681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11280" y="3068640"/>
            <a:ext cx="4032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У каждого животно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есть свои способ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защит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от враг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http://t2.gstatic.com/images?q=tbn:ANd9GcSbjSfPB_V_idY3ZM7ZjvFBg-i5pIE_vlFTNbM7dILXeoz5nn47wA"/>
          <p:cNvPicPr/>
          <p:nvPr/>
        </p:nvPicPr>
        <p:blipFill>
          <a:blip r:embed="rId2"/>
          <a:stretch/>
        </p:blipFill>
        <p:spPr>
          <a:xfrm>
            <a:off x="5076720" y="2997360"/>
            <a:ext cx="3691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2" descr=""/>
          <p:cNvPicPr/>
          <p:nvPr/>
        </p:nvPicPr>
        <p:blipFill>
          <a:blip r:embed="rId1"/>
          <a:stretch/>
        </p:blipFill>
        <p:spPr>
          <a:xfrm>
            <a:off x="96840" y="255600"/>
            <a:ext cx="8534520" cy="1152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D:\Мои документы\животные защищаются\1005258-img_2.jpg"/>
          <p:cNvPicPr/>
          <p:nvPr/>
        </p:nvPicPr>
        <p:blipFill>
          <a:blip r:embed="rId2"/>
          <a:stretch/>
        </p:blipFill>
        <p:spPr>
          <a:xfrm>
            <a:off x="4500720" y="1413000"/>
            <a:ext cx="4038480" cy="40082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9" descr="загруженное (2).jpg"/>
          <p:cNvPicPr/>
          <p:nvPr/>
        </p:nvPicPr>
        <p:blipFill>
          <a:blip r:embed="rId3"/>
          <a:stretch/>
        </p:blipFill>
        <p:spPr>
          <a:xfrm>
            <a:off x="2843280" y="4508640"/>
            <a:ext cx="2476440" cy="184788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" descr="D:\Мои документы\животные защищаются\raznoobrazie_jivotnogo_mira_1.jpg"/>
          <p:cNvPicPr/>
          <p:nvPr/>
        </p:nvPicPr>
        <p:blipFill>
          <a:blip r:embed="rId4"/>
          <a:stretch/>
        </p:blipFill>
        <p:spPr>
          <a:xfrm>
            <a:off x="684360" y="1844640"/>
            <a:ext cx="285408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158760" y="-42840"/>
            <a:ext cx="8564400" cy="170028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5" descr="лось.jpg"/>
          <p:cNvPicPr/>
          <p:nvPr/>
        </p:nvPicPr>
        <p:blipFill>
          <a:blip r:embed="rId2"/>
          <a:stretch/>
        </p:blipFill>
        <p:spPr>
          <a:xfrm>
            <a:off x="468360" y="1484280"/>
            <a:ext cx="4174920" cy="460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D:\Мои документы\животные защищаются\img240960_5-21_Ovtsebyik.jpg"/>
          <p:cNvPicPr/>
          <p:nvPr/>
        </p:nvPicPr>
        <p:blipFill>
          <a:blip r:embed="rId3"/>
          <a:stretch/>
        </p:blipFill>
        <p:spPr>
          <a:xfrm>
            <a:off x="4932360" y="1484280"/>
            <a:ext cx="3809880" cy="25430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6"/>
          <p:cNvSpPr/>
          <p:nvPr/>
        </p:nvSpPr>
        <p:spPr>
          <a:xfrm flipH="1">
            <a:off x="4858560" y="4437000"/>
            <a:ext cx="40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льные ноги и могучие рога помогают лосю отбиться даже от такого опасного хищника, как волк. ЯКИ защищаются от волков, образуя кру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158760" y="268200"/>
            <a:ext cx="8534520" cy="115884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5" descr="images (3).jpg"/>
          <p:cNvPicPr/>
          <p:nvPr/>
        </p:nvPicPr>
        <p:blipFill>
          <a:blip r:embed="rId2"/>
          <a:stretch/>
        </p:blipFill>
        <p:spPr>
          <a:xfrm>
            <a:off x="539640" y="1557360"/>
            <a:ext cx="3816360" cy="374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Мои документы\животные защищаются\окраска защищает птиц от врагов.jpg"/>
          <p:cNvPicPr/>
          <p:nvPr/>
        </p:nvPicPr>
        <p:blipFill>
          <a:blip r:embed="rId3"/>
          <a:stretch/>
        </p:blipFill>
        <p:spPr>
          <a:xfrm>
            <a:off x="4648320" y="1557360"/>
            <a:ext cx="4038480" cy="37432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6"/>
          <p:cNvSpPr/>
          <p:nvPr/>
        </p:nvSpPr>
        <p:spPr>
          <a:xfrm>
            <a:off x="539640" y="5373720"/>
            <a:ext cx="81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которым животным защитная окраска или удивительная форма помогают как бы слиться с окружающими их предметами. А некоторые из них (например, хамелеон) могут даже изменять окраску, чтобы она соответствовала окружающей сред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загруженное (3).jpg"/>
          <p:cNvPicPr/>
          <p:nvPr/>
        </p:nvPicPr>
        <p:blipFill>
          <a:blip r:embed="rId2"/>
          <a:stretch/>
        </p:blipFill>
        <p:spPr>
          <a:xfrm>
            <a:off x="468360" y="1413000"/>
            <a:ext cx="4174920" cy="4752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648320" y="1700280"/>
            <a:ext cx="40384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зайца врагов много: волки, лисы, горностаи, ласки, охотничьи собаки. Заяц может спрятаться и стать незаметным, а в случае опасности его спасают его длинные но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5" descr="images (1).jpg"/>
          <p:cNvPicPr/>
          <p:nvPr/>
        </p:nvPicPr>
        <p:blipFill>
          <a:blip r:embed="rId2"/>
          <a:stretch/>
        </p:blipFill>
        <p:spPr>
          <a:xfrm>
            <a:off x="468360" y="1628640"/>
            <a:ext cx="4032360" cy="3313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D:\Мои документы\животные защищаются\lizard_1024.jpg"/>
          <p:cNvPicPr/>
          <p:nvPr/>
        </p:nvPicPr>
        <p:blipFill>
          <a:blip r:embed="rId3"/>
          <a:stretch/>
        </p:blipFill>
        <p:spPr>
          <a:xfrm>
            <a:off x="4788000" y="1628640"/>
            <a:ext cx="3898800" cy="33130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6"/>
          <p:cNvSpPr/>
          <p:nvPr/>
        </p:nvSpPr>
        <p:spPr>
          <a:xfrm>
            <a:off x="468360" y="508464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шки в случае опасности выгибают спину, вздыбливают шерсть и шипят, чтобы показаться страшнее, чем они есть на самом деле. Этот приём используют и некоторые виды ящери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225360" y="96840"/>
            <a:ext cx="84679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4" descr="загруженное (1).jpg"/>
          <p:cNvPicPr/>
          <p:nvPr/>
        </p:nvPicPr>
        <p:blipFill>
          <a:blip r:embed="rId2"/>
          <a:stretch/>
        </p:blipFill>
        <p:spPr>
          <a:xfrm>
            <a:off x="468360" y="1628640"/>
            <a:ext cx="4032360" cy="4537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64832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белки в дупле сухо и тепло! Забирается она в дупло, сворачивается клубочком и закрывает хвостом носик. Когда очень холодно, белка не выходит из дупла. Белка ловко лазает по деревьям, прыгает с ветки на ветку, может питаться на стволе дерева. Так она защищается от враг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231840" y="115920"/>
            <a:ext cx="8680320" cy="141444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4" descr="images (4).jpg"/>
          <p:cNvPicPr/>
          <p:nvPr/>
        </p:nvPicPr>
        <p:blipFill>
          <a:blip r:embed="rId2"/>
          <a:stretch/>
        </p:blipFill>
        <p:spPr>
          <a:xfrm>
            <a:off x="468360" y="1916280"/>
            <a:ext cx="388764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Admin\Downloads\загруженное (5).jpg"/>
          <p:cNvPicPr/>
          <p:nvPr/>
        </p:nvPicPr>
        <p:blipFill>
          <a:blip r:embed="rId3"/>
          <a:stretch/>
        </p:blipFill>
        <p:spPr>
          <a:xfrm>
            <a:off x="4643280" y="1916280"/>
            <a:ext cx="4105440" cy="396072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5" descr="загруженное (4).jpg"/>
          <p:cNvPicPr/>
          <p:nvPr/>
        </p:nvPicPr>
        <p:blipFill>
          <a:blip r:embed="rId4"/>
          <a:stretch/>
        </p:blipFill>
        <p:spPr>
          <a:xfrm>
            <a:off x="6588000" y="4724280"/>
            <a:ext cx="2160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4" descr=""/>
          <p:cNvPicPr/>
          <p:nvPr/>
        </p:nvPicPr>
        <p:blipFill>
          <a:blip r:embed="rId1"/>
          <a:stretch/>
        </p:blipFill>
        <p:spPr>
          <a:xfrm>
            <a:off x="450720" y="-60480"/>
            <a:ext cx="8242560" cy="3041640"/>
          </a:xfrm>
          <a:prstGeom prst="rect">
            <a:avLst/>
          </a:prstGeom>
          <a:ln w="0">
            <a:noFill/>
          </a:ln>
        </p:spPr>
      </p:pic>
      <p:pic>
        <p:nvPicPr>
          <p:cNvPr id="115" name="Содержимое 6" descr="images (5).jpg"/>
          <p:cNvPicPr/>
          <p:nvPr/>
        </p:nvPicPr>
        <p:blipFill>
          <a:blip r:embed="rId2"/>
          <a:stretch/>
        </p:blipFill>
        <p:spPr>
          <a:xfrm>
            <a:off x="1908000" y="2924280"/>
            <a:ext cx="5400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0:34:18Z</dcterms:created>
  <dc:creator>Демонстрационная версия</dc:creator>
  <dc:description/>
  <dc:language>en-US</dc:language>
  <cp:lastModifiedBy>Демонстрационная версия</cp:lastModifiedBy>
  <dcterms:modified xsi:type="dcterms:W3CDTF">2015-01-07T23:12:22Z</dcterms:modified>
  <cp:revision>37</cp:revision>
  <dc:subject/>
  <dc:title>КАК ЖИВОТНЫЕ ЗАЩИЩАЮТСЯ  ОТ ВРАГОВ</dc:title>
</cp:coreProperties>
</file>