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C7C-6756-4251-A62F-AFC16DAF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83A-FF39-4C3D-BB95-9061931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A32-01BA-4770-9993-EDAEA643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954-0CDF-43F7-A614-7DE79366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D1A-041A-4324-AD83-1BD90759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7E36-90A8-43B7-98EB-064CE58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608-1723-4E65-BFB3-D70DBF8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9C6-E0A8-46B4-9C1C-61B14E46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06DC-D694-4B07-B402-0C587A79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4D60-7A2D-4CD5-80E8-2A7DA1A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7E5-AC3A-4D0E-8660-DFA2362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D4E-1468-454F-AC56-4EB3E0AB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FD2-5FAD-4AE5-A01D-EA9E5AA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6E4-8B57-49B6-A732-CD18AB1F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4A7C-6F02-490B-BB98-56458C0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E9A5-2452-41DB-9F2B-282F3F5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9B03-1B20-4F05-A0C3-BC0E3A7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A5F5-C7D3-480F-9F03-2F0C2F11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A1F4-9B6C-43B1-9B7E-F3C5E21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2B23-1E93-479B-B3CC-941BA08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8E6E-72C9-4A99-84AD-B0DAC00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462F-91F1-4878-9B75-28B6187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F1A-DFC8-4C5B-A480-907C3DB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BA33-A9A9-4DAE-9C28-21DEBE6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E7AC-D4FC-4259-B7E0-700B8F4A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64EF-8ACE-472E-96D1-442E068E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9E06-CBE0-448E-883A-D6F6D77C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DE5E-F8D2-412C-BA52-AA9849F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2C0C-E3C1-45A9-BF77-4DB33CFF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D653-878F-440B-9F06-9D80F67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624A-4C56-4799-BBA9-8BCD5902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9B2D-91D9-4DD6-8632-003F5CC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D899-4378-4CDB-A899-B31F6F6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0CF-2C62-4DF5-AAD4-452D4F7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95A5-925F-429D-873D-4915C731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EC30-3BC7-4005-AE7C-8D76620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9C58-D46C-4A03-B831-6EDDB06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C76A-28B2-49CA-A896-D021C23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BA25-309B-40F4-A875-BF7E34E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AF85-2D78-44D3-B2DD-0E862DB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0DE3-DF9F-4CD8-A478-F6DFCAEA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4130C-BE3A-49AF-91FB-30156F5C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5126-CAFB-4D32-8831-37502D01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C6D-C251-4D36-BF90-9FFC1CA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6AF-94B9-4EDA-9DE4-19851B5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849-A8B3-4380-B9BB-8D1C18F2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8AF-1EC7-4086-8F1D-6582946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14B-DA0F-4A5A-A85E-3BD9A94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77E-3E95-4046-8660-88D6071ACA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DE1-2C50-4099-A31A-E9C6288D44A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3EEB-DCFD-4695-8D08-D4E453E48BB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A42D-9EF6-4238-9751-38446DCCFB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60;&#1072;&#1081;&#1083;:Vologodskoe_Krujevo_Lukomore_fragment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ubimoe-delo.ru/wp-content/uploads/2007/10/294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lubimoe-delo.ru/wp-content/uploads/2007/10/295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lubimoe-delo.ru/wp-content/uploads/2007/10/2961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ubimoe-delo.ru/wp-content/uploads/2007/10/293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linens.ru/catalogue/vologda_laces/358/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narodko.ru/image/gallery/koklu6e4noe_krugevo/20100418162339.jpg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nens.ru/catalogue/vologda_laces/354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upload.wikimedia.org/wikipedia/commons/f/ff/Vologodskoe_Krujevo_2.jpg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hyperlink" Target="http://www.snejinka.ru/product_info.php?cPath=194_182&amp;products_id=9846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www.snejinka.ru/product_info.php?cPath=194_182&amp;products_id=9845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snejinka.ru/product_info.php?cPath=194_182&amp;products_id=9839" TargetMode="External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nens.ru/catalogue/vologda_laces/1609/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linens.ru/catalogue/vologda_laces/431/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www.linens.ru/catalogue/vologda_laces/1613/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www.linens.ru/catalogue/vologda_laces/421/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toretro.ru/pic26229.htm" TargetMode="External"/><Relationship Id="rId2" Type="http://schemas.openxmlformats.org/officeDocument/2006/relationships/hyperlink" Target="http://www.etoretro.ru/pic26229.htm" TargetMode="External"/><Relationship Id="rId3" Type="http://schemas.openxmlformats.org/officeDocument/2006/relationships/hyperlink" Target="http://www.etoretro.ru/pic26229.htm" TargetMode="External"/><Relationship Id="rId4" Type="http://schemas.openxmlformats.org/officeDocument/2006/relationships/hyperlink" Target="http://www.etoretro.ru/pic26229.htm" TargetMode="External"/><Relationship Id="rId5" Type="http://schemas.openxmlformats.org/officeDocument/2006/relationships/hyperlink" Target="http://www.etoretro.ru/pic26229.htm" TargetMode="External"/><Relationship Id="rId6" Type="http://schemas.openxmlformats.org/officeDocument/2006/relationships/hyperlink" Target="http://www.etoretro.ru/pic26229.htm" TargetMode="External"/><Relationship Id="rId7" Type="http://schemas.openxmlformats.org/officeDocument/2006/relationships/hyperlink" Target="http://www.etoretro.ru/pic26229.htm" TargetMode="External"/><Relationship Id="rId8" Type="http://schemas.openxmlformats.org/officeDocument/2006/relationships/hyperlink" Target="http://www.etoretro.ru/pic26229.htm" TargetMode="External"/><Relationship Id="rId9" Type="http://schemas.openxmlformats.org/officeDocument/2006/relationships/hyperlink" Target="http://www.etoretro.ru/pic26229.htm" TargetMode="External"/><Relationship Id="rId10" Type="http://schemas.openxmlformats.org/officeDocument/2006/relationships/hyperlink" Target="http://www.etoretro.ru/pic26229.htm" TargetMode="External"/><Relationship Id="rId11" Type="http://schemas.openxmlformats.org/officeDocument/2006/relationships/hyperlink" Target="http://www.etoretro.ru/pic26229.htm" TargetMode="External"/><Relationship Id="rId12" Type="http://schemas.openxmlformats.org/officeDocument/2006/relationships/hyperlink" Target="http://lubimoe-delo.ru/index.php/archives/200" TargetMode="External"/><Relationship Id="rId13" Type="http://schemas.openxmlformats.org/officeDocument/2006/relationships/hyperlink" Target="http://lubimoe-delo.ru/index.php/archives/200" TargetMode="External"/><Relationship Id="rId14" Type="http://schemas.openxmlformats.org/officeDocument/2006/relationships/hyperlink" Target="http://lubimoe-delo.ru/index.php/archives/200" TargetMode="External"/><Relationship Id="rId15" Type="http://schemas.openxmlformats.org/officeDocument/2006/relationships/hyperlink" Target="http://lubimoe-delo.ru/index.php/archives/200" TargetMode="External"/><Relationship Id="rId16" Type="http://schemas.openxmlformats.org/officeDocument/2006/relationships/hyperlink" Target="http://lubimoe-delo.ru/index.php/archives/200" TargetMode="External"/><Relationship Id="rId17" Type="http://schemas.openxmlformats.org/officeDocument/2006/relationships/hyperlink" Target="http://lubimoe-delo.ru/index.php/archives/200" TargetMode="External"/><Relationship Id="rId18" Type="http://schemas.openxmlformats.org/officeDocument/2006/relationships/hyperlink" Target="http://lubimoe-delo.ru/index.php/archives/200" TargetMode="External"/><Relationship Id="rId19" Type="http://schemas.openxmlformats.org/officeDocument/2006/relationships/hyperlink" Target="http://lubimoe-delo.ru/index.php/archives/200" TargetMode="External"/><Relationship Id="rId20" Type="http://schemas.openxmlformats.org/officeDocument/2006/relationships/hyperlink" Target="http://lubimoe-delo.ru/index.php/archives/200" TargetMode="External"/><Relationship Id="rId21" Type="http://schemas.openxmlformats.org/officeDocument/2006/relationships/hyperlink" Target="http://lubimoe-delo.ru/index.php/archives/200" TargetMode="External"/><Relationship Id="rId22" Type="http://schemas.openxmlformats.org/officeDocument/2006/relationships/hyperlink" Target="http://lubimoe-delo.ru/index.php/archives/200" TargetMode="External"/><Relationship Id="rId23" Type="http://schemas.openxmlformats.org/officeDocument/2006/relationships/hyperlink" Target="http://lubimoe-delo.ru/index.php/archives/200" TargetMode="External"/><Relationship Id="rId24" Type="http://schemas.openxmlformats.org/officeDocument/2006/relationships/hyperlink" Target="http://lubimoe-delo.ru/index.php/archives/200" TargetMode="External"/><Relationship Id="rId25" Type="http://schemas.openxmlformats.org/officeDocument/2006/relationships/hyperlink" Target="http://lubimoe-delo.ru/index.php/archives/200" TargetMode="External"/><Relationship Id="rId26" Type="http://schemas.openxmlformats.org/officeDocument/2006/relationships/hyperlink" Target="http://fototerra.ru/Russia/Vologda/Westa-4003.html" TargetMode="External"/><Relationship Id="rId27" Type="http://schemas.openxmlformats.org/officeDocument/2006/relationships/hyperlink" Target="http://fototerra.ru/Russia/Vologda/Westa-4003.html" TargetMode="External"/><Relationship Id="rId28" Type="http://schemas.openxmlformats.org/officeDocument/2006/relationships/hyperlink" Target="http://fototerra.ru/Russia/Vologda/Westa-4003.html" TargetMode="External"/><Relationship Id="rId29" Type="http://schemas.openxmlformats.org/officeDocument/2006/relationships/hyperlink" Target="http://fototerra.ru/Russia/Vologda/Westa-4003.html" TargetMode="External"/><Relationship Id="rId30" Type="http://schemas.openxmlformats.org/officeDocument/2006/relationships/hyperlink" Target="http://fototerra.ru/Russia/Vologda/Westa-4003.html" TargetMode="External"/><Relationship Id="rId31" Type="http://schemas.openxmlformats.org/officeDocument/2006/relationships/hyperlink" Target="http://fototerra.ru/Russia/Vologda/Westa-4003.html" TargetMode="External"/><Relationship Id="rId32" Type="http://schemas.openxmlformats.org/officeDocument/2006/relationships/hyperlink" Target="http://fototerra.ru/Russia/Vologda/Westa-4003.html" TargetMode="External"/><Relationship Id="rId33" Type="http://schemas.openxmlformats.org/officeDocument/2006/relationships/hyperlink" Target="http://fototerra.ru/Russia/Vologda/Westa-4003.html" TargetMode="External"/><Relationship Id="rId34" Type="http://schemas.openxmlformats.org/officeDocument/2006/relationships/hyperlink" Target="http://fototerra.ru/Russia/Vologda/Westa-4003.html" TargetMode="External"/><Relationship Id="rId35" Type="http://schemas.openxmlformats.org/officeDocument/2006/relationships/hyperlink" Target="http://fototerra.ru/Russia/Vologda/Westa-4003.html" TargetMode="External"/><Relationship Id="rId36" Type="http://schemas.openxmlformats.org/officeDocument/2006/relationships/hyperlink" Target="http://fototerra.ru/Russia/Vologda/Westa-4003.html" TargetMode="External"/><Relationship Id="rId37" Type="http://schemas.openxmlformats.org/officeDocument/2006/relationships/hyperlink" Target="http://fototerra.ru/Russia/Vologda/Westa-4003.html" TargetMode="External"/><Relationship Id="rId38" Type="http://schemas.openxmlformats.org/officeDocument/2006/relationships/hyperlink" Target="http://fototerra.ru/Russia/Vologda/Westa-4003.html" TargetMode="External"/><Relationship Id="rId39" Type="http://schemas.openxmlformats.org/officeDocument/2006/relationships/hyperlink" Target="http://fototerra.ru/Russia/Vologda/Westa-4003.html" TargetMode="External"/><Relationship Id="rId40" Type="http://schemas.openxmlformats.org/officeDocument/2006/relationships/hyperlink" Target="http://subscribe.ru/catalog/history.lace" TargetMode="External"/><Relationship Id="rId41" Type="http://schemas.openxmlformats.org/officeDocument/2006/relationships/hyperlink" Target="http://www.snejinka.ru/index.php?cPath=194_174" TargetMode="External"/><Relationship Id="rId42" Type="http://schemas.openxmlformats.org/officeDocument/2006/relationships/hyperlink" Target="http://www.snejinka.ru/index.php?cPath=194_174" TargetMode="External"/><Relationship Id="rId43" Type="http://schemas.openxmlformats.org/officeDocument/2006/relationships/hyperlink" Target="http://www.snejinka.ru/index.php?cPath=194_174" TargetMode="External"/><Relationship Id="rId44" Type="http://schemas.openxmlformats.org/officeDocument/2006/relationships/hyperlink" Target="http://www.snejinka.ru/index.php?cPath=194_174" TargetMode="External"/><Relationship Id="rId45" Type="http://schemas.openxmlformats.org/officeDocument/2006/relationships/hyperlink" Target="http://www.snejinka.ru/index.php?cPath=194_174" TargetMode="External"/><Relationship Id="rId46" Type="http://schemas.openxmlformats.org/officeDocument/2006/relationships/image" Target="../media/image46.jpeg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zheladmin.ru/users/gione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toretro.ru/pic17100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toretro.ru/pic22658.htm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linens.ru/catalogue/vologda_laces/423/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linens.ru/catalogue/vologda_laces/1611/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linens.ru/catalogue/vologda_laces/356/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nens.ru/catalogue/vologda_laces/432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linens.ru/catalogue/vologda_laces/433/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linens.ru/catalogue/vologda_laces/353/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linens.ru/catalogue/vologda_laces/1613/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ropinin_lacemaker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nejinka.ru/product_info.php?cPath=194_182&amp;products_id=9845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bimoe-delo.ru/wp-content/uploads/2007/10/292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linens.ru/catalogue/vologda_laces/1603/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11040" y="281160"/>
            <a:ext cx="8564760" cy="4724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840" y="4572000"/>
            <a:ext cx="85723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молаева  Нина Васильевн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7" descr="http://upload.wikimedia.org/wikipedia/commons/thumb/f/f9/Vologodskoe_Krujevo_Lukomore_fragment.jpg/220px-Vologodskoe_Krujevo_Lukomore_fragme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3500280"/>
            <a:ext cx="390204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071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бы удобно было работать, подушку надо класть на подставку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став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может быть небольшой сборной для установки валика на стол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закрепления переплетённы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ток в кружеве используют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булав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Рисунок 4" descr="2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2143080"/>
            <a:ext cx="335772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2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1857240"/>
            <a:ext cx="2857680" cy="2000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29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43720" y="4214880"/>
            <a:ext cx="21729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999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колок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рабочий рисунок кружева. Его наносят на плотную и достаточно эластичную бумагу или картон в виде точе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ушка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виде валика, на которой производится плетение круже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Рисунок 8" descr="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0800" y="2500200"/>
            <a:ext cx="2928960" cy="2186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78 Салфе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2928960"/>
            <a:ext cx="4019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Элементы круже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71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летешо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етка-решётка, которая служит фон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rcRect l="0" t="8003" r="351" b="56005"/>
          <a:stretch/>
        </p:blipFill>
        <p:spPr>
          <a:xfrm>
            <a:off x="1022400" y="1571760"/>
            <a:ext cx="7121520" cy="1714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2"/>
          <a:srcRect l="0" t="7409" r="0" b="59264"/>
          <a:stretch/>
        </p:blipFill>
        <p:spPr>
          <a:xfrm>
            <a:off x="1071720" y="4286160"/>
            <a:ext cx="70959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Элементы круже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0713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сьма-полотнянка (вилюшк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сновки – небольшие фигурки очень плотного плет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75480" indent="-375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rcRect l="2621" t="51855" r="0" b="0"/>
          <a:stretch/>
        </p:blipFill>
        <p:spPr>
          <a:xfrm>
            <a:off x="1000080" y="1571760"/>
            <a:ext cx="687384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rcRect l="0" t="39374" r="0" b="0"/>
          <a:stretch/>
        </p:blipFill>
        <p:spPr>
          <a:xfrm>
            <a:off x="1071720" y="4286160"/>
            <a:ext cx="6860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Цветовое реш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Овал 19"/>
          <p:cNvSpPr/>
          <p:nvPr/>
        </p:nvSpPr>
        <p:spPr>
          <a:xfrm>
            <a:off x="3071880" y="928800"/>
            <a:ext cx="271440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Рисунок 9" descr="http://fototerra.ru/image.html?id=81331&amp;size=medium"/>
          <p:cNvPicPr/>
          <p:nvPr/>
        </p:nvPicPr>
        <p:blipFill>
          <a:blip r:embed="rId1"/>
          <a:srcRect l="21837" t="0" r="22257" b="0"/>
          <a:stretch/>
        </p:blipFill>
        <p:spPr>
          <a:xfrm>
            <a:off x="285840" y="3143160"/>
            <a:ext cx="2546280" cy="34131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0" descr="http://www.narodko.ru/image/gallery/koklu6e4noe_krugevo/prev150/2010041816233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72120" y="3214800"/>
            <a:ext cx="2665440" cy="285588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1"/>
          <p:cNvSpPr/>
          <p:nvPr/>
        </p:nvSpPr>
        <p:spPr>
          <a:xfrm>
            <a:off x="3071880" y="2857680"/>
            <a:ext cx="2714400" cy="18572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луб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Овал 12"/>
          <p:cNvSpPr/>
          <p:nvPr/>
        </p:nvSpPr>
        <p:spPr>
          <a:xfrm>
            <a:off x="3071880" y="4857840"/>
            <a:ext cx="2714400" cy="1857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ёр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Овал 13"/>
          <p:cNvSpPr/>
          <p:nvPr/>
        </p:nvSpPr>
        <p:spPr>
          <a:xfrm>
            <a:off x="5929200" y="928800"/>
            <a:ext cx="2714760" cy="1857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емов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Овал 14"/>
          <p:cNvSpPr/>
          <p:nvPr/>
        </p:nvSpPr>
        <p:spPr>
          <a:xfrm>
            <a:off x="285840" y="857160"/>
            <a:ext cx="2714400" cy="18576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р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Содержимое 5" descr="435 Жил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43800" y="857160"/>
            <a:ext cx="2028600" cy="28908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Файл:Vologodskoe Krujevo 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86040" y="2500200"/>
            <a:ext cx="3714840" cy="414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http://images.masters-gid.ru/UserImages/User_1177/Albums/Album_2010/Item_9319/m_Picture_1.jpg?var=122114727"/>
          <p:cNvPicPr/>
          <p:nvPr/>
        </p:nvPicPr>
        <p:blipFill>
          <a:blip r:embed="rId5"/>
          <a:stretch/>
        </p:blipFill>
        <p:spPr>
          <a:xfrm>
            <a:off x="285840" y="857160"/>
            <a:ext cx="2143080" cy="27846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8" descr="Сувенир кружевной &quot;Бабочка&quot;,  7НХП-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5880" y="4714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9" descr="Сувенир кружевной  &quot;Бабочка&quot;, 6НХП-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00920" y="4643280"/>
            <a:ext cx="1533600" cy="11178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Сувенир кружевной «Матрешка», 6НХП-15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00680" y="1143000"/>
            <a:ext cx="857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Содержимое 5" descr="6НХП-348 Дорож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428840"/>
            <a:ext cx="3733560" cy="23191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6НХП-370 Салфе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4286160"/>
            <a:ext cx="3564000" cy="19749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9" descr="6НХП-279 Дорож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760" y="4286160"/>
            <a:ext cx="3800520" cy="19036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0" descr="6НХП-219 Салфетк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7840" y="1428840"/>
            <a:ext cx="380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Список использованной литературы и материал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7172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рмолаева Н.В. Эстетическое воспитание дошкольников через декоративно-прикладное искусство. Парциальная программа. – СПб.: ООО «ИЗДАТЕЛЬСТВО «ДЕТСТВО-ПРЕСС», 2011. – 144 С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иентов А.Е. Народные промыслы. – М.: «Белый город», 2002. – 47 с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etoretro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ru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pic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26229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lubimoe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-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delo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ru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9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0"/>
              </a:rPr>
              <a:t>index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1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2"/>
              </a:rPr>
              <a:t>php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3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4"/>
              </a:rPr>
              <a:t>archives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5"/>
              </a:rPr>
              <a:t>/20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6"/>
              </a:rPr>
              <a:t>http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7"/>
              </a:rPr>
              <a:t>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8"/>
              </a:rPr>
              <a:t>fototerra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9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0"/>
              </a:rPr>
              <a:t>ru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1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2"/>
              </a:rPr>
              <a:t>Russia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3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4"/>
              </a:rPr>
              <a:t>Vologda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5"/>
              </a:rPr>
              <a:t>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6"/>
              </a:rPr>
              <a:t>Westa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7"/>
              </a:rPr>
              <a:t>-4003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8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9"/>
              </a:rPr>
              <a:t>http://fototerra.ru/Russia/Vologda/Westa-4003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40"/>
              </a:rPr>
              <a:t>http://subscribe.ru/catalog/history.la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1"/>
              </a:rPr>
              <a:t>http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42"/>
              </a:rPr>
              <a:t>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3"/>
              </a:rPr>
              <a:t>www</a:t>
            </a: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44"/>
              </a:rPr>
              <a:t>.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5"/>
              </a:rPr>
              <a:t>snejink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ru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index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php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cPath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=194_17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linens.ru/catalogue/vologda_laces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asters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i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earch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tems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ltcraftid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=445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Рисунок 6" descr="81 Скатерть"/>
          <p:cNvPicPr/>
          <p:nvPr/>
        </p:nvPicPr>
        <p:blipFill>
          <a:blip r:embed="rId46"/>
          <a:stretch/>
        </p:blipFill>
        <p:spPr>
          <a:xfrm>
            <a:off x="6143760" y="4071960"/>
            <a:ext cx="23763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Герб и флаг города Вологд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37440" y="-930960"/>
            <a:ext cx="186912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66666"/>
                </a:solidFill>
                <a:latin typeface="Tahoma"/>
              </a:rPr>
              <a:t>16 апреля 2011 - </a:t>
            </a:r>
            <a:r>
              <a:rPr b="0" lang="ru-RU" sz="900" spc="-1" strike="noStrike" u="sng">
                <a:solidFill>
                  <a:srgbClr val="e2d700"/>
                </a:solidFill>
                <a:uFillTx/>
                <a:latin typeface="Tahoma"/>
                <a:hlinkClick r:id="rId1"/>
              </a:rPr>
              <a:t>Князь Мышкин</a:t>
            </a:r>
            <a:r>
              <a:rPr b="1" lang="ru-RU" sz="9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1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Рисунок 4" descr="Вологда"/>
          <p:cNvPicPr/>
          <p:nvPr/>
        </p:nvPicPr>
        <p:blipFill>
          <a:blip r:embed="rId2"/>
          <a:stretch/>
        </p:blipFill>
        <p:spPr>
          <a:xfrm>
            <a:off x="5357880" y="2000160"/>
            <a:ext cx="2531880" cy="34005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Вологда"/>
          <p:cNvPicPr/>
          <p:nvPr/>
        </p:nvPicPr>
        <p:blipFill>
          <a:blip r:embed="rId3"/>
          <a:stretch/>
        </p:blipFill>
        <p:spPr>
          <a:xfrm>
            <a:off x="428760" y="2428920"/>
            <a:ext cx="3857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стория города Вологд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999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й русский город Вологда, история которого началась в 12 веке, можно по праву считать хранителем древних традиций культуры Севера. Заслуженную известность и широкое признание за высокую художественность, декоративное богатство, совершенство техники исполнения снискало вологодское кружев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Вологда - Красный мос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78604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Вологда - Панора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920" y="2928960"/>
            <a:ext cx="5357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временный город Вологд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Рисунок 8" descr="http://fototerra.ru/image.html?id=81309&amp;size=medium"/>
          <p:cNvPicPr/>
          <p:nvPr/>
        </p:nvPicPr>
        <p:blipFill>
          <a:blip r:embed="rId1"/>
          <a:stretch/>
        </p:blipFill>
        <p:spPr>
          <a:xfrm>
            <a:off x="142920" y="100008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9" descr="http://fototerra.ru/image.html?id=81312&amp;size=medium"/>
          <p:cNvPicPr/>
          <p:nvPr/>
        </p:nvPicPr>
        <p:blipFill>
          <a:blip r:embed="rId2"/>
          <a:stretch/>
        </p:blipFill>
        <p:spPr>
          <a:xfrm>
            <a:off x="4429080" y="3143160"/>
            <a:ext cx="43815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логодские кружевные издел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Рисунок 9" descr="http://images.masters-gid.ru/UserImages/User_514/Albums/Album_812/Item_5313/m_Picture_1.jpg?var=1274277096"/>
          <p:cNvPicPr/>
          <p:nvPr/>
        </p:nvPicPr>
        <p:blipFill>
          <a:blip r:embed="rId1"/>
          <a:stretch/>
        </p:blipFill>
        <p:spPr>
          <a:xfrm>
            <a:off x="357120" y="1214280"/>
            <a:ext cx="2643120" cy="24289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10" descr="http://images.masters-gid.ru/UserImages/User_514/Albums/Album_812/Item_5312/m_Picture_1.jpg?var=628597004"/>
          <p:cNvPicPr/>
          <p:nvPr/>
        </p:nvPicPr>
        <p:blipFill>
          <a:blip r:embed="rId2"/>
          <a:stretch/>
        </p:blipFill>
        <p:spPr>
          <a:xfrm>
            <a:off x="6357960" y="1214280"/>
            <a:ext cx="2428920" cy="23576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6НХП-214 Салфе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000680"/>
            <a:ext cx="1928880" cy="21891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6НХП-118 Салфет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1357200"/>
            <a:ext cx="2373120" cy="2332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3" descr="6НХП-406 Пелерина л/ш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7800" y="3857760"/>
            <a:ext cx="35719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логодские кружевные  издел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9" descr="6НХП-382 Воротни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14300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6НХП-383 Воротн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1357200"/>
            <a:ext cx="16048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447 Жиле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43120" y="1071720"/>
            <a:ext cx="3830760" cy="2760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2" descr="6НХП-279 Дорожк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85960" y="4071960"/>
            <a:ext cx="5500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378612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. В. Тропин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ужевница   1823 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олст, масл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ьяковская галерея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4" descr="Tropinin lacemak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500040"/>
            <a:ext cx="47656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логодское кружев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остоит из крупного, выразительного узора, исполненного плотной, непрерывной, одинаковой по ширине плавной полотнянкой, чётко вырисовывающейся на фоне узорных решёток. Скань толстая, часто цветная. Кроме мотивов цветов и листьев в орнаменте часто встречаются мотивы подков, гребешков, вееров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285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Рисунок 5" descr="Сувенир кружевной  &quot;Бабочка&quot;, 6НХП-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143160"/>
            <a:ext cx="1643040" cy="1714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http://fototerra.ru/image.html?id=81332&amp;size=medium"/>
          <p:cNvPicPr/>
          <p:nvPr/>
        </p:nvPicPr>
        <p:blipFill>
          <a:blip r:embed="rId3"/>
          <a:srcRect l="27296" t="0" r="27720" b="0"/>
          <a:stretch/>
        </p:blipFill>
        <p:spPr>
          <a:xfrm>
            <a:off x="5929200" y="2286000"/>
            <a:ext cx="2449800" cy="392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http://fototerra.ru/image.html?id=81333&amp;size=medium"/>
          <p:cNvPicPr/>
          <p:nvPr/>
        </p:nvPicPr>
        <p:blipFill>
          <a:blip r:embed="rId4"/>
          <a:srcRect l="25616" t="0" r="29396" b="0"/>
          <a:stretch/>
        </p:blipFill>
        <p:spPr>
          <a:xfrm>
            <a:off x="500040" y="2143080"/>
            <a:ext cx="2583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атериалы и инструменты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для плетения круже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76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выполнения кружевных изделий прежде всего требуютс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клюшк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деревянные палочки с шейкой, на которую наматываются  нит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клю́ш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такж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к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клюх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— деревянная палочка, на которую наматываются нитки, для плетения кружева. Плетение на коклюшках также называют «подушечным кружевом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клюшки бывают разные, короткие и толстые, длинные и тон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рево может быть разным. Береза, ёлка, клён, — самые популярные материалы для легких коклюше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Рисунок 4" descr="2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4929120"/>
            <a:ext cx="4518000" cy="1044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338 Салфе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4286160"/>
            <a:ext cx="26431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1:24:37Z</dcterms:created>
  <dc:creator>Administrator</dc:creator>
  <dc:description/>
  <dc:language>en-US</dc:language>
  <cp:lastModifiedBy>лого</cp:lastModifiedBy>
  <dcterms:modified xsi:type="dcterms:W3CDTF">2012-02-17T09:33:13Z</dcterms:modified>
  <cp:revision>319</cp:revision>
  <dc:subject/>
  <dc:title>Сюжетно-ролевая игра как средство развития межличностных отношений детей 5 – 6 лет</dc:title>
</cp:coreProperties>
</file>