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7.jpeg" ContentType="image/jpeg"/>
  <Override PartName="/ppt/media/image125.gif" ContentType="image/gif"/>
  <Override PartName="/ppt/media/image124.gif" ContentType="image/gif"/>
  <Override PartName="/ppt/media/image3.jpeg" ContentType="image/jpeg"/>
  <Override PartName="/ppt/media/image37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4.jpeg" ContentType="image/jpeg"/>
  <Override PartName="/ppt/media/image105.jpeg" ContentType="image/jpeg"/>
  <Override PartName="/ppt/media/image26.jpeg" ContentType="image/jpeg"/>
  <Override PartName="/ppt/media/image85.jpeg" ContentType="image/jpeg"/>
  <Override PartName="/ppt/media/image5.jpeg" ContentType="image/jpeg"/>
  <Override PartName="/ppt/media/image108.jpeg" ContentType="image/jpeg"/>
  <Override PartName="/ppt/media/image12.jpeg" ContentType="image/jpeg"/>
  <Override PartName="/ppt/media/image29.jpeg" ContentType="image/jpeg"/>
  <Override PartName="/ppt/media/image88.jpeg" ContentType="image/jpeg"/>
  <Override PartName="/ppt/media/image103.jpeg" ContentType="image/jpeg"/>
  <Override PartName="/ppt/media/image24.jpeg" ContentType="image/jpeg"/>
  <Override PartName="/ppt/media/image83.jpeg" ContentType="image/jpeg"/>
  <Override PartName="/ppt/media/image52.jpeg" ContentType="image/jpeg"/>
  <Override PartName="/ppt/media/image106.jpeg" ContentType="image/jpeg"/>
  <Override PartName="/ppt/media/image86.jpeg" ContentType="image/jpeg"/>
  <Override PartName="/ppt/media/image27.jpeg" ContentType="image/jpeg"/>
  <Override PartName="/ppt/media/image10.jpeg" ContentType="image/jpeg"/>
  <Override PartName="/ppt/media/image50.jpeg" ContentType="image/jpeg"/>
  <Override PartName="/ppt/media/image98.jpeg" ContentType="image/jpeg"/>
  <Override PartName="/ppt/media/image39.jpeg" ContentType="image/jpeg"/>
  <Override PartName="/ppt/media/image2.gif" ContentType="image/gif"/>
  <Override PartName="/ppt/media/image8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6.jpeg" ContentType="image/jpeg"/>
  <Override PartName="/ppt/media/image128.jpeg" ContentType="image/jpeg"/>
  <Override PartName="/ppt/media/image55.jpeg" ContentType="image/jpeg"/>
  <Override PartName="/ppt/media/image38.jpeg" ContentType="image/jpeg"/>
  <Override PartName="/ppt/media/image97.jpeg" ContentType="image/jpeg"/>
  <Override PartName="/ppt/media/image129.jpeg" ContentType="image/jpeg"/>
  <Override PartName="/ppt/media/image56.jpeg" ContentType="image/jpeg"/>
  <Override PartName="/ppt/media/image87.jpeg" ContentType="image/jpeg"/>
  <Override PartName="/ppt/media/image11.jpeg" ContentType="image/jpeg"/>
  <Override PartName="/ppt/media/image107.jpeg" ContentType="image/jpeg"/>
  <Override PartName="/ppt/media/image57.jpeg" ContentType="image/jpeg"/>
  <Override PartName="/ppt/media/image58.jpeg" ContentType="image/jpeg"/>
  <Override PartName="/ppt/media/image42.jpeg" ContentType="image/jpeg"/>
  <Override PartName="/ppt/media/image59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13.jpeg" ContentType="image/jpeg"/>
  <Override PartName="/ppt/media/image40.jpeg" ContentType="image/jpeg"/>
  <Override PartName="/ppt/media/image43.jpeg" ContentType="image/jpeg"/>
  <Override PartName="/ppt/media/image36.jpeg" ContentType="image/jpeg"/>
  <Override PartName="/ppt/media/image9.jpeg" ContentType="image/jpeg"/>
  <Override PartName="/ppt/media/image34.jpeg" ContentType="image/jpeg"/>
  <Override PartName="/ppt/media/image33.jpeg" ContentType="image/jpeg"/>
  <Override PartName="/ppt/media/image130.jpeg" ContentType="image/jpeg"/>
  <Override PartName="/ppt/media/image51.jpeg" ContentType="image/jpeg"/>
  <Override PartName="/ppt/media/image32.jpeg" ContentType="image/jpeg"/>
  <Override PartName="/ppt/media/image31.jpeg" ContentType="image/jpeg"/>
  <Override PartName="/ppt/media/image122.png" ContentType="image/png"/>
  <Override PartName="/ppt/media/image30.jpeg" ContentType="image/jpeg"/>
  <Override PartName="/ppt/media/image7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8.jpeg" ContentType="image/jpeg"/>
  <Override PartName="/ppt/media/image123.gif" ContentType="image/gif"/>
  <Override PartName="/ppt/media/image109.jpeg" ContentType="image/jpeg"/>
  <Override PartName="/ppt/media/image20.jpeg" ContentType="image/jpeg"/>
  <Override PartName="/ppt/media/image116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49.png" ContentType="image/png"/>
  <Override PartName="/ppt/media/image65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4.png" ContentType="image/pn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media/image19.jpeg" ContentType="image/jpeg"/>
  <Override PartName="/ppt/media/image92.jpeg" ContentType="image/jpeg"/>
  <Override PartName="/ppt/media/image112.jpeg" ContentType="image/jpeg"/>
  <Override PartName="/ppt/media/image93.jpeg" ContentType="image/jpeg"/>
  <Override PartName="/ppt/media/image126.gif" ContentType="image/gif"/>
  <Override PartName="/ppt/media/image94.jpeg" ContentType="image/jpeg"/>
  <Override PartName="/ppt/media/image95.jpeg" ContentType="image/jpeg"/>
  <Override PartName="/ppt/media/image96.jpeg" ContentType="image/jpeg"/>
  <Override PartName="/ppt/media/image99.jpeg" ContentType="image/jpeg"/>
  <Override PartName="/ppt/media/image113.jpeg" ContentType="image/jpeg"/>
  <Override PartName="/ppt/media/image114.jpeg" ContentType="image/jpeg"/>
  <Override PartName="/ppt/media/image115.jpeg" ContentType="image/jpeg"/>
  <Override PartName="/ppt/media/image21.jpeg" ContentType="image/jpeg"/>
  <Override PartName="/ppt/media/image121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798-E525-4413-9A1E-777A2187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8DB-180F-4585-8149-9ACB602D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8C0-804E-4426-8942-3E112251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8723-EC2F-4BC5-94B8-34E6758A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267-1299-4D94-B3F7-6AB9CECD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281-00B6-42F2-87F0-241F82C6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D73-D3DB-452B-B58E-575DA7F3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99B-5416-46A4-A344-5A6A94FE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2F4-0317-4D62-AD4F-88FD30CB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145F-314B-4E5B-9B37-51919836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DD2-D61D-4435-94F8-0D0E4371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909-7533-43EA-9893-7C98D1E2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141D-1F9C-484C-B320-0B5B9B717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22.jpeg"/><Relationship Id="rId3" Type="http://schemas.openxmlformats.org/officeDocument/2006/relationships/slide" Target="slide61.xml"/><Relationship Id="rId4" Type="http://schemas.openxmlformats.org/officeDocument/2006/relationships/image" Target="../media/image23.jpeg"/><Relationship Id="rId5" Type="http://schemas.openxmlformats.org/officeDocument/2006/relationships/slide" Target="slide54.xm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image" Target="../media/image26.jpeg"/><Relationship Id="rId3" Type="http://schemas.openxmlformats.org/officeDocument/2006/relationships/slide" Target="slide54.xml"/><Relationship Id="rId4" Type="http://schemas.openxmlformats.org/officeDocument/2006/relationships/image" Target="../media/image27.jpeg"/><Relationship Id="rId5" Type="http://schemas.openxmlformats.org/officeDocument/2006/relationships/slide" Target="slide54.xml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29.jpeg"/><Relationship Id="rId3" Type="http://schemas.openxmlformats.org/officeDocument/2006/relationships/slide" Target="slide54.xml"/><Relationship Id="rId4" Type="http://schemas.openxmlformats.org/officeDocument/2006/relationships/image" Target="../media/image30.jpeg"/><Relationship Id="rId5" Type="http://schemas.openxmlformats.org/officeDocument/2006/relationships/slide" Target="slide63.xm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54.xml"/><Relationship Id="rId3" Type="http://schemas.openxmlformats.org/officeDocument/2006/relationships/slide" Target="slide54.xml"/><Relationship Id="rId4" Type="http://schemas.openxmlformats.org/officeDocument/2006/relationships/slide" Target="slide64.xm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33.jpeg"/><Relationship Id="rId3" Type="http://schemas.openxmlformats.org/officeDocument/2006/relationships/slide" Target="slide54.xml"/><Relationship Id="rId4" Type="http://schemas.openxmlformats.org/officeDocument/2006/relationships/image" Target="../media/image34.jpeg"/><Relationship Id="rId5" Type="http://schemas.openxmlformats.org/officeDocument/2006/relationships/slide" Target="slide54.xml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36.jpeg"/><Relationship Id="rId3" Type="http://schemas.openxmlformats.org/officeDocument/2006/relationships/slide" Target="slide54.xml"/><Relationship Id="rId4" Type="http://schemas.openxmlformats.org/officeDocument/2006/relationships/image" Target="../media/image37.jpeg"/><Relationship Id="rId5" Type="http://schemas.openxmlformats.org/officeDocument/2006/relationships/slide" Target="slide66.xml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39.jpeg"/><Relationship Id="rId3" Type="http://schemas.openxmlformats.org/officeDocument/2006/relationships/slide" Target="slide54.xml"/><Relationship Id="rId4" Type="http://schemas.openxmlformats.org/officeDocument/2006/relationships/image" Target="../media/image40.jpeg"/><Relationship Id="rId5" Type="http://schemas.openxmlformats.org/officeDocument/2006/relationships/slide" Target="slide67.xml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42.jpeg"/><Relationship Id="rId3" Type="http://schemas.openxmlformats.org/officeDocument/2006/relationships/slide" Target="slide54.xml"/><Relationship Id="rId4" Type="http://schemas.openxmlformats.org/officeDocument/2006/relationships/image" Target="../media/image43.jpeg"/><Relationship Id="rId5" Type="http://schemas.openxmlformats.org/officeDocument/2006/relationships/slide" Target="slide68.xml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image" Target="../media/image45.jpeg"/><Relationship Id="rId3" Type="http://schemas.openxmlformats.org/officeDocument/2006/relationships/slide" Target="slide54.xml"/><Relationship Id="rId4" Type="http://schemas.openxmlformats.org/officeDocument/2006/relationships/image" Target="../media/image46.jpeg"/><Relationship Id="rId5" Type="http://schemas.openxmlformats.org/officeDocument/2006/relationships/slide" Target="slide54.xml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48.jpeg"/><Relationship Id="rId3" Type="http://schemas.openxmlformats.org/officeDocument/2006/relationships/slide" Target="slide54.xml"/><Relationship Id="rId4" Type="http://schemas.openxmlformats.org/officeDocument/2006/relationships/image" Target="../media/image49.png"/><Relationship Id="rId5" Type="http://schemas.openxmlformats.org/officeDocument/2006/relationships/slide" Target="slide70.xml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51.jpeg"/><Relationship Id="rId3" Type="http://schemas.openxmlformats.org/officeDocument/2006/relationships/slide" Target="slide54.xml"/><Relationship Id="rId4" Type="http://schemas.openxmlformats.org/officeDocument/2006/relationships/image" Target="../media/image52.jpeg"/><Relationship Id="rId5" Type="http://schemas.openxmlformats.org/officeDocument/2006/relationships/slide" Target="slide71.xml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55.jpeg"/><Relationship Id="rId3" Type="http://schemas.openxmlformats.org/officeDocument/2006/relationships/slide" Target="slide54.xml"/><Relationship Id="rId4" Type="http://schemas.openxmlformats.org/officeDocument/2006/relationships/image" Target="../media/image56.jpeg"/><Relationship Id="rId5" Type="http://schemas.openxmlformats.org/officeDocument/2006/relationships/slide" Target="slide72.xml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58.jpeg"/><Relationship Id="rId3" Type="http://schemas.openxmlformats.org/officeDocument/2006/relationships/slide" Target="slide73.xml"/><Relationship Id="rId4" Type="http://schemas.openxmlformats.org/officeDocument/2006/relationships/image" Target="../media/image59.jpeg"/><Relationship Id="rId5" Type="http://schemas.openxmlformats.org/officeDocument/2006/relationships/slide" Target="slide54.xml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3.jpeg"/><Relationship Id="rId3" Type="http://schemas.openxmlformats.org/officeDocument/2006/relationships/slide" Target="slide55.xml"/><Relationship Id="rId4" Type="http://schemas.openxmlformats.org/officeDocument/2006/relationships/image" Target="../media/image4.jpeg"/><Relationship Id="rId5" Type="http://schemas.openxmlformats.org/officeDocument/2006/relationships/slide" Target="slide54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" Target="slide54.xml"/><Relationship Id="rId3" Type="http://schemas.openxmlformats.org/officeDocument/2006/relationships/slide" Target="slide54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" Target="slide75.xml"/><Relationship Id="rId3" Type="http://schemas.openxmlformats.org/officeDocument/2006/relationships/image" Target="../media/image63.jpeg"/><Relationship Id="rId4" Type="http://schemas.openxmlformats.org/officeDocument/2006/relationships/slide" Target="slide54.xml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65.jpeg"/><Relationship Id="rId3" Type="http://schemas.openxmlformats.org/officeDocument/2006/relationships/slide" Target="slide77.xml"/><Relationship Id="rId4" Type="http://schemas.openxmlformats.org/officeDocument/2006/relationships/image" Target="../media/image66.jpeg"/><Relationship Id="rId5" Type="http://schemas.openxmlformats.org/officeDocument/2006/relationships/slide" Target="slide54.xml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image" Target="../media/image68.jpeg"/><Relationship Id="rId3" Type="http://schemas.openxmlformats.org/officeDocument/2006/relationships/slide" Target="slide54.xml"/><Relationship Id="rId4" Type="http://schemas.openxmlformats.org/officeDocument/2006/relationships/image" Target="../media/image69.jpeg"/><Relationship Id="rId5" Type="http://schemas.openxmlformats.org/officeDocument/2006/relationships/slide" Target="slide54.xml"/><Relationship Id="rId6" Type="http://schemas.openxmlformats.org/officeDocument/2006/relationships/image" Target="../media/image70.jpeg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image" Target="../media/image71.jpeg"/><Relationship Id="rId3" Type="http://schemas.openxmlformats.org/officeDocument/2006/relationships/slide" Target="slide54.xml"/><Relationship Id="rId4" Type="http://schemas.openxmlformats.org/officeDocument/2006/relationships/image" Target="../media/image72.jpeg"/><Relationship Id="rId5" Type="http://schemas.openxmlformats.org/officeDocument/2006/relationships/slide" Target="slide54.xml"/><Relationship Id="rId6" Type="http://schemas.openxmlformats.org/officeDocument/2006/relationships/image" Target="../media/image73.jpe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74.png"/><Relationship Id="rId3" Type="http://schemas.openxmlformats.org/officeDocument/2006/relationships/slide" Target="slide54.xml"/><Relationship Id="rId4" Type="http://schemas.openxmlformats.org/officeDocument/2006/relationships/image" Target="../media/image75.jpeg"/><Relationship Id="rId5" Type="http://schemas.openxmlformats.org/officeDocument/2006/relationships/slide" Target="slide80.xml"/><Relationship Id="rId6" Type="http://schemas.openxmlformats.org/officeDocument/2006/relationships/image" Target="../media/image76.jpe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77.jpeg"/><Relationship Id="rId3" Type="http://schemas.openxmlformats.org/officeDocument/2006/relationships/slide" Target="slide81.xml"/><Relationship Id="rId4" Type="http://schemas.openxmlformats.org/officeDocument/2006/relationships/image" Target="../media/image78.jpeg"/><Relationship Id="rId5" Type="http://schemas.openxmlformats.org/officeDocument/2006/relationships/slide" Target="slide54.xml"/><Relationship Id="rId6" Type="http://schemas.openxmlformats.org/officeDocument/2006/relationships/image" Target="../media/image79.jpe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" Target="slide54.xml"/><Relationship Id="rId3" Type="http://schemas.openxmlformats.org/officeDocument/2006/relationships/image" Target="../media/image81.jpeg"/><Relationship Id="rId4" Type="http://schemas.openxmlformats.org/officeDocument/2006/relationships/slide" Target="slide54.xml"/><Relationship Id="rId5" Type="http://schemas.openxmlformats.org/officeDocument/2006/relationships/image" Target="../media/image82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6.jpeg"/><Relationship Id="rId3" Type="http://schemas.openxmlformats.org/officeDocument/2006/relationships/slide" Target="slide56.xml"/><Relationship Id="rId4" Type="http://schemas.openxmlformats.org/officeDocument/2006/relationships/image" Target="../media/image7.jpeg"/><Relationship Id="rId5" Type="http://schemas.openxmlformats.org/officeDocument/2006/relationships/slide" Target="slide54.xm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" Target="slide54.xml"/><Relationship Id="rId3" Type="http://schemas.openxmlformats.org/officeDocument/2006/relationships/image" Target="../media/image84.jpeg"/><Relationship Id="rId4" Type="http://schemas.openxmlformats.org/officeDocument/2006/relationships/slide" Target="slide54.xml"/><Relationship Id="rId5" Type="http://schemas.openxmlformats.org/officeDocument/2006/relationships/image" Target="../media/image85.jpeg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" Target="slide54.xml"/><Relationship Id="rId3" Type="http://schemas.openxmlformats.org/officeDocument/2006/relationships/slide" Target="slide54.xml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" Target="slide54.xml"/><Relationship Id="rId5" Type="http://schemas.openxmlformats.org/officeDocument/2006/relationships/image" Target="../media/image90.jpeg"/><Relationship Id="rId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slide" Target="slide54.xml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94.jpeg"/><Relationship Id="rId3" Type="http://schemas.openxmlformats.org/officeDocument/2006/relationships/slide" Target="slide54.xml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103.jpeg"/><Relationship Id="rId3" Type="http://schemas.openxmlformats.org/officeDocument/2006/relationships/slide" Target="slide54.xml"/><Relationship Id="rId4" Type="http://schemas.openxmlformats.org/officeDocument/2006/relationships/image" Target="../media/image104.jpeg"/><Relationship Id="rId5" Type="http://schemas.openxmlformats.org/officeDocument/2006/relationships/image" Target="../media/image105.jpe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image" Target="../media/image9.jpeg"/><Relationship Id="rId3" Type="http://schemas.openxmlformats.org/officeDocument/2006/relationships/slide" Target="slide54.xml"/><Relationship Id="rId4" Type="http://schemas.openxmlformats.org/officeDocument/2006/relationships/image" Target="../media/image10.jpeg"/><Relationship Id="rId5" Type="http://schemas.openxmlformats.org/officeDocument/2006/relationships/slide" Target="slide54.xm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" Target="slide54.xml"/><Relationship Id="rId3" Type="http://schemas.openxmlformats.org/officeDocument/2006/relationships/image" Target="../media/image110.jpeg"/><Relationship Id="rId4" Type="http://schemas.openxmlformats.org/officeDocument/2006/relationships/slide" Target="slide54.xml"/><Relationship Id="rId5" Type="http://schemas.openxmlformats.org/officeDocument/2006/relationships/image" Target="../media/image111.jpeg"/><Relationship Id="rId6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slide" Target="slide54.xml"/><Relationship Id="rId3" Type="http://schemas.openxmlformats.org/officeDocument/2006/relationships/image" Target="../media/image113.jpeg"/><Relationship Id="rId4" Type="http://schemas.openxmlformats.org/officeDocument/2006/relationships/slide" Target="slide54.xml"/><Relationship Id="rId5" Type="http://schemas.openxmlformats.org/officeDocument/2006/relationships/image" Target="../media/image114.jpeg"/><Relationship Id="rId6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slide" Target="slide54.xml"/><Relationship Id="rId3" Type="http://schemas.openxmlformats.org/officeDocument/2006/relationships/image" Target="../media/image116.jpeg"/><Relationship Id="rId4" Type="http://schemas.openxmlformats.org/officeDocument/2006/relationships/slide" Target="slide54.xml"/><Relationship Id="rId5" Type="http://schemas.openxmlformats.org/officeDocument/2006/relationships/image" Target="../media/image117.jpeg"/><Relationship Id="rId6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8.jpeg"/><Relationship Id="rId2" Type="http://schemas.openxmlformats.org/officeDocument/2006/relationships/slide" Target="slide54.xml"/><Relationship Id="rId3" Type="http://schemas.openxmlformats.org/officeDocument/2006/relationships/image" Target="../media/image119.jpeg"/><Relationship Id="rId4" Type="http://schemas.openxmlformats.org/officeDocument/2006/relationships/slide" Target="slide54.xml"/><Relationship Id="rId5" Type="http://schemas.openxmlformats.org/officeDocument/2006/relationships/image" Target="../media/image120.jpeg"/><Relationship Id="rId6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1.gif"/><Relationship Id="rId2" Type="http://schemas.openxmlformats.org/officeDocument/2006/relationships/image" Target="../media/image122.png"/><Relationship Id="rId3" Type="http://schemas.openxmlformats.org/officeDocument/2006/relationships/image" Target="../media/image122.png"/><Relationship Id="rId4" Type="http://schemas.openxmlformats.org/officeDocument/2006/relationships/image" Target="../media/image121.gif"/><Relationship Id="rId5" Type="http://schemas.openxmlformats.org/officeDocument/2006/relationships/image" Target="../media/image123.gif"/><Relationship Id="rId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7.xml"/><Relationship Id="rId6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8.xm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image" Target="../media/image12.jpeg"/><Relationship Id="rId3" Type="http://schemas.openxmlformats.org/officeDocument/2006/relationships/slide" Target="slide54.xml"/><Relationship Id="rId4" Type="http://schemas.openxmlformats.org/officeDocument/2006/relationships/image" Target="../media/image13.jpeg"/><Relationship Id="rId5" Type="http://schemas.openxmlformats.org/officeDocument/2006/relationships/slide" Target="slide54.xm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10.xml"/><Relationship Id="rId6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12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14.xml"/><Relationship Id="rId6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16.xml"/><Relationship Id="rId6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17.xml"/><Relationship Id="rId6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18.xml"/><Relationship Id="rId6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20.xml"/><Relationship Id="rId6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21.xml"/><Relationship Id="rId6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image" Target="../media/image127.jpeg"/><Relationship Id="rId6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23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image" Target="../media/image15.jpeg"/><Relationship Id="rId3" Type="http://schemas.openxmlformats.org/officeDocument/2006/relationships/slide" Target="slide54.xml"/><Relationship Id="rId4" Type="http://schemas.openxmlformats.org/officeDocument/2006/relationships/image" Target="../media/image16.jpeg"/><Relationship Id="rId5" Type="http://schemas.openxmlformats.org/officeDocument/2006/relationships/slide" Target="slide54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24.xml"/><Relationship Id="rId6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25.xml"/><Relationship Id="rId6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27.xml"/><Relationship Id="rId6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29.xml"/><Relationship Id="rId6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31.xml"/><Relationship Id="rId6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32.xml"/><Relationship Id="rId6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34.xml"/><Relationship Id="rId6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35.xml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37.xm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19.jpeg"/><Relationship Id="rId3" Type="http://schemas.openxmlformats.org/officeDocument/2006/relationships/slide" Target="slide54.xml"/><Relationship Id="rId4" Type="http://schemas.openxmlformats.org/officeDocument/2006/relationships/image" Target="../media/image20.jpeg"/><Relationship Id="rId5" Type="http://schemas.openxmlformats.org/officeDocument/2006/relationships/slide" Target="slide60.xml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4.gif"/><Relationship Id="rId2" Type="http://schemas.openxmlformats.org/officeDocument/2006/relationships/image" Target="../media/image122.png"/><Relationship Id="rId3" Type="http://schemas.openxmlformats.org/officeDocument/2006/relationships/image" Target="../media/image125.gif"/><Relationship Id="rId4" Type="http://schemas.openxmlformats.org/officeDocument/2006/relationships/image" Target="../media/image126.gif"/><Relationship Id="rId5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28.jpeg"/><Relationship Id="rId2" Type="http://schemas.openxmlformats.org/officeDocument/2006/relationships/image" Target="../media/image129.jpeg"/><Relationship Id="rId3" Type="http://schemas.openxmlformats.org/officeDocument/2006/relationships/image" Target="../media/image130.jpeg"/><Relationship Id="rId4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914400"/>
            <a:ext cx="74674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Живая планета"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.Отгадайте загадку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Зверька узнаем мы с тобой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По двум таким приметам: 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Он в шубе серенькой - зимой,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А в рыжей шубке – летом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берите правильный ответ на заг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1447920"/>
            <a:ext cx="2305080" cy="1498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905120" y="32004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638680" y="1676520"/>
            <a:ext cx="2362320" cy="3124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81240" y="2503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91080" y="5398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48680" y="4255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80773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Этот домашний грызун имеет защёчные мешки. Подсказка в ребус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934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йдите правильный ответ на ре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95280" y="1600200"/>
            <a:ext cx="190512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81280" y="1600200"/>
            <a:ext cx="4953240" cy="2162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81240" y="28083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71960" y="54752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4680" y="312408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66880" y="3581280"/>
            <a:ext cx="35816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 Зимой в Салехарде рыбаки часто ловят эту рыбку на удочку.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гадайте загадку.</a:t>
            </a:r>
            <a:br>
              <a:rPr sz="3200"/>
            </a:br>
            <a:br>
              <a:rPr sz="3200"/>
            </a:b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Он колючий, но не еж,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А речная рыба …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берите правильный ответ на заг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639000">
            <a:off x="457200" y="1447920"/>
            <a:ext cx="2952720" cy="3124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95480" y="2438280"/>
            <a:ext cx="5969160" cy="2336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600200" y="480060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24040" y="40273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86160" y="56275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4960" y="41036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 Кит это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5105160" cy="3505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09440" y="5018040"/>
            <a:ext cx="14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Ры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50180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) Земновод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56023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) Млекопитаю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8120" y="3581280"/>
            <a:ext cx="3200400" cy="3048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3520" y="1219320"/>
            <a:ext cx="3352680" cy="2279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10080" y="1219320"/>
            <a:ext cx="3276720" cy="2314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472360" y="12081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5760" y="1177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371160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. Кто из этих животных не обитает на Северном полюс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 Загад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Мишка эвкалипт жует.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Он в Австралии живет.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йдите правильный ответ на заг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1219320"/>
            <a:ext cx="2568600" cy="3429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00400" y="2666880"/>
            <a:ext cx="2743200" cy="3733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1295280"/>
            <a:ext cx="2692440" cy="3276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0880" y="1284120"/>
            <a:ext cx="533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2666880"/>
            <a:ext cx="533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7680" y="1219320"/>
            <a:ext cx="497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3352680" cy="389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67080" y="8380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0"/>
            <a:ext cx="8381880" cy="6858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НСТРУ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ВНИМАТЕЛЬНО ПРОЧИТАЙ ВОПР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ВЫБЕРИ ПРАВИЛЬНЫЙ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ОТМЕТЬ ВЕРНЫЙ ОТВЕТ В БЛА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КЛИКНИ ЛЕВОЙ КНОПКОЙ МЫШИ ПО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РТИНКЕ С ОТВЕТОМ, ПРОВЕРЬ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. Эту нелетающую африканскую птицу считают самой крупной на нашей планете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523880"/>
            <a:ext cx="266688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24080" y="3352680"/>
            <a:ext cx="2895840" cy="3048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172200" y="1523880"/>
            <a:ext cx="2587680" cy="3429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43160" y="43322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62680" y="57801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43830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. Эта заботливая лягушка обитает в Бразилии. Она вынашивает своих лягушат в специальных мешочках на спин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905120"/>
            <a:ext cx="2590920" cy="2485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943600" y="1828800"/>
            <a:ext cx="2666880" cy="2438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80880" y="1905120"/>
            <a:ext cx="577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5400" y="1778040"/>
            <a:ext cx="497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48120" y="3657600"/>
            <a:ext cx="2819160" cy="2895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048120" y="3657600"/>
            <a:ext cx="533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. Родина этого травянистого растения – Южная Америка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3733920"/>
            <a:ext cx="2971800" cy="2666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971800" y="1143000"/>
            <a:ext cx="279720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57200" y="3809880"/>
            <a:ext cx="2774880" cy="2667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9480" y="3886200"/>
            <a:ext cx="533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1295280"/>
            <a:ext cx="637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51440" y="3798720"/>
            <a:ext cx="62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. Это насекомоядное растение растет на болотах в Росси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9920" y="121932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1295280"/>
            <a:ext cx="2743200" cy="2625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124080" y="3581280"/>
            <a:ext cx="2743200" cy="2971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5040" y="33415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371600"/>
            <a:ext cx="533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3657600"/>
            <a:ext cx="533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1295280"/>
            <a:ext cx="533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274680"/>
            <a:ext cx="7924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. Плод этого растения называют «Китайским яблоком»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19520" y="4267080"/>
            <a:ext cx="2666880" cy="1876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3520" y="1523880"/>
            <a:ext cx="3495600" cy="2971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715000" y="1523880"/>
            <a:ext cx="2416320" cy="2590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00360" y="34178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38640" y="51703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72360" y="34178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. Плод этого растения – сочная тыквина. Подсказка в ребу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524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берите правильный ответ на ре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05520" y="1295280"/>
            <a:ext cx="3352680" cy="2438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" y="1523880"/>
            <a:ext cx="4032360" cy="2256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38280" y="3581280"/>
            <a:ext cx="3438720" cy="2668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24040" y="34178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76880" y="57038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77280" y="33415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. Отгадайте загадку</a:t>
            </a:r>
            <a:br>
              <a:rPr sz="3600"/>
            </a:br>
            <a:br>
              <a:rPr sz="3600"/>
            </a:b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У речек и в низинах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Они всегда растут,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Их прутья на корзины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И коробы идут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йдите ответ на загад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1219320"/>
            <a:ext cx="2286000" cy="3276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8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00400" y="2438280"/>
            <a:ext cx="2590920" cy="3953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8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019920" y="1371600"/>
            <a:ext cx="2590560" cy="3927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533520" y="38750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578016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05880" y="47131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. В сказке Пушкина это дерево росло в Лукоморье. Отгадайте загадку и вы узнаете название этого дерева.</a:t>
            </a:r>
            <a:br>
              <a:rPr sz="3200"/>
            </a:br>
            <a:br>
              <a:rPr sz="3200"/>
            </a:b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Я из крошки-бочки вылез,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Корешки пустил и вырос,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Стал высок я и могуч,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Не боюсь ни гроз, ни туч.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Я кормлю свиней и белок —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Ничего, что плод мой мелок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4400" y="1600200"/>
            <a:ext cx="2819520" cy="245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7600" y="3581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486400" y="137160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88200" y="3352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914400" y="4038480"/>
            <a:ext cx="3790800" cy="2367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05120" y="5602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20840"/>
            <a:ext cx="1154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Этот домашний грызун  родом из Юж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мерики, раньше его называли «заморским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берите 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543800" cy="51814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70760" y="578016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Клё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91000" y="578016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) Ке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11240" y="578016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) Д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. Народное название этой ягоды «северный апельсин»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2514600" cy="24447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48120" y="3733920"/>
            <a:ext cx="2743200" cy="2673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91320" y="1219320"/>
            <a:ext cx="2666880" cy="2438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1280" y="1295280"/>
            <a:ext cx="497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3809880"/>
            <a:ext cx="501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1295280"/>
            <a:ext cx="533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-30492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. Название города Лабытнанги произошло от названия этого дерева. Отгадайте загадк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br>
              <a:rPr sz="28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роде сосен, вроде ёлок,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А зимою без игол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берите 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4400" y="121932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90920" y="4267080"/>
            <a:ext cx="2590560" cy="1828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10080" y="1219320"/>
            <a:ext cx="2714760" cy="2916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990720" y="1219320"/>
            <a:ext cx="609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4267080"/>
            <a:ext cx="533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1219320"/>
            <a:ext cx="685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. Эти большие кошки обитают в Африке. Найдите лишнюю картинку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2880" y="1295280"/>
            <a:ext cx="3505320" cy="2590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743200" y="4038480"/>
            <a:ext cx="3505320" cy="26528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09480" y="12952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46280" y="1447920"/>
            <a:ext cx="54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95480" y="4191120"/>
            <a:ext cx="533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89680" y="1447920"/>
            <a:ext cx="625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. Личинки этого хищного насекомого развиваются в воде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гадайте загадку.</a:t>
            </a:r>
            <a:br>
              <a:rPr sz="3200"/>
            </a:br>
            <a:br>
              <a:rPr sz="3200"/>
            </a:b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Яркий мини вертолет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Отправляется в полёт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берите 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642200">
            <a:off x="3504960" y="3352680"/>
            <a:ext cx="2373120" cy="25146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523880"/>
            <a:ext cx="2400120" cy="2857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86400" y="1676520"/>
            <a:ext cx="2620800" cy="1800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00360" y="41036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43560" y="51703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53240" y="29606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. В какой стране кошек считают священными животны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1371600"/>
            <a:ext cx="3200400" cy="259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85800" y="3429000"/>
            <a:ext cx="1905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876920" y="1447920"/>
            <a:ext cx="3124080" cy="24987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743200" y="4038480"/>
            <a:ext cx="3581280" cy="26672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666880" y="6172200"/>
            <a:ext cx="1905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Егип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76920" y="3429000"/>
            <a:ext cx="1722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Инд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80773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. Туземцы Южной Америки получали из этого животного яд для своих стрел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15000" y="1295280"/>
            <a:ext cx="2819520" cy="2362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" y="1295280"/>
            <a:ext cx="2743200" cy="23558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48120" y="3733920"/>
            <a:ext cx="2685960" cy="2743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3520" y="312408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86360" y="5932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53240" y="3112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7. На картинках изображены растения.  Найдите лишнюю картинку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00400" y="4114800"/>
            <a:ext cx="2662200" cy="2438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1371600"/>
            <a:ext cx="2819520" cy="2602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257800" y="1447920"/>
            <a:ext cx="2781360" cy="2438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48080" y="32655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62680" y="58561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96040" y="31892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Этот попугай легко обучается разговору. Обитает в Африк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1447920"/>
            <a:ext cx="2590920" cy="3200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95480" y="2819520"/>
            <a:ext cx="3048120" cy="358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09480" y="1447920"/>
            <a:ext cx="2662200" cy="312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0400" y="41911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43200" y="5678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. Родина этой породы собак – остров Ньюфаундленд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2819520" cy="25081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666880" y="3809880"/>
            <a:ext cx="3429000" cy="2641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05520" y="1219320"/>
            <a:ext cx="3047760" cy="2438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1760" y="31892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 rot="10800000">
            <a:off x="2742840" y="5638680"/>
            <a:ext cx="50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43760" y="29606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. В какой стране живут самые северные обезьяны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657600" cy="42670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812520" y="5867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Р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6400" y="5856120"/>
            <a:ext cx="18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Япо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34200" y="578016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)Кан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9. Из какого растения получают крупу пшено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715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берите вер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9907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2971800" y="3809880"/>
            <a:ext cx="2819520" cy="2743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257800" y="9907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826200" y="3189240"/>
            <a:ext cx="1550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Сор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36600" y="6008760"/>
            <a:ext cx="1599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Про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45920" y="3189240"/>
            <a:ext cx="185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Ячм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. Какое  земноводное животное может размножаться на стадии личин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819160" cy="2241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200400" y="3124080"/>
            <a:ext cx="2602080" cy="32004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1447920"/>
            <a:ext cx="2971800" cy="25257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66840" y="3112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38640" y="55515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81840" y="33415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1. Какой вид слонов выступает в цирке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914400"/>
            <a:ext cx="3124080" cy="2639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105520" y="990720"/>
            <a:ext cx="3276360" cy="2590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2743200" y="3657600"/>
            <a:ext cx="3581280" cy="28195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00360" y="29606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81440" y="57801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20080" y="28843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3. Каких животных называют «приматами моря»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05520" y="1447920"/>
            <a:ext cx="327636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2743200" y="3962520"/>
            <a:ext cx="3524400" cy="2514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2940120" cy="23619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052640" y="31892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34080" y="58561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20080" y="3112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. Какое животное может ходить на одном пальце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438280" y="3962520"/>
            <a:ext cx="3581640" cy="2727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952880" y="1066680"/>
            <a:ext cx="3581640" cy="2667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3657600" cy="26672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19480" y="3112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76880" y="60087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91480" y="30369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. На картинках изображены парнокопытные животные Африки. Какая картинка лишняя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1295280"/>
            <a:ext cx="3505320" cy="2362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34120" y="1828800"/>
            <a:ext cx="2895480" cy="3429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1219320" y="3809880"/>
            <a:ext cx="35049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85800" y="3200400"/>
            <a:ext cx="501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19320" y="5867280"/>
            <a:ext cx="54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4120" y="4876920"/>
            <a:ext cx="637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. Животные на картинках относятся к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йцекладущим млекопитающим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ая картинка лишняя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2743200" cy="2286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2819160" cy="2241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3124080" y="4038480"/>
            <a:ext cx="2743200" cy="25909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43160" y="33415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62680" y="60087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29560" y="34178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85345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Животное из отряда сумчатых, обитает в Австралии, передвигается скачками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295280"/>
            <a:ext cx="3048120" cy="2686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1371600"/>
            <a:ext cx="2905200" cy="397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09680" y="4114800"/>
            <a:ext cx="3429000" cy="2405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95440" y="32655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8160" y="44845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24240" y="58561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9829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7. У этого вида австралийских птиц только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цы насиживают яйца и заботятся о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томств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2590560" cy="25192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638680" y="1447920"/>
            <a:ext cx="2614680" cy="23763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33920" y="3962520"/>
            <a:ext cx="2514600" cy="2438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205280" y="34941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48480" y="57801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853240" y="31892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8. Какие из этих плодов выросли не на пальм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819520" cy="24382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819520" y="41148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105520" y="1066680"/>
            <a:ext cx="3143160" cy="29908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95440" y="34178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05480" y="58561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91480" y="33415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. Какой из этих комаров переносит малярию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2438280" cy="15447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486400" y="1752480"/>
            <a:ext cx="2638440" cy="17463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9480" y="1676520"/>
            <a:ext cx="3200400" cy="3504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900360" y="44845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48480" y="51703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81840" y="30369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78487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. Какие из этих рептилий заботятся о своем потомстве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895480" y="3809880"/>
            <a:ext cx="3429000" cy="26672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1219320"/>
            <a:ext cx="3429000" cy="24289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1219320"/>
            <a:ext cx="3543480" cy="24382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824040" y="3112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10040" y="58561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15160" y="30369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140360" y="1641600"/>
            <a:ext cx="1217520" cy="11397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916360" y="3645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7596360" y="508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759636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 rot="19542600">
            <a:off x="2473200" y="2101680"/>
            <a:ext cx="1106640" cy="11210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 rot="1800000">
            <a:off x="6005520" y="214164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1981080" y="50292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23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223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497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745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45"/>
                            </p:stCondLst>
                            <p:childTnLst>
                              <p:par>
                                <p:cTn id="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4745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745"/>
                            </p:stCondLst>
                            <p:childTnLst>
                              <p:par>
                                <p:cTn id="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359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4745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745"/>
                            </p:stCondLst>
                            <p:childTnLst>
                              <p:par>
                                <p:cTn id="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365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4745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745"/>
                            </p:stCondLst>
                            <p:childTnLst>
                              <p:par>
                                <p:cTn id="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4745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745"/>
                            </p:stCondLst>
                            <p:childTnLst>
                              <p:par>
                                <p:cTn id="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В Северной Америке обитает родственник ямальских северных оленей. Кто это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1295280"/>
            <a:ext cx="2895480" cy="2730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76720" y="3733920"/>
            <a:ext cx="2971800" cy="2666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24480" y="1219320"/>
            <a:ext cx="2436840" cy="3504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66840" y="34178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5943600"/>
            <a:ext cx="5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39040" y="40273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745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745"/>
                            </p:stCondLst>
                            <p:childTnLst>
                              <p:par>
                                <p:cTn id="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383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745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745"/>
                            </p:stCondLst>
                            <p:childTnLst>
                              <p:par>
                                <p:cTn id="9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389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4745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745"/>
                            </p:stCondLst>
                            <p:childTnLst>
                              <p:par>
                                <p:cTn id="1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395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4745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745"/>
                            </p:stCondLst>
                            <p:childTnLst>
                              <p:par>
                                <p:cTn id="1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01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4745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745"/>
                            </p:stCondLst>
                            <p:childTnLst>
                              <p:par>
                                <p:cTn id="1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07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4745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745"/>
                            </p:stCondLst>
                            <p:childTnLst>
                              <p:par>
                                <p:cTn id="1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13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4745" fill="hold"/>
                                        <p:tgtEl>
                                          <p:spTgt spid="4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745"/>
                            </p:stCondLst>
                            <p:childTnLst>
                              <p:par>
                                <p:cTn id="1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" dur="2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4745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745"/>
                            </p:stCondLst>
                            <p:childTnLst>
                              <p:par>
                                <p:cTn id="1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5"/>
          <a:stretch/>
        </p:blipFill>
        <p:spPr>
          <a:xfrm>
            <a:off x="2971800" y="441972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745" fill="hold"/>
                                        <p:tgtEl>
                                          <p:spTgt spid="4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745"/>
                            </p:stCondLst>
                            <p:childTnLst>
                              <p:par>
                                <p:cTn id="1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32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4745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745"/>
                            </p:stCondLst>
                            <p:childTnLst>
                              <p:par>
                                <p:cTn id="1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20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Этот зверёк похож на кролика, обитает в Евразии, зимой его шубка окрашена в белый цвет, летом в сер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76720" y="2666880"/>
            <a:ext cx="2743200" cy="3733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1752480"/>
            <a:ext cx="2819160" cy="3276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095880" y="1752480"/>
            <a:ext cx="2819520" cy="3200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2680" y="43434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4480" y="5715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4267080"/>
            <a:ext cx="5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38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4745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745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44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4745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745"/>
                            </p:stCondLst>
                            <p:childTnLst>
                              <p:par>
                                <p:cTn id="1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50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4745" fill="hold"/>
                                        <p:tgtEl>
                                          <p:spTgt spid="4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745"/>
                            </p:stCondLst>
                            <p:childTnLst>
                              <p:par>
                                <p:cTn id="1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3" dur="2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56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4745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745"/>
                            </p:stCondLst>
                            <p:childTnLst>
                              <p:par>
                                <p:cTn id="2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62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4745" fill="hold"/>
                                        <p:tgtEl>
                                          <p:spTgt spid="4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745"/>
                            </p:stCondLst>
                            <p:childTnLst>
                              <p:par>
                                <p:cTn id="2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68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4745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745"/>
                            </p:stCondLst>
                            <p:childTnLst>
                              <p:par>
                                <p:cTn id="21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4745" fill="hold"/>
                                        <p:tgtEl>
                                          <p:spTgt spid="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745"/>
                            </p:stCondLst>
                            <p:childTnLst>
                              <p:par>
                                <p:cTn id="2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80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4745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745"/>
                            </p:stCondLst>
                            <p:childTnLst>
                              <p:par>
                                <p:cTn id="2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8" dur="20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86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4745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745"/>
                            </p:stCondLst>
                            <p:childTnLst>
                              <p:par>
                                <p:cTn id="2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7" dur="2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92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4745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745"/>
                            </p:stCondLst>
                            <p:childTnLst>
                              <p:par>
                                <p:cTn id="2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Разгадайте ре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705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98" name="">
            <a:hlinkClick r:id="rId5" action="ppaction://hlinksldjump"/>
          </p:cNvPr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4745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745"/>
                            </p:stCondLst>
                            <p:childTnLst>
                              <p:par>
                                <p:cTn id="2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5" dur="20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4745" fill="hold"/>
                                        <p:tgtEl>
                                          <p:spTgt spid="5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745"/>
                            </p:stCondLst>
                            <p:childTnLst>
                              <p:par>
                                <p:cTn id="2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4" dur="2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4745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745"/>
                            </p:stCondLst>
                            <p:childTnLst>
                              <p:par>
                                <p:cTn id="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" dur="2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4745" fill="hold"/>
                                        <p:tgtEl>
                                          <p:spTgt spid="5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745"/>
                            </p:stCondLst>
                            <p:childTnLst>
                              <p:par>
                                <p:cTn id="29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2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4745" fill="hold"/>
                                        <p:tgtEl>
                                          <p:spTgt spid="5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745"/>
                            </p:stCondLst>
                            <p:childTnLst>
                              <p:par>
                                <p:cTn id="3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20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4745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745"/>
                            </p:stCondLst>
                            <p:childTnLst>
                              <p:par>
                                <p:cTn id="3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0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4745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745"/>
                            </p:stCondLst>
                            <p:childTnLst>
                              <p:par>
                                <p:cTn id="3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4745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745"/>
                            </p:stCondLst>
                            <p:childTnLst>
                              <p:par>
                                <p:cTn id="3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4745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745"/>
                            </p:stCondLst>
                            <p:childTnLst>
                              <p:par>
                                <p:cTn id="33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2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7086600" y="46483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" dur="4745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745"/>
                            </p:stCondLst>
                            <p:childTnLst>
                              <p:par>
                                <p:cTn id="3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6" dur="2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23623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800600" y="3200400"/>
            <a:ext cx="3581280" cy="3193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657600" y="304920"/>
            <a:ext cx="3295800" cy="2990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19320" y="115920"/>
            <a:ext cx="83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бери правильный ответ на ре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05280" y="50943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27484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29560" y="52466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4745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745"/>
                            </p:stCondLst>
                            <p:childTnLst>
                              <p:par>
                                <p:cTn id="3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4745" fill="hold"/>
                                        <p:tgtEl>
                                          <p:spTgt spid="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745"/>
                            </p:stCondLst>
                            <p:childTnLst>
                              <p:par>
                                <p:cTn id="3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" dur="2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7010280" y="464832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0" dur="4745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745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7010280" y="457200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4745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745"/>
                            </p:stCondLst>
                            <p:childTnLst>
                              <p:par>
                                <p:cTn id="3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2" dur="2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7010280" y="457200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4745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745"/>
                            </p:stCondLst>
                            <p:childTnLst>
                              <p:par>
                                <p:cTn id="3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1" dur="2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7010280" y="457200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4745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745"/>
                            </p:stCondLst>
                            <p:childTnLst>
                              <p:par>
                                <p:cTn id="3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0" dur="2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1031760" cy="109836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059280" y="36450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льно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271440" cy="27144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 rot="20190600">
            <a:off x="2664000" y="20368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 rot="1500600">
            <a:off x="5746320" y="216828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7010280" y="457200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2" h="21600">
                <a:moveTo>
                  <a:pt x="3800" y="3794"/>
                </a:moveTo>
                <a:lnTo>
                  <a:pt x="17812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4745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745"/>
                            </p:stCondLst>
                            <p:childTnLst>
                              <p:par>
                                <p:cTn id="4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9" dur="2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2514600" y="3200400"/>
            <a:ext cx="414324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лодцы!</a:t>
            </a:r>
            <a:endParaRPr b="0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4114800" y="457200"/>
            <a:ext cx="4191120" cy="27687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2133360" cy="17128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2743200" y="4316400"/>
            <a:ext cx="38098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БОУ ДОД Станция юных натур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активная виктор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Живая плане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обучающихся 1-4 и 5-7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р: педагог дополнительного образования Заярнова О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лехард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5T21:10:26Z</dcterms:created>
  <dc:creator>Ольга</dc:creator>
  <dc:description/>
  <dc:language>en-US</dc:language>
  <cp:lastModifiedBy>Ольга</cp:lastModifiedBy>
  <dcterms:modified xsi:type="dcterms:W3CDTF">2013-01-04T07:25:0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