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5.png" ContentType="image/png"/>
  <Override PartName="/ppt/media/image10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18.png" ContentType="image/png"/>
  <Override PartName="/ppt/media/image6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C6B-F3EB-4DE2-B245-0F85F7DC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9F1-B9D7-4E27-A56D-B3F42C3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278-0D64-4104-A75A-04B1E6AE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664-3E8E-40F6-9F01-22A5FC44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C9A-BE00-4B2C-B93A-96E2A067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C5A-E1F5-4551-B3AA-AC941CCD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9B7-22C6-43A6-A098-88DE332E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770-1D57-438B-84BE-0CF65C44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00C-F49A-4ABA-B314-4118718A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F16-F875-4FB8-A6BD-C3F5CD9C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93D-0527-43DE-9259-E91AB2EA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153-18C5-4F11-A84E-0775F5F3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082D-ABAC-439A-B043-EFD2EAAE8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.ua/story/11570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720" y="135684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Символы борьбы за мир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929120" y="528624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«Б» класса МБОУ «СОШ № 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стасия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Копия колокола Нагасаки"/>
          <p:cNvPicPr/>
          <p:nvPr/>
        </p:nvPicPr>
        <p:blipFill>
          <a:blip r:embed="rId1"/>
          <a:stretch/>
        </p:blipFill>
        <p:spPr>
          <a:xfrm>
            <a:off x="500040" y="1500120"/>
            <a:ext cx="2928960" cy="3332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4286160" y="1071720"/>
            <a:ext cx="44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"...Когда собор Ураками в одно мгновение был разрушен атомным взрывом в Нагасаки, лишь только этот колокол чудом остался неповрежденным среди руин. И этот церковный колокол, как символ надежды и мира, звонил каждое утро и вечер, подбадривая людей, восстанавливающих город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На краю парка есть интересной формы беседка - часовня. В ней 20 сентября 1964 г. был установлен колокол Мира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14200" y="53578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" В этот колокол звонят представители семейств - жертв атомной бомбы во время Мемориальной церемонии Мира каждое 6 августа в знак надежды на мир во всем мир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Колокол тысячи журавликов"/>
          <p:cNvPicPr/>
          <p:nvPr/>
        </p:nvPicPr>
        <p:blipFill>
          <a:blip r:embed="rId1"/>
          <a:stretch/>
        </p:blipFill>
        <p:spPr>
          <a:xfrm>
            <a:off x="1928880" y="500040"/>
            <a:ext cx="4429080" cy="30718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500040" y="3929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«…Золотой журавлик, стоящий рядом, подвешивается внутри колокола и таким образом образует нечто подобное ветровому колоколу. Этот колокол становится частью детского монумента Мира только на один день в году - 6 августа, в мемориальный день Мира"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http://foto.mail.ru/mail/nikkosan/_answers/i-252.jpg"/>
          <p:cNvPicPr/>
          <p:nvPr/>
        </p:nvPicPr>
        <p:blipFill>
          <a:blip r:embed="rId1"/>
          <a:stretch/>
        </p:blipFill>
        <p:spPr>
          <a:xfrm>
            <a:off x="714240" y="1785960"/>
            <a:ext cx="7858440" cy="4714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1" name="TextBox 4"/>
          <p:cNvSpPr/>
          <p:nvPr/>
        </p:nvSpPr>
        <p:spPr>
          <a:xfrm>
            <a:off x="2938320" y="10810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0" y="6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Много-много лет жители Хиросимы отмечают 6 августа как День поминовения. В вечерних сумерках приходят на берег Отагавы и пускают вниз по течению деревянные дощечки с бумажными фонариками, на которых - имена погиб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5" descr="http://hematolog.vinchi.ru/illustr/origami/kvadrat1.gif"/>
          <p:cNvPicPr/>
          <p:nvPr/>
        </p:nvPicPr>
        <p:blipFill>
          <a:blip r:embed="rId1"/>
          <a:stretch/>
        </p:blipFill>
        <p:spPr>
          <a:xfrm>
            <a:off x="642960" y="114300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http://hematolog.vinchi.ru/illustr/origami/kvadrat2.gif"/>
          <p:cNvPicPr/>
          <p:nvPr/>
        </p:nvPicPr>
        <p:blipFill>
          <a:blip r:embed="rId2"/>
          <a:stretch/>
        </p:blipFill>
        <p:spPr>
          <a:xfrm>
            <a:off x="5643720" y="3714840"/>
            <a:ext cx="2643120" cy="2584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4286160" y="157176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1. Перегните квадрат по средним линиям и переверн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571680" y="4572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2. Перегните по двум диагоналям и снова переверните 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090520" y="285840"/>
            <a:ext cx="508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Японский журав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143240" y="2858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3. Надавите в центр и соберите все четыре уголка вместе, сгибая бумагу по намеченным ли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57120" y="3370680"/>
            <a:ext cx="528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4. Обратите внимание: у нее два разных угла. Один - нераскрывающийся, "глухой", второй - раскрывающийся. Начиная работать с этой базовой формой, не забывайте каждый раз проверять, где на рисунке (сверху или снизу) находится "глухой" угол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7" descr="http://hematolog.vinchi.ru/illustr/origami/kvadrat3.gif"/>
          <p:cNvPicPr/>
          <p:nvPr/>
        </p:nvPicPr>
        <p:blipFill>
          <a:blip r:embed="rId1"/>
          <a:stretch/>
        </p:blipFill>
        <p:spPr>
          <a:xfrm>
            <a:off x="714240" y="428760"/>
            <a:ext cx="264348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8" descr="http://hematolog.vinchi.ru/illustr/origami/kvadrat4.gif"/>
          <p:cNvPicPr/>
          <p:nvPr/>
        </p:nvPicPr>
        <p:blipFill>
          <a:blip r:embed="rId2"/>
          <a:stretch/>
        </p:blipFill>
        <p:spPr>
          <a:xfrm>
            <a:off x="5857920" y="3714840"/>
            <a:ext cx="2714760" cy="257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4214880" y="4287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5. Положите базовую форму КВАДРАТ "глухим" углом кверху. Спереди отогните две нижние стороны к центральной лин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428760" y="464328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6. Перегните вниз верхний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9" descr="http://hematolog.vinchi.ru/illustr/origami/ptitsa1.gif"/>
          <p:cNvPicPr/>
          <p:nvPr/>
        </p:nvPicPr>
        <p:blipFill>
          <a:blip r:embed="rId1"/>
          <a:stretch/>
        </p:blipFill>
        <p:spPr>
          <a:xfrm>
            <a:off x="571680" y="571680"/>
            <a:ext cx="2714400" cy="27604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0" descr="http://hematolog.vinchi.ru/illustr/origami/ptitsa2.gif"/>
          <p:cNvPicPr/>
          <p:nvPr/>
        </p:nvPicPr>
        <p:blipFill>
          <a:blip r:embed="rId2"/>
          <a:stretch/>
        </p:blipFill>
        <p:spPr>
          <a:xfrm>
            <a:off x="5786280" y="3282840"/>
            <a:ext cx="2857680" cy="2841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4714920" y="5000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7. Отогните согнутые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42876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8. Тяните кверху один слой бумаги, сгибая его по указанным линиям (обратите внимание: две "долины" должны стать "г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1" descr="http://hematolog.vinchi.ru/illustr/origami/ptitsa3.gif"/>
          <p:cNvPicPr/>
          <p:nvPr/>
        </p:nvPicPr>
        <p:blipFill>
          <a:blip r:embed="rId1"/>
          <a:stretch/>
        </p:blipFill>
        <p:spPr>
          <a:xfrm>
            <a:off x="571680" y="357120"/>
            <a:ext cx="3357360" cy="3225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2" descr="http://hematolog.vinchi.ru/illustr/origami/ptitsa4.gif"/>
          <p:cNvPicPr/>
          <p:nvPr/>
        </p:nvPicPr>
        <p:blipFill>
          <a:blip r:embed="rId2"/>
          <a:stretch/>
        </p:blipFill>
        <p:spPr>
          <a:xfrm>
            <a:off x="5715000" y="3286080"/>
            <a:ext cx="300024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721400" y="571680"/>
            <a:ext cx="44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9. Промежуточный этап раб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28760" y="450072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10. Проверьте результат - и повторите сзади действия 5-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3" descr="http://hematolog.vinchi.ru/illustr/origami/ptitsa5.gif"/>
          <p:cNvPicPr/>
          <p:nvPr/>
        </p:nvPicPr>
        <p:blipFill>
          <a:blip r:embed="rId1"/>
          <a:stretch/>
        </p:blipFill>
        <p:spPr>
          <a:xfrm>
            <a:off x="785880" y="428760"/>
            <a:ext cx="2928960" cy="37386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4" descr="http://hematolog.vinchi.ru/illustr/origami/ptitsa6.gif"/>
          <p:cNvPicPr/>
          <p:nvPr/>
        </p:nvPicPr>
        <p:blipFill>
          <a:blip r:embed="rId2"/>
          <a:stretch/>
        </p:blipFill>
        <p:spPr>
          <a:xfrm>
            <a:off x="5572080" y="3000240"/>
            <a:ext cx="2760840" cy="331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143680" y="1017360"/>
            <a:ext cx="357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11. Базовая форма ПТ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оверьте - у нее внизу должны быть две "ножки", а наверху - два "крылышка". Между "крылышками" посередине находится треугольный "горбик". Он нам еще пригодится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5" descr="http://hematolog.vinchi.ru/illustr/origami/ptitsa7.gif"/>
          <p:cNvPicPr/>
          <p:nvPr/>
        </p:nvPicPr>
        <p:blipFill>
          <a:blip r:embed="rId1"/>
          <a:stretch/>
        </p:blipFill>
        <p:spPr>
          <a:xfrm>
            <a:off x="1000080" y="428760"/>
            <a:ext cx="2643120" cy="599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Пабло Пикасс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Pablo_picasso_1.jpg"/>
          <p:cNvPicPr/>
          <p:nvPr/>
        </p:nvPicPr>
        <p:blipFill>
          <a:blip r:embed="rId1"/>
          <a:stretch/>
        </p:blipFill>
        <p:spPr>
          <a:xfrm>
            <a:off x="357120" y="1000080"/>
            <a:ext cx="4395960" cy="542916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sp>
        <p:nvSpPr>
          <p:cNvPr id="45" name="TextBox 4"/>
          <p:cNvSpPr/>
          <p:nvPr/>
        </p:nvSpPr>
        <p:spPr>
          <a:xfrm>
            <a:off x="4857840" y="1071720"/>
            <a:ext cx="3929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Calibri"/>
              </a:rPr>
              <a:t>Пабло Диего Хосе Франсис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Calibri"/>
              </a:rPr>
              <a:t>де Паула Хуан Непомусено Мария де лос Ремедиос Криспин Криспиньяно де ла Сантисима Тринидад Руис и Пикас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6160" y="571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1. Сложите базовую модель ПТИЦА ("ножки" внизу). Спереди и сзади согните нижние боковые стороны к центральной верти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" descr="http://hematolog.vinchi.ru/illustr/origami/zh1-1.gif"/>
          <p:cNvPicPr/>
          <p:nvPr/>
        </p:nvPicPr>
        <p:blipFill>
          <a:blip r:embed="rId1"/>
          <a:stretch/>
        </p:blipFill>
        <p:spPr>
          <a:xfrm>
            <a:off x="714240" y="285840"/>
            <a:ext cx="2286000" cy="41274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357120" y="5000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2. Обе "ножки" согните наверх и немного в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" descr="http://hematolog.vinchi.ru/illustr/origami/zh1-2.gif"/>
          <p:cNvPicPr/>
          <p:nvPr/>
        </p:nvPicPr>
        <p:blipFill>
          <a:blip r:embed="rId2"/>
          <a:stretch/>
        </p:blipFill>
        <p:spPr>
          <a:xfrm>
            <a:off x="6143760" y="2643120"/>
            <a:ext cx="200952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4214880" y="2858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3. Проверьте их положение и опустите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http://hematolog.vinchi.ru/illustr/origami/zh1-3.gif"/>
          <p:cNvPicPr/>
          <p:nvPr/>
        </p:nvPicPr>
        <p:blipFill>
          <a:blip r:embed="rId1"/>
          <a:stretch/>
        </p:blipFill>
        <p:spPr>
          <a:xfrm>
            <a:off x="285840" y="428760"/>
            <a:ext cx="3822480" cy="25714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4429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4. Теперь вогните обе ножки внутрь по намеченным ли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http://hematolog.vinchi.ru/illustr/origami/zh1-4.gif"/>
          <p:cNvPicPr/>
          <p:nvPr/>
        </p:nvPicPr>
        <p:blipFill>
          <a:blip r:embed="rId2"/>
          <a:stretch/>
        </p:blipFill>
        <p:spPr>
          <a:xfrm>
            <a:off x="6000840" y="1643040"/>
            <a:ext cx="2014560" cy="487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4143240" y="571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5. Получились шея и хвост. На шее вогните внутрь гол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285840" y="3857760"/>
            <a:ext cx="40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6. Опустите крылья вниз до упора и немного расплющите "горбик" спины между ними (для этого немного потяните крылышки в сторон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6" descr="http://hematolog.vinchi.ru/illustr/origami/zh1-6.gif"/>
          <p:cNvPicPr/>
          <p:nvPr/>
        </p:nvPicPr>
        <p:blipFill>
          <a:blip r:embed="rId1"/>
          <a:stretch/>
        </p:blipFill>
        <p:spPr>
          <a:xfrm>
            <a:off x="4554360" y="3714840"/>
            <a:ext cx="4050000" cy="25956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http://hematolog.vinchi.ru/illustr/origami/zh1-5.gif"/>
          <p:cNvPicPr/>
          <p:nvPr/>
        </p:nvPicPr>
        <p:blipFill>
          <a:blip r:embed="rId2"/>
          <a:stretch/>
        </p:blipFill>
        <p:spPr>
          <a:xfrm>
            <a:off x="357120" y="500040"/>
            <a:ext cx="3540240" cy="24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7" descr="http://hematolog.vinchi.ru/illustr/origami/zh1-7.gif"/>
          <p:cNvPicPr/>
          <p:nvPr/>
        </p:nvPicPr>
        <p:blipFill>
          <a:blip r:embed="rId1"/>
          <a:stretch/>
        </p:blipFill>
        <p:spPr>
          <a:xfrm>
            <a:off x="1285920" y="1428840"/>
            <a:ext cx="6743520" cy="3929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2442240" y="42876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7. Журавлик гот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e8d0f1b7af4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21065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Голубка Пикасс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Символы борьбы за мир (голубка Пикассо, журавлик Садако и &quot;пацифик&quot; Холтома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357200"/>
            <a:ext cx="3643560" cy="4429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48" name="Rectangle 1"/>
          <p:cNvSpPr/>
          <p:nvPr/>
        </p:nvSpPr>
        <p:spPr>
          <a:xfrm>
            <a:off x="3929040" y="2298240"/>
            <a:ext cx="521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Летите, голуби,  летите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Для вас нигде преграды нет.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Несите, голуби, несите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Народам мира наш привет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Пацифик Холтома </a:t>
            </a:r>
            <a:br>
              <a:rPr sz="6000"/>
            </a:b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180px-Pacyfa_svg.png"/>
          <p:cNvPicPr/>
          <p:nvPr/>
        </p:nvPicPr>
        <p:blipFill>
          <a:blip r:embed="rId1"/>
          <a:stretch/>
        </p:blipFill>
        <p:spPr>
          <a:xfrm>
            <a:off x="357120" y="142884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4857840" y="1928880"/>
            <a:ext cx="4000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... Я изобразил себя, человека в отчаянии, с руками опущенными и вытянутыми в стороны. Я формализовал рисунок в линию, и сделал круг вокруг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Японский журавлик Садако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233208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ернувшись из Японии, пройдя немало верст,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умажного журавлика товарищ мне привез.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 ним связана история, история одна —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о девочку, которая была облучена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Садако Сасаки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(7 января 1943 — 25 октября 195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Садако Сасаки"/>
          <p:cNvPicPr/>
          <p:nvPr/>
        </p:nvPicPr>
        <p:blipFill>
          <a:blip r:embed="rId1"/>
          <a:stretch/>
        </p:blipFill>
        <p:spPr>
          <a:xfrm>
            <a:off x="2643120" y="1714680"/>
            <a:ext cx="3643560" cy="4429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http://foto.mail.ru/mail/nikkosan/_answers/i-250.jpg"/>
          <p:cNvPicPr/>
          <p:nvPr/>
        </p:nvPicPr>
        <p:blipFill>
          <a:blip r:embed="rId1"/>
          <a:stretch/>
        </p:blipFill>
        <p:spPr>
          <a:xfrm>
            <a:off x="285840" y="785880"/>
            <a:ext cx="5187960" cy="4214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Rectangle 1"/>
          <p:cNvSpPr/>
          <p:nvPr/>
        </p:nvSpPr>
        <p:spPr>
          <a:xfrm>
            <a:off x="6000840" y="520200"/>
            <a:ext cx="2643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Цуру - по-японски журавлик . Птица с длинной шеей считается в Японии символом удачи и долгой жизни. Древняя японская легенда рассказывает: если сложить из бумаги тысячу журавликов и подарить их окружающим, исполнится жел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ttp://foto.mail.ru/mail/nikkosan/_answers/i-249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585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Рисунок 2" descr="http://foto.mail.ru/mail/nikkosan/_answers/i-251.jpg"/>
          <p:cNvPicPr/>
          <p:nvPr/>
        </p:nvPicPr>
        <p:blipFill>
          <a:blip r:embed="rId2"/>
          <a:stretch/>
        </p:blipFill>
        <p:spPr>
          <a:xfrm>
            <a:off x="5214960" y="2357280"/>
            <a:ext cx="2714760" cy="392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0" name="TextBox 3"/>
          <p:cNvSpPr/>
          <p:nvPr/>
        </p:nvSpPr>
        <p:spPr>
          <a:xfrm>
            <a:off x="4500720" y="428760"/>
            <a:ext cx="46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«Это наш крик. Это наша молитва. Мир во всем мире».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Парк Мира в Хиросиме"/>
          <p:cNvPicPr/>
          <p:nvPr/>
        </p:nvPicPr>
        <p:blipFill>
          <a:blip r:embed="rId1"/>
          <a:stretch/>
        </p:blipFill>
        <p:spPr>
          <a:xfrm>
            <a:off x="428760" y="2000160"/>
            <a:ext cx="4690800" cy="3143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285840" y="35712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"Спите спокойн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ошибка больше не повторится"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://urakami.narod.ru/main/gs_images/gs12_1.jpg"/>
          <p:cNvPicPr/>
          <p:nvPr/>
        </p:nvPicPr>
        <p:blipFill>
          <a:blip r:embed="rId2"/>
          <a:stretch/>
        </p:blipFill>
        <p:spPr>
          <a:xfrm>
            <a:off x="5853240" y="3000240"/>
            <a:ext cx="278424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6:52:04Z</dcterms:created>
  <dc:creator>GKS</dc:creator>
  <dc:description/>
  <dc:language>en-US</dc:language>
  <cp:lastModifiedBy>Admin</cp:lastModifiedBy>
  <dcterms:modified xsi:type="dcterms:W3CDTF">2015-02-04T12:13:51Z</dcterms:modified>
  <cp:revision>50</cp:revision>
  <dc:subject/>
  <dc:title>Символы борьбы за мир </dc:title>
</cp:coreProperties>
</file>