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7D3-1796-4FA3-B22E-9E7453D6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991E-2FD2-4A6B-9008-16FC7A70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F416A-19BB-4780-8AD6-71E3C1EE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989D4-4040-470B-8F27-E4532755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D9815-B1C3-4E7E-9CAD-9852F7DA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06C7C-CD95-460D-B16B-A24D305A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3163F-7BB4-431D-B87D-AD935D4C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BF7BB-703C-47FC-8CB5-C04DFFE3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2DCFD-BBA8-4040-81E2-65C75FBC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2E246-BA30-4063-8F44-46610979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CB78E-21DF-42E4-8721-7E13D491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459FC-0372-4B8B-9697-65702C94F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4F8-80E5-4512-99EB-9C1095A7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E26C6-A0A3-4400-A6A1-44C17C65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0F0C5-8B16-4DC7-B19A-AFDAA40F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C3566-DA51-468E-97BB-447321BA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CCB2B-B982-41F1-BB99-0BDE5DBA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BC8CC-D096-4C46-A8F1-8D379644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51DF8-EA75-4AF3-A636-74126438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A6CBC-4567-4653-A283-93436115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0FE3D-C6FF-45DE-9582-D014D240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EBFDA-03EB-4D15-9366-B41F4FC3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E0CB8-228B-48A8-AA49-4DC3B52A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2CE-49B9-43FD-8DB8-F9D83E8B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4C9750-863C-45D4-8144-3E8954BF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F6915-956E-43ED-921F-29388EAB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F1E84-FA83-4673-A1D2-0DF86DEC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E501E-004B-4DBA-A643-4E7150A5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579B3-E5CF-45CF-929A-290B8E38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DAB29-6AE3-4165-867E-51983EA0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3E6CF-A891-4978-A9D0-CBABB333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B421C-A712-4257-B5D6-7D841E32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39B16-E8FA-4B9F-87C5-DB485DF6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498F5-B889-44D6-8F72-85B3D5CD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E408-A5D7-45D3-A93B-330CA901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E5759-9F2D-48E9-B5C1-8D2E7803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6E275-7B7C-44BF-A5C6-D3B4AF1CA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F6B21-4FDA-4FDA-A7DB-2FF4D0B23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EF2FD-CE93-46D3-BA82-263C56A7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B03EA6-E5FA-4FBE-AEB9-6AF89449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495E9-6595-4A64-ACB1-F7D06AB5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CE626-9DF2-423D-B114-7C7DA516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348D2-F707-4E31-8C76-E5974371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B1F0A-21B1-4421-B730-AEDFF3C7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D012E-82D4-4B69-AA60-434B435E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7622-C07A-48FD-B00F-7822DD36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1471E0-DD57-4142-938A-979D10E1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6B596-672D-4413-AAD8-A4F0DD29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AB524-D96E-445E-B7F2-064D1DE8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876E4-E0E8-43C2-B577-86EEF7484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EE058-8CB1-4A64-A062-CE05A3C0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144DF7-3238-4F93-97E1-47DB0A92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464871-7586-4DAE-8A0A-1BC92665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4C28E8-22CE-44CB-8997-65581DB8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D6E78-EF7A-4FDA-888A-D571D79F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71360-2E4C-4F17-A29F-35674B82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3A685-A4F0-407E-A5D5-C03BF0E9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43832-8654-41C8-858C-62663D19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C45D5-E408-4240-AC99-44FF38D1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35413-3E36-4BEC-B51A-8D318DD3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C5316-64A2-41E9-A00C-20A28732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8E905-9C6A-4616-B9DF-986EA4B7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8B926-E1A9-4337-ABB2-E8765B58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C0BC2-98E3-47DE-8842-BAEA8B6F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38CFF9-3BAA-45E2-9627-2B38EB18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8FCC5-8016-4092-8A13-A51CB163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67FCF-A191-46B6-AE84-C317459F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8CD6-4677-44B9-82EC-74D42600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DF5BA-EA82-4252-852E-51BB17E3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A14348-A382-407E-B016-EC5B134A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0523A-98C4-48A8-ADDE-7848B9AC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30F192-46C3-44A2-8980-ADB798AF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94F07-AF22-46E8-A52A-91902BC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5B6ED-19D8-4B58-A1F3-DD734CC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CBBE8C-A061-47C8-B1A4-86C65350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CBEB4A-AA3A-49FF-B7F7-8B92E8FD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7CC1B-C09F-4FD3-B6DD-2351418D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E0D4C-25FD-4421-B1DF-958ABE0F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1BC4-3D19-445B-88E5-75DF539F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8D153-88F3-46D2-87ED-99B02868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196A0-F2FC-4C86-A169-39F80257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5EEE7-DD24-4B54-85CC-B96E8AE1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F25CD0-6BE9-4143-8565-9AE68F09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B12F9-690B-4F70-9A65-F7BADC22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B40B95-9132-4641-BDCD-966D091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30399-F063-4EBC-BD03-A9F275F9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DCBF1C-6105-4525-9F93-A56DCA9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7FC61A-BA45-48D5-B93C-06181680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B3CA88-2FA7-441B-B6FF-D060E9F5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BBBC-51FE-4FCE-B582-440AB9D5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5CEC9-E9E8-4ABC-AA75-895DA11E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91578-ACBD-4F31-89AA-31405E75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BC7E3D-89C7-4072-96DC-C8B046228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C10855-2C2A-46BE-9BAE-0F2F4971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82F730-F303-4787-800E-41AB9505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B1D70F-3927-4971-9DB6-54DF5073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CB1E2-0D3E-489E-9F71-1D36131E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EACCF6-7226-48EF-A282-41A292AC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50AFB-2EBB-4530-9681-8C49F34A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434EA-A09A-4562-AD3E-9B2A64D1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E3C5-9198-43FC-BBCF-097506CC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96817-A21A-4DDE-BD17-F66A450D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890D4-A6AC-4EE2-90BF-C60014C5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F09AB1-0505-46CE-9EDB-FFF1EEB4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45993-B298-4B0E-89E1-2038879A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BDBCB0-7388-452C-9BA6-CAA0575D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19DFB-ADF1-424A-A673-4D0C2E25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6114E4-1F6D-491B-90E7-7F1CB4B9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9F8415-F78D-4612-BEBA-16DE8E6F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AA276-069E-42E1-9546-6E3C79F6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6711F-5977-4A35-A0DD-288239DE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178-1B6A-4444-9838-153E5890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4B47-0B02-4D7E-950D-350EB4B2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79BC47-64C7-4159-8D86-2D728EDE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0D9C46-1159-43B3-AD3B-450BF5A8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C15A9-5B8C-44A7-8510-E243ECCC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F3EFB-A598-49F5-8D65-205F2B1B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354AF0-93DA-4DF2-9034-E9EF14648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284A-412C-42A3-BEAE-21AFC41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4551-FFC1-4525-B730-EB380DD7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1418-9229-41ED-A96B-357549DC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932C-B103-493A-AD96-ECD07DD3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87A33-4833-4A3C-B693-34634359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DC5A0-7458-4B52-B1EB-7A498778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5A78D-8620-4206-BFBF-E77EEA4E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6617-51B5-4F8B-804D-9C927200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F103B-6F83-43D7-8177-FFE73AEE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B04-BB47-4CEA-9A5A-9AD4F027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D5E54-4F19-497F-AD43-EF1805FF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D816B-6E36-438D-A3F5-FDD4E15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0991B-C2A5-4A84-9828-B8B46BDF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0ABE3-4957-486F-9224-44BE33C6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088C-EEF8-4443-933C-2B96FB00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00412-C668-48FC-9C69-31540B8B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6169B-2D45-440B-9C9C-3B6E6FC0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E67B3-4A50-410F-AA6B-7481BA74C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65AEB-FC0F-423B-BE4E-ACD02A59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7254D-E915-439B-999C-9E91C89A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080-809E-4DEA-876C-1D494B03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FC2B7-B87B-4D71-A748-055949A8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CBD1A-F2BD-4A00-952C-1FDB5C23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F89D8-59FE-42F3-8462-320106D3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5B20D-588D-45D3-B083-57EB839B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5273D-5B26-4D65-BCF6-37DF7698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BC27A-1C58-4D34-8984-9BADC318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A5858-CFE5-4A50-9B99-BBEF9254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C7539-9B49-4B04-854A-2D03DF0E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74475-37C5-43C0-9D15-67F6F2C65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41A1F-D9B6-43E4-98CC-79E3C8C1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555-C81E-4C23-BA6E-7EB38A24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465E2-85A7-483B-8CB9-3C5C5CA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5C991-4198-421E-AAFF-BE544DD2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C8A9A-0CCE-4B1F-87C2-298CEBE8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6B732-E710-48C3-8C04-F03ED7ED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A3A99-8588-48A9-AF75-A24D6B0C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1A4C-E96C-491B-9F4B-917B2E0C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82D3E-3DC8-4752-865D-8AECF457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B88F3-A958-44B5-926F-1A79C7EF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94983-949F-4423-AAFD-78B7F3CB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66ACC-B05B-4F37-A384-5D78FABB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107-9E9C-4CB3-B2A0-C9B30B49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BF98F-3D84-4687-BECF-60BE00EF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CAEF3-2D60-4253-8D94-11265E55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B2306-78B5-4A16-9341-50067CE5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B1FBF-7006-404E-B47F-8239D05E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FE7F6-CCEB-4A6F-B2B7-F16DE8DF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A12CD-8347-4E73-BBD6-A61FA2EE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F951A-11FC-486F-B234-250F387C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F3017-C807-4907-8495-CA44D748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1AC12-EC9B-42CA-B931-C1A43C43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8BFB4-AE7E-4A18-852E-00D193F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08D-D60C-427F-83D8-C277A1B1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8AA6B-90E2-4004-B828-F80D56E3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6E0F1-67AE-4EF9-8F2C-217A7A28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C681F-567E-47FE-AC7D-54F09FAA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58DBD-8C51-4BD4-90F6-B265E27E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9075B-4AED-470B-AD65-848B21B0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1AC6B-4B02-4CBE-A3C9-30D32163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BE7DB-B9F2-4327-8CB5-8E8112BA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DDC91-31C3-4623-8839-69EE8D15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E935A-A4CB-4B49-A4EB-D2D37EE4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C951D-11BE-43BF-BC14-B2E3FAC6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295-7C5E-4121-A2C3-DD4B6B7E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ECF7D-6BC6-405A-B7E5-F6884671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D8ACB-0523-4CBF-A720-FCC7DB5B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B8099-D115-46DB-B26F-B82635E4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A99B5-7051-4CEB-8138-F076C463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19880-FEA8-43AB-A413-872778F4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8AC7B-530B-4703-B32D-00EBDD82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9A926-CBFA-4DC0-B53E-E83BE1E2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CBCC1-8796-416D-8CE0-77847533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4A353-82F0-4AD6-A3C2-1BB239BA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BB70F-A47B-49D9-97F6-6B892435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BE2-AE71-48B5-87D6-CCBB9457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B86F0-5B01-4FB1-829C-82916666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3BFB5-1FBC-4CAF-BDD9-7A9C290E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28249-6D37-45B4-BE1C-89AF1F7C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E5A9C-B0F0-46AC-B655-4DB54B36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CCBD1-FB5E-4C02-B4F4-6B4D8072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31F94-3B17-4412-8B33-8C70FCD8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8864-B5E5-4511-9880-553DFF8E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136241-939C-47A2-940D-335C0858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DD40D-C339-4472-AA01-E41EFF49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DCDA4-1261-4160-9F47-0958C76B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5DF9C-E64D-402B-9F5B-F0EBA81A80E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A89D0-A9E5-4666-95EE-E3615C5CEC5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A4A54B-1B2A-4FF4-8C45-E701BFC065D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AB4CB-6D0F-4069-99E0-7B42596C657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A9F233-BF5F-4178-821A-BEEFC4D178E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CEA83-07DC-475C-9AB6-6737AD5E9B7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BD67C-8C18-4656-B06A-73379E8E597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BCD24-E13C-49A8-B0AF-967F78BA352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FA02D-DF2B-4FBD-B836-9ADED2ED844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6AC012-F841-4509-A645-EC0A4D431F2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43E1B-C1DB-4530-A65B-479AB63ED76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4E688A-FC9E-4747-AD83-A8EC36A430A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7739D6-60AC-4741-886A-0C0C38F98C2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52532-6A1D-4518-A58C-63CC7B0B448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26F11-1915-4354-BEDA-3A99DBFFE7B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064BBA-BFE4-438E-B3EC-5F2D9B4582C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1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400"/>
              <a:ext cx="423360" cy="15807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280"/>
              <a:ext cx="551880" cy="22359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8800"/>
              <a:ext cx="174240" cy="30272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600"/>
              <a:ext cx="82080" cy="51156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5680"/>
              <a:ext cx="1410480" cy="27169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160"/>
              <a:ext cx="137880" cy="6742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B2AC3-10AA-48AA-BF6B-11D8E3D8C06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2588760" y="2514600"/>
            <a:ext cx="8915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178dbb"/>
                </a:solidFill>
                <a:latin typeface="Century Gothic"/>
              </a:rPr>
              <a:t>Решение задач по генетике</a:t>
            </a:r>
            <a:br>
              <a:rPr sz="4900"/>
            </a:br>
            <a:endParaRPr b="0" lang="en-US" sz="49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entury Gothic"/>
              </a:rPr>
              <a:t>Задания ЕГЭ 2014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entury Gothic"/>
              </a:rPr>
              <a:t>С6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entury Gothic"/>
              </a:rPr>
              <a:t>Подготовила учитель биологии МКОУ СОШ №3 г. Исилькуля Омской области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entury Gothic"/>
              </a:rPr>
              <a:t>Павлова Татьяна Николаевн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ДИГИБРИДНОЕ СКРЕЩИВ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Century Gothic"/>
              </a:rPr>
              <a:t>ПРИ ОПЫЛЕНИИ КРАСНОПЛОДНЫХ АБРИКОСОВ НОРМАЛЬНОГО РОСТА ПЫЛЬЦОЙ ЖЁЛТОПЛОДНЫХ КАРЛИКОВЫХ РАСТЕНИЙ ВСЁ ПОКОЛЕНИЕ БЫЛО ЕДИНООБРАЗНО – НОРМАЛЬНОГО РОСТА С КРАСНЫМИ ПЛОДАМИ. ПРИ СКРЕЩИВАНИИ ДРУГОЙ ПАРЫ РАСТЕНИЙ С ТАКИМИ ЖЕ ФЕНОТИПАМИ В ПОТОМСТВЕ НАБЛЮДАЛОСЬ РАСЩЕПЛЕНИЕ:1/4 – КРАСНОПЛОДНЫЕ НОРМАЛЬНОГО РОСТА, ¼ - КРАСНОПЛОДНЫЕ КАРЛИКИВОВГО РОСТА, ¼ - ЖЁЛТОПЛОДНЫЕ НОРМАЛЬНОГО РОСТА, ¼ - ЖЁЛТОПЛОДНЫЕ КАРЛИКОВЫЕ. ОПРЕДЕЛИТЕ ГЕНОТИПЫ РОДИТЕЛЕЙ И ПОТОМСТВА. КАК ОПРЕДЕЛЯЮТСЯ ДОМИНАНТНЫЕ ПРИЗНАКИ?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хема решения задач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1) P AABB X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(красноплодные нормального роста скрестили с жёлтоплодными карликового роста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F1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красноплодные нормального рост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2) P AaBb X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(красноплодные нормального роста скрестили  с жёлтоплодными карликового роста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F1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красноплодные нормального роста, </a:t>
            </a: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красноплодные карликового роста, </a:t>
            </a: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жёлтоплодные нормального роста, </a:t>
            </a: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жёлтоплодные карликового рост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84400" indent="-2844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3)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Гены, определяющие красный цвет плодов и нормальный рост – доминантные, так как при 1м скрещивании всё поколение красноплодное нормального роста. Независимое наследование признаков, так как во 2м скрещивании произошло расщепление в соотношении 1:1:1:1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ЦЕПЛЕННОЕ НАСЛЕДОВ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РИ СКРЕЩИВАНИИ МУХ ДРОЗОФИЛ С СЕРЫМ ТЕЛОМ И НОРМАЛЬНЫМИ КРЫЛЬЯМИ С МУХАМИ ДРОЗОФИЛАМИ С ЧЁРНЫМ ТЕЛОМ И ЗАЧАТОЧНЫМИ КРЫЛЬЯМИ ВСЁ ПОКОЛЕНИЕ ИМЕЛО СЕРОЕ ТЕЛО И НОРМАЛЬНЫЕ КРЫЛЬЯ. ПРИ СКРЕЩИВАНИИ ДРУГОЙ ПАРЫ С ТАКИМИ ЖЕ ФЕНОТИПАМИ ПОЛУЧИЛИ ПОЛОВИНУ ОСОБЕЙ С СЕРЫМ ТЕЛОМ И НОРМАЛЬНЫМИ КРЫЛЬЯМИ И ПОЛОВИНУ ОСОБЕЙ С ЧЁРНЫМ ТЕЛОМ И ЗАЧАТОЧНЫМИ КРЫЛЬЯМИ. ОПРЕДЕЛИТЕ ГЕНОТИПЫ РОДИТЕЛЕЙ И ПОТОМСТВА. ОБЪЯСНИТЕ ПОЛУЧЕННЫЕ РЕЗУЛЬТАТЫ. КАК ОПРЕДЕЛЯЮТСЯ ДОМИНАНТНЫЕ ПРИЗНАКИ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хема решения задач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1) P AABB x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(серое тело нормальные крылья скрестили с чёрным телом зачаточными крыльями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F1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серое тело нормальные крылья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2) P AaBb x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(серое тело нормальные крылья скрестили с чёрным телом зачаточными крыльями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F1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серое тело нормальные крылья, </a:t>
            </a: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чёрное тело зачаточные крылья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3)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Гены, определяющие серое тело и нормальные крылья, являются доминантными, так как при 1м скрещивании всё поколение серое с нормальными крыльями. Сцепленное наследование, так как при 2м скрещивании произошло расщепление  в соотношении 1:1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ЦЕПЛЕННОЕ НАСЛЕДОВ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РИ СКРЕЩИВАНИИ КРОЛИКОВ С ОДНОТОННЫМ (ДИКИМ) ОКРАСОМ ШЕРСТИ И КОРОТКИМ ТИПОМ ШЕРСТИ С КРОЛИКАМИ С ПЯТНИСТЫМ (ГОЛЛАНДСКИМ) ОКРАСОМ ШЕРСТИ И ДЛИННЫМ (АНГОРСКИМ) ТИПОМ ШЕРСТИ ВСЁ ПОКОЛЕНИЕ БЫЛО ЕДИНООБРАЗНО И ИМЕЛО ОДНОТОННУЮ КОРОТКУЮ ШЕРСТЬ. ПРИ СКРЕЩИВАНИИ ДРУГОЙ ПАРЫ С ТАКИМИ ЖЕ ФЕНОТИПАМИ ПОЛУЧИЛИ ПОЛОВИНУ С ОДНОТОННОЙ КОРОТКОЙ ШЕРСТЬЮ И ПОЛОВИНУ С ПЯТНИСТОЙ ДЛИННОЙ ШЕРСТЬЮ. ОПРЕДЕЛИТЕ ГЕНОТИПЫ РОДИТЕЛЕЙ И ПОТОМСТВА. КАК ОПРЕДЕЛЯЮТСЯ ДОМИНАНТНЫЕ ПРИЗНАКИ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хема решения задач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1) </a:t>
            </a: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P AABB x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(однотонные с короткой шерстью скрестили с пятнистыми с длинной шерстью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F1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однотонные с короткой шерстью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2) P AabB x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(однотонные с короткой шерстью скрестили с пятнистыми с длинной шерстью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F1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однотонные с короткой шерстью , </a:t>
            </a: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 aabb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пятнистые с длинной шерстью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22200" indent="-322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3) Гены, определяющие однотонную короткую шерсть – доминантные, так как при 1м скрещивании всё потомство однотонное с короткой шерстью. Сцепленное наследование, так как при 2м скрещивании расщепление в соотношении 1:1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КОДОМИНИРОВАНИЕ И ДИГИБРИДНОЕ СКРЕЩИВ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УППА КРОВИ И РЕЗУС-ФАКТОР – АУТОСОМНЫЕ, НЕ СЦЕПЛЕННЫЕ ПРИЗНАКИ. ЖЕНЩИНА СО 2 ГРУППОЙ КРОВИ И ПОЛОЖИТЕЛЬНЫМ РЕЗУС-ФАКТОРОМ, РОДИТЕЛИ КОТОРОЙ ИМЕЛИ ТАКУЮ ЖЕ ГРУППУ КРОВИ И РЕЗУС-ФАКТОР, ВЫХОДИТ ЗАУЖ ЗА МУЖЧИНУ С 3 ГРУППОЙ КРОВИ И ОТРИЦАТЕЛЬНЫМ РЕЗУС-ФАКТОРОМ, МАТЬ КОТОРОГО ИМЕЛА 1 РЕЗУС-ОТРИЦАТЕЛЬНУЮ КРОВЬ. ОПРЕДЕЛИТЕ ГЕНОТИПЫ ЖЕНЩИНЫ И МУЖЧИНЫ, ВОЗМОЖНЫЕ ГЕНОТИПЫ И ФЕНОТИПЫ ИХ ДЕТЕЙ. КАКОЙ ЗАКОН НАСЛЕДСТВЕННОСТИ ПРОЯВЛЯЕТСЯ?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хема решения задач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1) P ♀ AARR x ♂ B0rr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( у матери 2+, у отца 3-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2)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Возможные генотипы и фенотипы детей :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F1 ABRr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4+,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A0Rr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 2+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3) независимое наследование признак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НЕПОЛНОЕ ДОМИНИРОВАНИЕ И ДИГИБРИДНОЕ СКРЕЩИВ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НА ПТИЦЕФАБРИКЕ ОТ СКРЕЩИВАНИЯ ЧЁРНЫХ КУРЧАВЫХ ПЕТУХОВ С БЕЛЫМИ КУРАМИ, ИМЕЮЩИМИ ГЛАДКОЕ ОПЕРЕНИЕ, ВСЕГДА ПОЛУЧАЛИ ПОТОМСТВО С ГОЛУБЫМ СЛАБОКУРЧАВЫМ ОПЕРЕНИЕМ. ПРИ АНАЛИЗИРУЮЩЕМ СКРЕЩИВАНИИ ПОТОМКОВ (ИЗ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F1)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ПОЛУЧАЛИ: ГОЛУБЫХ СЛАБОКУРЧАВЫХ,ГОЛУБЫХ ГЛАДКИХ, БЕЛЫХ СЛАБОКУРЧАВЫХ, БЕЛЫХ ГЛАДКИХ. ОПРЕДЕЛИТЕ ГЕНОТИПЫ РОДИТЕЛЕЙ И ПОТОМКОВ В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F1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И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F2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. ОБЪЯСНИТЕ ХАРАКТЕР НАСЛЕДОВАНИЯ ПРИЗНАКОВ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хема решения задач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1) </a:t>
            </a: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P ♀ aaee x ♂ AAEE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(Белую с гладким оперением  скрестили с чёрным курчавым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F1 AaEe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голубые слабокурчавы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2) P ♀ AaEe x ♂ aaee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(голубую слабокурчавую скрестили белым гладким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F2 AaEe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голубые слабокурчавы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Aaee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голубые гладки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aaEe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белые слабокурчавы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entury Gothic"/>
              </a:rPr>
              <a:t>Aaee</a:t>
            </a: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 – белые гладкие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291600" indent="-291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Century Gothic"/>
              </a:rPr>
              <a:t>3) неполное доминирование; чёрное курчавое оперенение неполно доминирует над белым гладким, так как получили птиц с промежуточными признакам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ДИГИБРИДНОЕ СКРЕЩИВАНИЕ И СЦЕПЛЕННОЕ НАСЛЕДОВ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И СКРЕЩИВАНИИ ТОМАТА С ГЛАДКИМИ МНОГОКАМЕРНЫМИ ПЛОДАМИ С РАСТЕНИЕМ, ИМЕЮЩИМ ОПУШЁННЫЕ ДВУХКАМЕРНЫЕ ПЛОДЫ, В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1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СЕ РАСТЕНИЯ ИМЕЛИ ГЛАДКИЕ МНОГОКАМЕРНЫЕ ПЛОДЫ. ПРИ СКРЕЩИВАНИИ МЕЖДУ СОБОЙ ГИБРИДОВ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1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БЫЛИ ПОЛУЧЕНЫ РАСТЕНИЯ: С ГЛАДКИМИ МНОГОКАМЕРНЫМИ ПЛОДАМИ И ОПУШЁННЫМИ ДВУХКАМЕРНЫМИ ПЛОДАМИ. ОПРЕДЕЛИТЕ ГЕНОТИП РОДИТЕЛЕЙ, ГЕНОТИПЫ И ФЕНОТИПЫ ПОТОМКОВ. СОСТАВЬТЕ СХЕМУ РЕШЕНИЯ ЗАДАЧИ. КАКИЕ ЗАКОНЫ НАСЛЕДСТВЕННОСТИ ПРОЯВЛЯЮТСЯ В ДАННЫХ СКРЕЩИВАНИЯХ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ЦЕПЛЕННОЕ НАСЛЕДОВ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У КУР ТЁМНАЯ КОЖА ДОМИНИРУЕТ НАД БЕЛОЙ, ПОЛОСАТОЕ ОПЕРЕНИЕ – НАД ЧЁРНЫМ. ГЕН, ОБУСЛОВЛИВАЮЩИЙ ОКРАСКУ ОПЕРЕНИЯ, ЛОКАЛИЗОВАН В Х-ХРОМОСОМЕ. СКРЕЩИВАЛИ ЧЁРНУЮ КУРИЦУ С ТЁМНОЙ КОЖЕЙ С ПОЛОСАТЫМ ПЕТУХОМ СО СВЕТЛОЙ КОЖЕЙ. ВСЕ ЦЫПЛЯТА ОКАЗАЛИСЬ ПОЛОСАТЫМИ, ИЗ НИХ 50% ИМЕЛИ ТЁМНУЮ КОЖУ И 50 % - СВЕТЛУЮ. ОПРЕДЕЛИТЕ ГЕНОТИПЫ РОДИТЕЛЕЙ И ПОТОМКОВ. ОБЪЯСНИТЕ РЕЗУЛЬТАТЫ СКРЕЩИВАНИЯ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хема решения задач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863440" y="22507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1) P ♀         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     x ♂ aaXBX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 (чёрную с тёмной кожей скрестили с полосатым со светлой кожей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F1 AaXBY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♀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полосатая с тёмной коже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AaXBXb ♂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полосатый с тёмной коже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aaXBY ♀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полосатая со светлой коже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aaXBXb ♂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полосатый со светлой кожей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3) у птиц гетерогаметными по полу являются самк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9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0" name="Rectangle 6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21" name="Picture 5" descr=""/>
          <p:cNvPicPr/>
          <p:nvPr/>
        </p:nvPicPr>
        <p:blipFill>
          <a:blip r:embed="rId1"/>
          <a:stretch/>
        </p:blipFill>
        <p:spPr>
          <a:xfrm>
            <a:off x="4192560" y="2338560"/>
            <a:ext cx="1111320" cy="339480"/>
          </a:xfrm>
          <a:prstGeom prst="rect">
            <a:avLst/>
          </a:prstGeom>
          <a:ln w="0">
            <a:noFill/>
          </a:ln>
        </p:spPr>
      </p:pic>
      <p:sp>
        <p:nvSpPr>
          <p:cNvPr id="1222" name="Rectangle 7"/>
          <p:cNvSpPr/>
          <p:nvPr/>
        </p:nvSpPr>
        <p:spPr>
          <a:xfrm>
            <a:off x="0" y="64764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3" name="Rectangle 9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4" name="Rectangle 10"/>
          <p:cNvSpPr/>
          <p:nvPr/>
        </p:nvSpPr>
        <p:spPr>
          <a:xfrm>
            <a:off x="0" y="64764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ДИГИБРИДНОЕ СКРЕЩИВ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У ФАСОЛИ ЖЁЛТАЯ ОКРАСКА БОБОВ ДОМИНИРУЕТ НАД ЗЕЛЁНОЙ ОКРАСКОЙ, А ЧЁРНАЯ ОКРАСКА СЕМЯН – НАД БЕЛОЙ. ПРИ СКРЕЩИВАНИИ ФАСОЛИ С ЖЁЛТЫМИ БОБАМИ И ЧЁРНЫМИ СЕМЕНАМИ С РАСТЕНИЕМ, ИМЕЮЩИМ ЖЁЛТЫЕ БОБЫ И БЕЛЫЕ СЕМЕНА, ПОЛУЧИЛИ 53 – ЖЁЛТЫЕ БОБЫ И ЧЁРНЫЕ СЕМЕНА, 48 -  ЖЁЛТЫЕ БОБЫ И БЕЛЫЕ СЕМЕНА, 19 – ЗЕЛЁНЫЕ БОБЫ И ЧЁРНЫЕ СЕМЕНА, 15 – ЗЕЛЁНЫЕ БОБЫ И БЕЛЫЕ СЕМЕНА. ОПРЕДЕЛИТЕ ГЕНОТИПЫ РОДИТЕЛЕЙ И ПОТОМКОВ. КАК ОБЪЯСНИТЬ ПОЯВЛЕНИЕ 4Х ФЕНОТИПОВ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хема решения задач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1)P AaBb x 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(жёлтые  с чёрными семенами скрестили с жёлтыми с белыми семенами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F1 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– жёлтые чёрные,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– жёлтые белые,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– жёлтые чёрные,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– жёлтые белы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– жёлтые чёрные,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– жёлтые белые,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– зелёные чёрные,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Aabb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– зелёные белы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2) независимое наследовани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Используемая литература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.А.Кириленко, С.И.Колесников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одготовка к ЕГЭ 2014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МК Легион  Ростов-на –Дону 2013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хема решения задач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) aabb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ABB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(опушённые двухкамерные скрестили с гладкими многокамерными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1-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00%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aBb 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ладкие многокамерные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) AaBb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AaBb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(гладкие многокамерные скрестили с гладкими многокамерными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2 - 1AABB, 2AaBb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(гладкие многокамерные) и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aabb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(опушённые двухкамерные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1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проявляется закон доминирования, в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F2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– закон сцепленного наследования, что приводит к появлению 2х фенотипических групп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ДИГИБРИДНОЕ СКРЕЩИВАНИЕ И НЕПОЛНОЕ ДОМИНИРОВ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СКРЕСТИЛИ БЕЗУСЫЕ РАСТЕНИЯ ЗЕМЛЯНИКИ С БЕЛЫМИ ПЛОДАМИ И РАСТЕНИЯ ЗЕМЛЯНИКИ, ОБРАЗУЮЩИЕ УСЫ, С РОЗОВЫМИ ПЛОДАМИ. В РЕЗУЛЬТАТЕ ПОЛУЧИЛИ БЕЗУСЫЕ С РОЗОВЫМИ ПЛОДАМИ И РАСТЕНИЯ, ОБРАЗУЮЩИЕ УСЫ С РОЗОВЫМИ ПЛОДАМИ. ПРИ СКРЕЩИВАНИИ БЕЗУСЫХ РАСТЕНИЙ С БЕЛЫМИ ПЛОДАМИ С РАСТЕНИЯМИ, ОБРАЗУЮЩИМИ УСЫ, ВСЕГДА ПОЛУЧАЛИ ТОЛЬКО РАСТЕНИЯ, ОБРАЗУЮЩИЕ УСЫ С БЕЛЫМИ ПЛОДАМИ.ОПРЕДЕЛИТЕ ГЕНОТИПЫ РОДИТЕЛЕЙ И ГИБРИДОВ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F1,  F2.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СОСТАВЬТЕ СХЕМЫ СКРЕЩИВАНИЙ. КАКОЙ ЗАКОН ПРОЯВЛЯЕТСЯ?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хема решения задач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1)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P aabb x 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(безусые с белыми плодами скрестили с образующими усы с розовыми плодами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F1 – 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образуюие усы с розовыми плодам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безусые с розовыми плодам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2) P aabb x Aab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(безусые с белыми плодами скрестили с образующими усы с белыми плодами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F2 AaBB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образующие усы с белыми плодами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15360" indent="-3153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3) проявляется закон независимого наследования признак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ЦЕПЛЕННОЕ НАСЛЕДОВ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 ЧЕЛОВЕКА КАТАРАКТА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(R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– ВРОЖДЁННОЕ ЗАБОЛЕВАНИЕ ГЛАЗ И ОДНА ИЗ ФОРМ АНЕМИИ – ЭЛЛИПТОЦИТОЗ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(W)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 НАСЛЕДУЮТСЯ СЦЕПЛЕННО, КАК АУТОСОМНО-ДОМИНАНТНЫЕ ПРИЗНАКИ. В СЕМЬЕ, ГДЕ МАТЬ ЗДОРОВА, А ОТЕЦ СТРАДАЕТ КАТАРАКТОЙ И АНЕМИЕЙ, ДВОЕ ДЕТЕЙ. СЫН УНАСЛЕДОВАЛ ПРИЗНАКИ МАТЕРИ, А ИХ ДОЧЬ – ПРИЗНАКИ ОТЦА. ДОЧЬ ВЫХОДИТ ЗАМУЖ ЗА ЗДОРОВОГО МОЛОДОГО ЧЕЛОВЕКА. КАКОЕ ПОТОМСТВО МОЖНО ОЖИДАТЬ? ОПРЕДЕЛИТЕ ГЕНОТИПЫ РОДИТЕЛЕЙ И ДЕТЕЙ, А ТАКЖЕ ГЕНОТИПЫ И ФЕНОТИПЫ ВОЗМОЖНЫХ ПОТОМКОВ. КАКОЙ ЗАКОН ПРОЯВЛЯЕТСЯ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хема решения задач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1)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P rrww x RrWw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(мать здорова у отца катаракта, анемия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F1 RrWw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( девочка с катарактой, анемией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   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rrww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(мальчик здоров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2) P RrWw x rrww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(мать с катарактой, анемией, отец здоров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F2 – RrWw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катаракта, анемия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rrww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норм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3)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гены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R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и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W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сцеплены, кроссинговер не происходит; наблюдается закон сцепленного наследования Т.Морган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ЦЕПЛЕННОЕ С ПОЛОМ НАСЛЕДОВАНИЕ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У КАНАРЕЕК НАЛИЧИЕ ХОХОЛКА НАСЛЕДУЕТСЯ КАК АУТОСОМНЫЙ ДОМИНАНТНЫЙ ПРИЗНАК, А ЗЕЛЁНАЯ ОКРАСКА ОПЕРЕНИЯ КАК ДОМИНАНТНЫЙ ПРИЗНАК, ЛОКАЛИЗОВАННЫЙ В Х-ХРОМОСОМЕ. ПРИ СКРЕЩИВАНИИ ЗЕЛЁНОГО НЕХОХЛАТОГО САМЦА С КОРИЧНЕВОЙ ХОХЛАТОЙ САМКОЙ ПОЛУЧИЛИ ПОТОМСТВО: 50% -ХОХЛАТЫЕ, 50% - БЕЗ ХОХЛА. ОПРЕДЕЛИТЕ ГЕНОТИПЫ РОДИТЕЛЕЙ, ГЕНОТИПЫ, ФЕНОТИПЫ И ПОЛ ПОТОМКОВ. КАКОВ МЕХАНИЗМ ОПРЕДЕЛЕНИЯ ПОЛА У ПТИЦ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8dbb"/>
                </a:solidFill>
                <a:latin typeface="Century Gothic"/>
              </a:rPr>
              <a:t>Схема решения задачи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1)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♀  AaX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в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Y x ♂  aaXBXB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 (коричневая хохлатая и зелёный без хохла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2)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зелёные с хохлом: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 ♂ AaXBXb , ♀ AaXBY,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зелёные без хохла: 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♂aaXBXb, ♀ aaXB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3)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гомогаметными по полу являются самцы(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XX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)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,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гетерогаметными – самки (</a:t>
            </a: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XY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8:33:25Z</dcterms:created>
  <dc:creator>user</dc:creator>
  <dc:description/>
  <dc:language>en-US</dc:language>
  <cp:lastModifiedBy>Дом</cp:lastModifiedBy>
  <dcterms:modified xsi:type="dcterms:W3CDTF">2013-11-08T12:33:01Z</dcterms:modified>
  <cp:revision>52</cp:revision>
  <dc:subject/>
  <dc:title>Решение задач по генетике</dc:title>
</cp:coreProperties>
</file>