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7BB-A2EA-44CA-A429-3E2361B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81A-7420-41B6-BA5C-8443DC09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00834B-1B81-47A2-A829-19A5832C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96E63-C49D-4264-B366-DF2AAF74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C91CA-E174-49FE-9763-B0E322E2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17C0D-4DF8-4FD8-A5A6-1F18E5D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B5921-81B0-4549-ACD1-D2FC92A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59CF48-C101-4A0C-9532-103D8311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3A100-1F03-4DAE-9910-9AEF822C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F2E13-B63B-454B-9C87-BA55032C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3384E-E12B-4E05-9A2C-58A7D2E0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846-394B-4F5F-BA7F-90C7BC09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16C-895C-4A1F-8AF8-D52F2D66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2A5F-1DBB-422F-947E-30055EA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5DE9-AB07-4C93-B676-F08B613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03FD-1D60-460F-A7A3-C2CC2C3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7DAC-96E6-4E6A-9CBD-5A77F922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34A-8DA4-4806-8809-3F21EB6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9196-EE01-4956-A7EC-843B40F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227A-19AB-410E-BC12-9F9D280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031-BD03-445B-8DC1-30A1138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3AA4-B7F0-460C-AF02-15F3D3E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0CA-0E0E-434F-9D41-9095A7A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BEBC-5C08-468B-BD98-3E00A28D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4A9A-C2B8-4C25-B945-3BAF449C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2464-26CA-4CC4-88B2-C55999E6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E83D7-D684-4905-B252-CE893869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E38D-3366-4A08-A3F2-730CDF72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9722A-AC01-423E-AF28-07B087D9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8D3C-E35A-4ECF-BA18-1618C33D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B6B6-A840-46F6-905D-FECEEAE6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C00-5B43-4DA1-BE50-49210645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8A88-43EA-4BD0-9524-1A5DD2A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54DB-51BD-4025-A020-A1F0B8A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98B4-3A52-49B4-AC24-EABC8FF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8170-B102-4A30-9F0A-4A7FA10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A26B-3CAC-4A36-BDCB-983554AD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D758-1F10-4AB4-984A-0532D833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94BE-65CD-429C-82B2-2E0FF81F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F214-7B5A-4562-97E9-CFBDF3DE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B06F-D438-4251-BD2C-9333EEDE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486F3-7775-4597-8A24-16D10E2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4A2-CDAC-4EA2-BC68-3FF91B0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9A19-CE90-4923-9CFC-E99945B7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8E3FE-5D7B-44E4-B653-CEA0FEF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06F7-6433-4805-B931-ECEC1DC3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16AA-09FF-4B45-93FA-9FC0830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C97C-BE3C-4715-9BE5-B48A0FF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21D7-1B30-4E1F-B346-8D6945E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AFA4-A5B0-4CB8-BFCC-547BFAC6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12BE-3EBF-4259-89C9-C8C18648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082A-79E5-4D54-A104-77C78D42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9C7D-473D-4FF0-AABB-62A4AB16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5CB-32B1-4812-A997-3BC86002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85622-AF9F-494C-87D1-26838028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1F91-AACA-4144-8A76-51905AED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59A4-78BC-4AF7-8AAB-F37B0B38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EBD1-8AE9-4C25-954B-6A47AD3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2CA1-B31F-48D0-AEE9-57CBC940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B417-0E70-4352-A2BB-AF4D53F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A9CD-C0E7-43A8-8FAE-A33942A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F23E-C1D4-4338-B2FF-D7F30F1C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3623-A20C-4EA6-A6BC-561399AE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A9A1-B27D-4E4C-8ED0-D8D6FC09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76E-9F3D-4123-BF9A-0D3F0CA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6D3E-22BB-4E07-9E7C-852ADB79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65256-017C-485A-AFC3-C2D5E0EA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6256-9B57-45D8-ACBB-FF820BF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37E1-12CE-4E3B-AAF3-E0D0DEC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BC06-3CF3-4FF5-821E-1725D233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12931-3E49-4154-94B2-398FE39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CDB7-E1F1-4229-8AF1-F36B69E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583D-1BD6-4E26-82BC-B9EF6ACD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0F5FA-C364-49C0-B15C-AB84CD6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8B125-81A3-4E69-B97C-371D5F6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B18-9B8F-4244-9B35-1236882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DDD2-9F05-46B0-808F-94AAFC3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091E3-C868-4FB7-B60E-E5E8AA79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0CB5-AC42-40A1-9D89-4B6C033E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9A6E5-2587-4047-8B52-16FE82F2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9B799-5E7B-4441-8DEF-3A335F18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C71378-78DD-42D6-83B2-0F891729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A8871-3204-4A42-A765-1F4E626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18E86-462B-4CB5-9159-2ADBD94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4A128-8322-4FCE-9802-C11763F1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1AB5D-62AA-475E-B31C-85DF9E0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BE5-20D8-4C86-AA5E-F42B1E9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D7894-2253-483B-B373-C634563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65715-0464-4504-9A36-E29022C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ACB61-1B2A-4FB5-BD7C-78B296A0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71FA3-B5D8-47BC-B44D-6416273E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B6D44-4B63-44F8-8568-7EEA7254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DFB01-82EC-4E64-B0F7-431C8F55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26506-51DA-4CF8-A905-C73F4159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548B-9064-4EDA-B473-C5B9FC2B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1446-4606-4230-AF5A-9FC3D2F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B7926-E690-4F0D-9C00-414120D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97E-169D-4755-AEB8-F02D0F1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0685F-56B3-4B2A-A5E3-F2C44DCA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1FF85-87B6-4405-B873-09B375A9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8767C-93DA-4492-8659-0D2096DE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A8284-03B5-4287-8A05-A1F7CF4F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A9A79-6D60-411C-8EBF-49C4969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E0C2C-65B0-4F0F-805F-4DE15E48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31153-6B70-409A-B197-B2EA91D4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C2C13C-FB8A-4A21-857E-3059A199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885574-0FA9-48F8-B18C-BF9F8E4D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7E1EA5-CCFB-4644-B73B-6825883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370-2EFB-4F71-87FA-AD13BD47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E57B-DC33-4F15-B8A3-A3CA53C368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B01-42F0-4057-BE0B-FBFBE4BCE9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B672-044D-4FC4-B97D-0A2880FA7C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D4E5-1F35-467C-ADCF-5F4CC2B096D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638A-91DB-4CA3-9B94-7C551A10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351A-3F21-43F1-882B-8C9B70CC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0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0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9F8B-A501-4313-9354-C16829047D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6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6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7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FA2E-CDC0-429E-B5AA-987AC6D0B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7.png"/><Relationship Id="rId9" Type="http://schemas.openxmlformats.org/officeDocument/2006/relationships/image" Target="../media/image9.jpeg"/><Relationship Id="rId10" Type="http://schemas.openxmlformats.org/officeDocument/2006/relationships/image" Target="../media/image8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-26712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движущими силами эволюции и результатами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- движущие силы эволю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 -  результат эволю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Приспособленность к среде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Наследственная измен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Борьба за существ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Естественный от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Многообразие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Изо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Повышение и усложнение организации.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 – 2, 3, 4, 6      Б – 1, 5, 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причинами и способами видо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– географическое (аллопатрическ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 – экологическое (симпатрическ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Расширение аре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Стабильность аре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Разделение ареала различными преград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Многообразие изменчивости особей внутри аре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Многообразие местообитаний в пределах стабильного аре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А- 1, 3, 5                                       Б –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аткая характеристика этапов антропоге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133720"/>
                <a:gridCol w="1158840"/>
                <a:gridCol w="1050840"/>
                <a:gridCol w="1828800"/>
                <a:gridCol w="205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Этапы антропогене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Время жиз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бъём моз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обенности стр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обенности образа жи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опите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ум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прямоходяч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ендертал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оманьоне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дача №1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2612520"/>
            <a:ext cx="769320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 системе органического мира человек стоит на его вершине. Объясните, почему человека относят к классу млекопитающих, отряду приматов. Почему человека не выделяют в особое царство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Задача №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ногда у человека появляются атавизмы - признаки, свойственные его предкам. Используя знания по генетике, объясните причины появления у человека атавизмов. О чём они свидетельствую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8600" y="3716280"/>
            <a:ext cx="85392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а №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ажнейшие отличительные особенности в строении человека связаны с его прямохождением. Под влиянием каких факторов возникло прямохождение? Какое это оказало влияние на дальнейшую эволюцию челове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дача №4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очему человек сумел выжить в эпоху великого оледенения, а многие млекопитающие погибли?  Могли ли только движущие силы эволюции привести  к появлению человека разумного? Почем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араграф 43, до слов «Важным для понимания…» стр. 17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оль огня в антропогенезе (индивидуально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Я уверен, что… 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ahoma"/>
              </a:rPr>
              <a:t>Так как считаю, что… .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особ видообразов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4956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6172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ыжая ли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6172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ярная лис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особ видообразов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419720" cy="4525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810440" y="633564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ти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62485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тик полз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1104876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105520" y="5305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 прекра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 на ней челове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Есе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32907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ории возникновения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572000" cy="32907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6621480" cy="4011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human1-7"/>
          <p:cNvPicPr/>
          <p:nvPr/>
        </p:nvPicPr>
        <p:blipFill>
          <a:blip r:embed="rId4"/>
          <a:stretch/>
        </p:blipFill>
        <p:spPr>
          <a:xfrm>
            <a:off x="5105520" y="2438280"/>
            <a:ext cx="1692000" cy="38372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5"/>
          <a:stretch/>
        </p:blipFill>
        <p:spPr>
          <a:xfrm>
            <a:off x="6248520" y="2895480"/>
            <a:ext cx="2895480" cy="3962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0" y="533520"/>
            <a:ext cx="4572000" cy="329076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838080" y="1447920"/>
            <a:ext cx="6621480" cy="4011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8"/>
          <a:stretch/>
        </p:blipFill>
        <p:spPr>
          <a:xfrm>
            <a:off x="0" y="533520"/>
            <a:ext cx="4572000" cy="3290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human1-7"/>
          <p:cNvPicPr/>
          <p:nvPr/>
        </p:nvPicPr>
        <p:blipFill>
          <a:blip r:embed="rId9"/>
          <a:stretch/>
        </p:blipFill>
        <p:spPr>
          <a:xfrm>
            <a:off x="5105520" y="2438280"/>
            <a:ext cx="1692000" cy="38372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0"/>
          <a:stretch/>
        </p:blipFill>
        <p:spPr>
          <a:xfrm>
            <a:off x="838080" y="1447920"/>
            <a:ext cx="6621480" cy="40114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1"/>
          <a:stretch/>
        </p:blipFill>
        <p:spPr>
          <a:xfrm>
            <a:off x="0" y="533520"/>
            <a:ext cx="4572000" cy="32907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2"/>
          <a:stretch/>
        </p:blipFill>
        <p:spPr>
          <a:xfrm>
            <a:off x="838080" y="1447920"/>
            <a:ext cx="6621480" cy="40114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human1-7"/>
          <p:cNvPicPr/>
          <p:nvPr/>
        </p:nvPicPr>
        <p:blipFill>
          <a:blip r:embed="rId13"/>
          <a:stretch/>
        </p:blipFill>
        <p:spPr>
          <a:xfrm>
            <a:off x="5105520" y="2438280"/>
            <a:ext cx="1692000" cy="38372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14"/>
          <a:stretch/>
        </p:blipFill>
        <p:spPr>
          <a:xfrm>
            <a:off x="6248520" y="2895480"/>
            <a:ext cx="2895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ап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исхождения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иопит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1856 г. во Франции отыскали части скелета дриопитека, обитавшего в миоцене (20–25 млн лет назад), пращура шимпанзе, гориллы и человека.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дриопитек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т до 1 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гли частично передвигаться на задних конечност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ршили движения конечностями с размахом более 180°, что позволяло легко передвигаться по ветвя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рошо развитые челюсти и острые зубы для питания плодами, коренья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бовали плоды, идущие в пищу,– это развивало моторику кистей ру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реоскопическое зрение и перемещение глазниц на фронтальную плоск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осидение позволило освободить ру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реженный волосяной покр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ая плодовитость компенсировалась заботой матери и тщательным уходом за детеныш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 биологической эволю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разный позвон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 раскрытые кости таза, сросшиеся с крестц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дная клетка расширина по бокам, но сужина в спинно-брющном на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линение нижних и укорочение верхних конеч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топе – свод, крупная пяточная к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ть более подвижна, она орган исследования,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епе затылочное отверстие смещено к зади и н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ет надбровный вал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ой отдел становится больше лицев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яется подбородочный выст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больших полушарий головного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 зрения – дневного типа, укорачивается но, становится подвижной верхняя г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ились зубы, укорачивается аппенд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ждение одного детёныша, который долго растят и воспит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3-10-29T19:00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