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656-90B4-4B55-B959-E5AD8F6A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CA5-59F9-486E-88B2-0BEC093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E47-E70E-4B8F-97C9-12661873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44A-673D-4EB8-8624-3388215E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04B-E272-4E35-BA88-650D29B8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66B0-55AF-4FFC-9C64-D2539AFD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C80-57BE-4803-9B80-5E550E18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6CA-00A3-475C-9B63-E8CC8AC5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B27D-F17B-492A-817C-FC18126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138-0464-4F8C-9C3C-F6204576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BAAC-038E-42E1-8A55-A5D7E95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A4E-8733-4CCF-80AD-C1F41F2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D16-A35D-4574-888F-B2C5E65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E94E-CCAF-44CE-B76C-8B96A30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E273-1379-4BA8-92A5-D0F907F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92F2-4A2A-48B5-9DDF-E28E7B4C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DD92-998C-4778-A93D-053DC79D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0147-4AA2-4AE9-9AE9-DD74FC5E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0ED9-DE61-4AB9-923D-BCC6EDC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F820-7F0C-47E6-A251-2C607334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801CE-020C-4EFF-9196-505F099B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7859-B57F-4BF8-AC61-87AFDB3C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9E0-7809-490D-B703-679BEA0D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DE2E-E6BA-4889-B856-6AE9EEE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6CAE-7638-4623-8D1A-575D437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6B93-E9FE-4F9D-84F0-131C295A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18AF-DA45-42E0-AACC-E2368011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159B-643A-47B6-893E-D14051E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95E3-1FB6-4136-BE87-FB5635AB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4863-CF38-489F-9AFC-BE142991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49F3B-5AF9-401E-99DF-BFA1C3DA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DD1E-8566-446C-8039-2BD5CAAA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2BEB-6520-4AC4-9CF4-A97171DC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89D-A690-4FD2-A5B8-ECA4A41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C58C-F87E-4BAC-8406-245DB4C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ADEE-2F4D-4DB1-9687-B0515659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41C2-05BB-4063-A888-A6E57BF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8246-CFA0-45C1-9376-DF8B395D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1234-8BD6-4A72-8ABA-5B13980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234D-B10D-4561-9D31-88E0C31F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CC29-381B-4D80-A3FA-E4898405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39D3-219B-484A-A5DE-59BFA358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0703-95F5-41CF-974C-329F79EF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005-B9A1-4B8F-A791-4FDF90B5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7D0-B5B2-45AA-A2F1-FBF4B1BA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468-E377-4EFE-AFCE-F4DD621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A66-275B-48FD-8504-C1631D6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055-8A0D-402D-9F63-271BFB5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5AF3-47AF-417C-AACE-5DD08B5384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2BC2-A66C-44D9-86CD-1AD76F55E0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467B-4B2D-46AB-BBB6-A8EFC5409D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F02B-6461-4BB7-A466-E1A4EAF46C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2"/>
          <p:cNvSpPr/>
          <p:nvPr/>
        </p:nvSpPr>
        <p:spPr>
          <a:xfrm>
            <a:off x="793800" y="166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5964"/>
                </a:solidFill>
                <a:latin typeface="Segoe Script"/>
              </a:rPr>
              <a:t>«Сказка о жабе и роз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"/>
          <p:cNvPicPr/>
          <p:nvPr/>
        </p:nvPicPr>
        <p:blipFill>
          <a:blip r:embed="rId1"/>
          <a:stretch/>
        </p:blipFill>
        <p:spPr>
          <a:xfrm>
            <a:off x="2844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3"/>
          <p:cNvSpPr/>
          <p:nvPr/>
        </p:nvSpPr>
        <p:spPr>
          <a:xfrm>
            <a:off x="4284720" y="549360"/>
            <a:ext cx="45352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Segoe Print"/>
                <a:ea typeface="DokChampa"/>
              </a:rPr>
              <a:t>Всевол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Segoe Print"/>
                <a:ea typeface="DokChampa"/>
              </a:rPr>
              <a:t>Михайл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Segoe Print"/>
                <a:ea typeface="DokChampa"/>
              </a:rPr>
              <a:t>Гаршин </a:t>
            </a:r>
            <a:br>
              <a:rPr sz="4000"/>
            </a:br>
            <a:r>
              <a:rPr b="1" lang="ru-RU" sz="3200" spc="-1" strike="noStrike">
                <a:solidFill>
                  <a:srgbClr val="115964"/>
                </a:solidFill>
                <a:latin typeface="Segoe Print"/>
              </a:rPr>
              <a:t>(1855-18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3" descr="MCj03561630000[1]"/>
          <p:cNvPicPr/>
          <p:nvPr/>
        </p:nvPicPr>
        <p:blipFill>
          <a:blip r:embed="rId2"/>
          <a:stretch/>
        </p:blipFill>
        <p:spPr>
          <a:xfrm>
            <a:off x="468360" y="5445000"/>
            <a:ext cx="1816200" cy="1105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4" descr="61af02a9427003c61827317d4ef1b004"/>
          <p:cNvPicPr/>
          <p:nvPr/>
        </p:nvPicPr>
        <p:blipFill>
          <a:blip r:embed="rId3"/>
          <a:stretch/>
        </p:blipFill>
        <p:spPr>
          <a:xfrm>
            <a:off x="7175520" y="5084640"/>
            <a:ext cx="1968480" cy="1592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Users\3-класс\Desktop\photo2.jpg"/>
          <p:cNvPicPr/>
          <p:nvPr/>
        </p:nvPicPr>
        <p:blipFill>
          <a:blip r:embed="rId4"/>
          <a:stretch/>
        </p:blipFill>
        <p:spPr>
          <a:xfrm>
            <a:off x="468360" y="765000"/>
            <a:ext cx="3527280" cy="453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3-класс\Desktop\imgres.jpg"/>
          <p:cNvPicPr/>
          <p:nvPr/>
        </p:nvPicPr>
        <p:blipFill>
          <a:blip r:embed="rId1"/>
          <a:stretch/>
        </p:blipFill>
        <p:spPr>
          <a:xfrm>
            <a:off x="1116000" y="549360"/>
            <a:ext cx="7632720" cy="590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4" descr=""/>
          <p:cNvPicPr/>
          <p:nvPr/>
        </p:nvPicPr>
        <p:blipFill>
          <a:blip r:embed="rId2"/>
          <a:stretch/>
        </p:blipFill>
        <p:spPr>
          <a:xfrm>
            <a:off x="682560" y="262080"/>
            <a:ext cx="7851960" cy="1365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826920" y="5876640"/>
            <a:ext cx="7855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495c"/>
                </a:solidFill>
                <a:latin typeface="Segoe Script"/>
              </a:rPr>
              <a:t>Что объединяло всех героев произведен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495c"/>
                </a:solidFill>
                <a:latin typeface="Segoe Script"/>
              </a:rPr>
              <a:t>ЦВЕТН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7" descr="C:\Users\VAIO\Desktop\РОЗЫ\ris-boy-and-girl1.jpg"/>
          <p:cNvPicPr/>
          <p:nvPr/>
        </p:nvPicPr>
        <p:blipFill>
          <a:blip r:embed="rId3"/>
          <a:stretch/>
        </p:blipFill>
        <p:spPr>
          <a:xfrm>
            <a:off x="826920" y="4076640"/>
            <a:ext cx="201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C:\Users\VAIO\Desktop\РОЗЫ\ris-boy-and-girl8.jpg"/>
          <p:cNvPicPr/>
          <p:nvPr/>
        </p:nvPicPr>
        <p:blipFill>
          <a:blip r:embed="rId4"/>
          <a:stretch/>
        </p:blipFill>
        <p:spPr>
          <a:xfrm>
            <a:off x="4572000" y="3933720"/>
            <a:ext cx="2160720" cy="187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C:\Users\3-класс\Desktop\search.jpg"/>
          <p:cNvPicPr/>
          <p:nvPr/>
        </p:nvPicPr>
        <p:blipFill>
          <a:blip r:embed="rId5"/>
          <a:stretch/>
        </p:blipFill>
        <p:spPr>
          <a:xfrm>
            <a:off x="755640" y="1585800"/>
            <a:ext cx="2808360" cy="227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C:\Users\3-класс\Desktop\images.jpg"/>
          <p:cNvPicPr/>
          <p:nvPr/>
        </p:nvPicPr>
        <p:blipFill>
          <a:blip r:embed="rId6"/>
          <a:stretch/>
        </p:blipFill>
        <p:spPr>
          <a:xfrm>
            <a:off x="5165640" y="1600200"/>
            <a:ext cx="3133800" cy="227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90544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ни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3-класс\Desktop\77008720_large_ryadom_s_rozoy-e1313574453631.jpg"/>
          <p:cNvPicPr/>
          <p:nvPr/>
        </p:nvPicPr>
        <p:blipFill>
          <a:blip r:embed="rId1"/>
          <a:stretch/>
        </p:blipFill>
        <p:spPr>
          <a:xfrm>
            <a:off x="324000" y="1341360"/>
            <a:ext cx="7632720" cy="518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3-класс\Desktop\551023.jpg"/>
          <p:cNvPicPr/>
          <p:nvPr/>
        </p:nvPicPr>
        <p:blipFill>
          <a:blip r:embed="rId2"/>
          <a:stretch/>
        </p:blipFill>
        <p:spPr>
          <a:xfrm>
            <a:off x="0" y="-171360"/>
            <a:ext cx="9325080" cy="72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2"/>
          <p:cNvSpPr/>
          <p:nvPr/>
        </p:nvSpPr>
        <p:spPr>
          <a:xfrm>
            <a:off x="684360" y="907920"/>
            <a:ext cx="7848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5964"/>
                </a:solidFill>
                <a:latin typeface="Segoe Script"/>
              </a:rPr>
              <a:t>Олицетворение-</a:t>
            </a:r>
            <a:br>
              <a:rPr sz="4800"/>
            </a:br>
            <a:r>
              <a:rPr b="0" lang="ru-RU" sz="4800" spc="-1" strike="noStrike">
                <a:solidFill>
                  <a:srgbClr val="115964"/>
                </a:solidFill>
                <a:latin typeface="Segoe Script"/>
              </a:rPr>
              <a:t>наделение предметов,</a:t>
            </a:r>
            <a:br>
              <a:rPr sz="4800"/>
            </a:br>
            <a:r>
              <a:rPr b="0" lang="ru-RU" sz="4800" spc="-1" strike="noStrike">
                <a:solidFill>
                  <a:srgbClr val="115964"/>
                </a:solidFill>
                <a:latin typeface="Segoe Script"/>
              </a:rPr>
              <a:t> явлений природы</a:t>
            </a:r>
            <a:br>
              <a:rPr sz="4800"/>
            </a:br>
            <a:r>
              <a:rPr b="0" lang="ru-RU" sz="4800" spc="-1" strike="noStrike">
                <a:solidFill>
                  <a:srgbClr val="115964"/>
                </a:solidFill>
                <a:latin typeface="Segoe Script"/>
              </a:rPr>
              <a:t> чувствами, настроением, способностями, характером человек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5964"/>
                </a:solidFill>
                <a:latin typeface="Segoe Script"/>
              </a:rPr>
              <a:t>Эпитет-</a:t>
            </a:r>
            <a:br>
              <a:rPr sz="4800"/>
            </a:br>
            <a:r>
              <a:rPr b="0" lang="ru-RU" sz="4800" spc="-1" strike="noStrike">
                <a:solidFill>
                  <a:srgbClr val="04617b"/>
                </a:solidFill>
                <a:latin typeface="Segoe Script"/>
              </a:rPr>
              <a:t>слово или целое выражение, которое, помогает слову (выражению) обрести красочность, насыщенность.</a:t>
            </a:r>
            <a:br>
              <a:rPr sz="3600"/>
            </a:br>
            <a:br>
              <a:rPr sz="36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2" descr=""/>
          <p:cNvPicPr/>
          <p:nvPr/>
        </p:nvPicPr>
        <p:blipFill>
          <a:blip r:embed="rId2"/>
          <a:stretch/>
        </p:blipFill>
        <p:spPr>
          <a:xfrm>
            <a:off x="536400" y="-139680"/>
            <a:ext cx="8107560" cy="544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5:14Z</dcterms:created>
  <dc:creator>user</dc:creator>
  <dc:description/>
  <dc:language>en-US</dc:language>
  <cp:lastModifiedBy>3-класс</cp:lastModifiedBy>
  <dcterms:modified xsi:type="dcterms:W3CDTF">2014-12-04T14:47:53Z</dcterms:modified>
  <cp:revision>126</cp:revision>
  <dc:subject/>
  <dc:title>…Когда она в первый раз увидела цветок своими злыми глазами, что-то странное зашевелилось в её сердце. Она не могла оторваться от нежных лепестков, всё смотрела и смотрела.</dc:title>
</cp:coreProperties>
</file>