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BCA-B678-4574-B966-8D1EDF3E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3EB-10C0-4CAD-9E35-A0694E0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F83-406A-4B7B-A7A0-3265D8DE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CF2-46F5-42BD-BAFD-A5CCF82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26E2-24EB-454A-A3B9-8876B620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465-3681-43EB-9558-566DA7C0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E53-B8A4-4FF5-A0A4-4685A81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1859-31F0-4D27-83ED-7C7444FB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ECD9-B2BA-44A5-9610-0A422B9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DD5-D49A-43FE-9BC8-A976A8C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4E17-134D-4A9F-ACD1-ACE06BE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CF1-72BE-4D21-8217-CE4ACDA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618E-7363-4DDF-8986-CA57CAA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CF9-1C92-40E9-B60B-E586250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1429-83B6-419E-B11C-3796C0C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6E57-1037-4ECB-B843-44AFEAC2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084-1916-4E57-8575-3B0CBBE5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5A7-9741-422A-873E-4724F8B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700-FB1A-4FCF-A82A-8548D50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200-8F88-48F3-A4CD-8732E42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2FA-5C6D-43AB-9E55-F822A5D5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656-E5B5-41FD-9EEA-3759939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936-F644-4EDF-AD39-6EFD64D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271-6541-45C3-BAF6-385FFCE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A1E-AEF7-4A6D-872E-DB5FE97B5D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B985-D7F4-4CF7-B089-318ADD446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User\Рабочий стол\4136521.jpg"/>
          <p:cNvPicPr/>
          <p:nvPr/>
        </p:nvPicPr>
        <p:blipFill>
          <a:blip r:embed="rId1"/>
          <a:stretch/>
        </p:blipFill>
        <p:spPr>
          <a:xfrm>
            <a:off x="857160" y="857160"/>
            <a:ext cx="6572520" cy="5670720"/>
          </a:xfrm>
          <a:prstGeom prst="rect">
            <a:avLst/>
          </a:prstGeom>
          <a:ln w="0">
            <a:noFill/>
          </a:ln>
        </p:spPr>
      </p:pic>
      <p:pic>
        <p:nvPicPr>
          <p:cNvPr id="99" name="WordArt 4" descr=""/>
          <p:cNvPicPr/>
          <p:nvPr/>
        </p:nvPicPr>
        <p:blipFill>
          <a:blip r:embed="rId2"/>
          <a:stretch/>
        </p:blipFill>
        <p:spPr>
          <a:xfrm>
            <a:off x="182520" y="189000"/>
            <a:ext cx="5237280" cy="149364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5" descr=""/>
          <p:cNvPicPr/>
          <p:nvPr/>
        </p:nvPicPr>
        <p:blipFill>
          <a:blip r:embed="rId3"/>
          <a:stretch/>
        </p:blipFill>
        <p:spPr>
          <a:xfrm>
            <a:off x="2451240" y="4937040"/>
            <a:ext cx="6271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олнышко анимация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180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0" y="29880"/>
            <a:ext cx="8929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- Солнышко, солныш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Мы твои луч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858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Быть людьми хорошими – ты нас   научи!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57168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бота в пар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cnm"/>
          <p:cNvPicPr/>
          <p:nvPr/>
        </p:nvPicPr>
        <p:blipFill>
          <a:blip r:embed="rId1"/>
          <a:stretch/>
        </p:blipFill>
        <p:spPr>
          <a:xfrm>
            <a:off x="2050920" y="1341360"/>
            <a:ext cx="5040360" cy="3087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57120" y="4813200"/>
            <a:ext cx="857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b78"/>
                </a:solidFill>
                <a:latin typeface="Arial"/>
              </a:rPr>
              <a:t>У вас на парте лежит листок со стихотворением. Подчеркните те слова , которые вы считаете важными, дорогими, добрыми, замечательными, скромными, влия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85880" y="216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ru-RU" sz="3600" spc="-1" strike="noStrike">
                <a:solidFill>
                  <a:srgbClr val="0837bc"/>
                </a:solidFill>
                <a:latin typeface="Times New Roman"/>
                <a:ea typeface="Calibri"/>
              </a:rPr>
              <a:t>«Путешествие в прошло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428760" y="1428840"/>
            <a:ext cx="828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2e"/>
                </a:solidFill>
                <a:latin typeface="Arial"/>
              </a:rPr>
              <a:t>Вежа </a:t>
            </a:r>
            <a:r>
              <a:rPr b="0" lang="ru-RU" sz="3200" spc="-1" strike="noStrike">
                <a:solidFill>
                  <a:srgbClr val="001d2e"/>
                </a:solidFill>
                <a:latin typeface="Arial"/>
              </a:rPr>
              <a:t>– от слов «ведать», «знать». </a:t>
            </a:r>
            <a:r>
              <a:rPr b="1" i="1" lang="ru-RU" sz="3200" spc="-1" strike="noStrike">
                <a:solidFill>
                  <a:srgbClr val="001d2e"/>
                </a:solidFill>
                <a:latin typeface="Arial"/>
              </a:rPr>
              <a:t>Вежа </a:t>
            </a:r>
            <a:r>
              <a:rPr b="0" lang="ru-RU" sz="3200" spc="-1" strike="noStrike">
                <a:solidFill>
                  <a:srgbClr val="001d2e"/>
                </a:solidFill>
                <a:latin typeface="Arial"/>
              </a:rPr>
              <a:t>– человек, который знает, как вести себя в той или иной обстановке. Отсюда и «вежество», позднее превратившееся в «вежливост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2e"/>
                </a:solidFill>
                <a:latin typeface="Arial"/>
              </a:rPr>
              <a:t>Вежество</a:t>
            </a:r>
            <a:r>
              <a:rPr b="0" lang="ru-RU" sz="3200" spc="-1" strike="noStrike">
                <a:solidFill>
                  <a:srgbClr val="001d2e"/>
                </a:solidFill>
                <a:latin typeface="Arial"/>
              </a:rPr>
              <a:t> - качество ценное и обязательное. Поэтому учили вежеству в школах наряду с грамотой, математ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Книга &quot;Волшебная иголочка&quot; - Валентина Осеева. Купить книгу, читать рецензии ISBN 978-5-389-04098-4 Лабиринт"/>
          <p:cNvPicPr/>
          <p:nvPr/>
        </p:nvPicPr>
        <p:blipFill>
          <a:blip r:embed="rId1"/>
          <a:stretch/>
        </p:blipFill>
        <p:spPr>
          <a:xfrm>
            <a:off x="228600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all_leaves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4788000" y="1989000"/>
            <a:ext cx="3055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476360" y="476280"/>
            <a:ext cx="430056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обрый д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71640" y="472428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дравствуй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324000" y="2133720"/>
            <a:ext cx="38163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ростит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жалуй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826920" y="1125360"/>
            <a:ext cx="3673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До свид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3492360" y="3716280"/>
            <a:ext cx="3672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ожалуй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539640" y="633420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рево вежливост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миха"/>
          <p:cNvPicPr/>
          <p:nvPr/>
        </p:nvPicPr>
        <p:blipFill>
          <a:blip r:embed="rId1"/>
          <a:srcRect l="36410" t="11777" r="36664" b="18233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8" name="WordArt 6" descr=""/>
          <p:cNvPicPr/>
          <p:nvPr/>
        </p:nvPicPr>
        <p:blipFill>
          <a:blip r:embed="rId2"/>
          <a:stretch/>
        </p:blipFill>
        <p:spPr>
          <a:xfrm>
            <a:off x="542880" y="4809960"/>
            <a:ext cx="797868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9:15:39Z</dcterms:created>
  <dc:creator>User</dc:creator>
  <dc:description/>
  <dc:language>en-US</dc:language>
  <cp:lastModifiedBy>User</cp:lastModifiedBy>
  <dcterms:modified xsi:type="dcterms:W3CDTF">2015-01-14T18:35:22Z</dcterms:modified>
  <cp:revision>58</cp:revision>
  <dc:subject/>
  <dc:title>Слайд 1</dc:title>
</cp:coreProperties>
</file>