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3.gif" ContentType="image/gif"/>
  <Override PartName="/ppt/media/image5.png" ContentType="image/png"/>
  <Override PartName="/ppt/media/image13.jpeg" ContentType="image/jpeg"/>
  <Override PartName="/ppt/media/image23.png" ContentType="image/png"/>
  <Override PartName="/ppt/media/image22.gif" ContentType="image/gif"/>
  <Override PartName="/ppt/media/image17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7.png" ContentType="image/pn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CF-F7B5-47AB-B242-CF647333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095-F57D-48F5-AF73-D0FB7F77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330-72F2-4838-B7F7-9C95B3CF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9EA-D4E7-4E15-9B0A-817BFF4A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FD5-1E80-4819-8A8A-8763BD8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9C6-D102-4487-9F8E-1767A7D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809-3F7A-4A5B-B1D6-E3D171B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0D4-23F5-4B87-8FC4-668AA518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4D3-3F5B-4E00-9BF8-7D2A3108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905-BBA8-45A0-A969-E0F84BB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B8A-D4EC-4610-B95D-55FCF27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D47-7A4C-4E8A-A8A5-F10034A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3C1-E214-41B3-BF24-8591839106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zumrudnygorod.narod.ru/A0VSfon.htm" TargetMode="External"/><Relationship Id="rId2" Type="http://schemas.openxmlformats.org/officeDocument/2006/relationships/hyperlink" Target="http://officeimg.vo.msecnd.net/en-us/images/MH900041154.gif" TargetMode="External"/><Relationship Id="rId3" Type="http://schemas.openxmlformats.org/officeDocument/2006/relationships/hyperlink" Target="http://officeimg.vo.msecnd.net/en-us/images/MB900401426.jpg" TargetMode="External"/><Relationship Id="rId4" Type="http://schemas.openxmlformats.org/officeDocument/2006/relationships/hyperlink" Target="http://planetaskazok.ru/images/stories/volkov/volshebnik_izumrudnogo_goroda/img_14.jpg" TargetMode="External"/><Relationship Id="rId5" Type="http://schemas.openxmlformats.org/officeDocument/2006/relationships/hyperlink" Target="http://www.klass39.ru/wp-content/uploads/2013/02/0_9b418_4de3b32c_XL.jpg" TargetMode="External"/><Relationship Id="rId6" Type="http://schemas.openxmlformats.org/officeDocument/2006/relationships/hyperlink" Target="http://go2.imgsmail.ru/imgpreview?key=http://volkov.anuta.org/volsh/images/1_7.png&amp;mb=imgdb_preview_1150" TargetMode="External"/><Relationship Id="rId7" Type="http://schemas.openxmlformats.org/officeDocument/2006/relationships/hyperlink" Target="http://go2.imgsmail.ru/imgpreview?key=http://mashinku.ru/wp-content/uploads/audio-knigi/volshebnik_izumrudnogo_goroda/59.jpg&amp;mb=imgdb_preview_1433" TargetMode="External"/><Relationship Id="rId8" Type="http://schemas.openxmlformats.org/officeDocument/2006/relationships/hyperlink" Target="http://go2.imgsmail.ru/imgpreview?key=http://povelitelisnov.ru/wp-content/uploads/2013/02/post-68520-1225479133-600x355.jpg&amp;mb=imgdb_preview_1302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5680" y="231840"/>
            <a:ext cx="8961480" cy="4284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776320" y="5300640"/>
            <a:ext cx="386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тина Ирина Вяче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 СОШ №10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58920" y="205200"/>
            <a:ext cx="87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опасть в замок волшебника Изумрудного города, Элли и ее друзьям надо пройти через несколько ворот. Перед каждыми воротами стоит по 5 стражников. Перед замком стоит еще 8 стражников. Через сколько ворот надо пройти героям, если всего на их пути встретится 28 страж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http://go2.imgsmail.ru/imgpreview?key=http%3A//povelitelisnov.ru/wp-content/uploads/2013/02/post-68520-1225479133-600x355.jpg&amp;mb=imgdb_preview_1302"/>
          <p:cNvPicPr/>
          <p:nvPr/>
        </p:nvPicPr>
        <p:blipFill>
          <a:blip r:embed="rId1"/>
          <a:stretch/>
        </p:blipFill>
        <p:spPr>
          <a:xfrm>
            <a:off x="3059280" y="3736800"/>
            <a:ext cx="4752720" cy="28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go2.imgsmail.ru/imgpreview?key=http%3A//www.graycell.ru/picture/big/gudvin.jpg&amp;mb=imgdb_preview_1004"/>
          <p:cNvPicPr/>
          <p:nvPr/>
        </p:nvPicPr>
        <p:blipFill>
          <a:blip r:embed="rId2"/>
          <a:stretch/>
        </p:blipFill>
        <p:spPr>
          <a:xfrm>
            <a:off x="2987640" y="3645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836640"/>
          <a:ext cx="9144000" cy="3887640"/>
        </p:xfrm>
        <a:graphic>
          <a:graphicData uri="http://schemas.openxmlformats.org/drawingml/2006/table">
            <a:tbl>
              <a:tblPr/>
              <a:tblGrid>
                <a:gridCol w="6588000"/>
                <a:gridCol w="2556000"/>
              </a:tblGrid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ческий дикт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значения выра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ощение выра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урав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2"/>
          <p:cNvSpPr/>
          <p:nvPr/>
        </p:nvSpPr>
        <p:spPr>
          <a:xfrm>
            <a:off x="1977120" y="0"/>
            <a:ext cx="51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0" y="4804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и:   23-24 балла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-22 балла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3-18 баллов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и менее – «2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20.rimg.info/af52a8edfa39ee140d401c73d8f46b66.gif"/>
          <p:cNvPicPr/>
          <p:nvPr/>
        </p:nvPicPr>
        <p:blipFill>
          <a:blip r:embed="rId1"/>
          <a:stretch/>
        </p:blipFill>
        <p:spPr>
          <a:xfrm>
            <a:off x="7524720" y="803160"/>
            <a:ext cx="1224000" cy="1249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gifportal.ru/data/smiles/emocii-1854.gif"/>
          <p:cNvPicPr/>
          <p:nvPr/>
        </p:nvPicPr>
        <p:blipFill>
          <a:blip r:embed="rId2"/>
          <a:stretch/>
        </p:blipFill>
        <p:spPr>
          <a:xfrm>
            <a:off x="7524720" y="2708280"/>
            <a:ext cx="1193760" cy="1195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gifportal.ru/data/smiles/emocii-1616.gif"/>
          <p:cNvPicPr/>
          <p:nvPr/>
        </p:nvPicPr>
        <p:blipFill>
          <a:blip r:embed="rId3"/>
          <a:stretch/>
        </p:blipFill>
        <p:spPr>
          <a:xfrm>
            <a:off x="7524720" y="4508640"/>
            <a:ext cx="1189080" cy="1190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853920" y="90792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се понятно, у м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луч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916560" y="2711520"/>
            <a:ext cx="450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е очень понят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стараюсь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954720" y="4581360"/>
            <a:ext cx="56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ичего не понят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 и источн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умаева О.А. Математика. 5 класс. Поурочное планирование. – Саратов: Лицей,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бединцева Е.А., Беленкова Е.Ю. Математика 5 класс. Тетрадь 1.Задания для обучения и развития учащихся. – М.:Интеллект-Центр,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zumrudnygorod.narod.ru/A0VSfon.ht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officeimg.vo.msecnd.net/en-us/images/MH900041154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officeimg.vo.msecnd.net/en-us/images/MB90040142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planetaskazok.ru/images/stories/volkov/volshebnik_izumrudnogo_goroda/img_14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klass39.ru/wp-content/uploads/2013/02/0_9b418_4de3b32c_XL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go2.imgsmail.ru/imgpreview?key=http%3A//volkov.anuta.org/volsh/images/1%5F7.png&amp;mb=imgdb_preview_11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go2.imgsmail.ru/imgpreview?key=http%3A//mashinku.ru/wp-content/uploads/audio-knigi/volshebnik%5Fizumrudnogo%5Fgoroda/59.jpg&amp;mb=imgdb_preview_14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o2.imgsmail.ru/imgpreview?key=http%3A//povelitelisnov.ru/wp-content/uploads/2013/02/post-68520-1225479133-600x355.jpg&amp;mb=imgdb_preview_13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o4.imgsmail.ru/imgpreview?key=http%3A//repa4ok.biz/uploads/posts/2011-10/1318940323%5F1.jpg&amp;mb=imgdb_preview_17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lsoft.ru/upload/screenshots/b51/b51f4af462e5eea186da82e743d16b22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fficeimg.vo.msecnd.net/en-us/images/MB90043637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&amp;Tcy;&amp;iecy;&amp;mcy;&amp;ncy;&amp;ocy;&amp;iecy; &amp;vcy;&amp;ocy;&amp;rcy;&amp;ocy;&amp;ncy;&amp;kcy;&amp;ocy;&amp;ocy;&amp;bcy;&amp;rcy;&amp;acy;&amp;zcy;&amp;ncy;&amp;ocy;&amp;iecy; &amp;ocy;&amp;bcy;&amp;lcy;&amp;acy;&amp;kcy;&amp;ocy; &amp;ncy;&amp;acy; &amp;ocy;&amp;tcy;&amp;kcy;&amp;rcy;&amp;ycy;&amp;tcy;&amp;ocy;&amp;jcy; &amp;mcy;&amp;iecy;&amp;scy;&amp;tcy;&amp;ncy;&amp;ocy;&amp;scy;&amp;tcy;&amp;icy;"/>
          <p:cNvPicPr/>
          <p:nvPr/>
        </p:nvPicPr>
        <p:blipFill>
          <a:blip r:embed="rId1"/>
          <a:srcRect l="0" t="16752" r="0" b="171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&amp;Pcy;&amp;rcy;&amp;ocy;&amp;scy;&amp;mcy;&amp;ocy;&amp;tcy;&amp;rcy;&amp;iecy;&amp;tcy;&amp;softcy; &amp;pcy;&amp;ocy;&amp;dcy;&amp;rcy;&amp;ocy;&amp;bcy;&amp;ncy;&amp;ocy;&amp;scy;&amp;tcy;&amp;icy;"/>
          <p:cNvPicPr/>
          <p:nvPr/>
        </p:nvPicPr>
        <p:blipFill>
          <a:blip r:embed="rId2"/>
          <a:stretch/>
        </p:blipFill>
        <p:spPr>
          <a:xfrm>
            <a:off x="-2340000" y="4076640"/>
            <a:ext cx="27352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51 -0.02173 C 0.18195 -0.11537 0.25556 -0.20855 0.2948 -0.22266 C 0.33403 -0.23676 0.34914 -0.12254 0.34428 -0.10636 C 0.33941 -0.09017 0.254 -0.08254 0.26563 -0.12555 C 0.27726 -0.16855 0.3731 -0.34358 0.41441 -0.36439 C 0.45573 -0.38543 0.51407 -0.2793 0.51337 -0.25017 C 0.51285 -0.22104 0.40938 -0.14867 0.41077 -0.1889 C 0.41233 -0.22913 0.44827 -0.44763 0.52205 -0.49133 C 0.59584 -0.53503 0.83664 -0.48439 0.85348 -0.45133 C 0.87032 -0.41826 0.6408 -0.27167 0.62275 -0.29248 C 0.60487 -0.31329 0.68369 -0.52231 0.74584 -0.57595 C 0.80782 -0.62959 0.95608 -0.63445 0.99532 -0.6141 C 1.03455 -0.59375 0.99896 -0.44555 0.9816 -0.45341 C 0.96424 -0.46127 0.85539 -0.61295 0.89115 -0.66058 C 0.92709 -0.70821 1.14601 -0.72716 1.19705 -0.73873 E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 математического дикта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78100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˅ </a:t>
            </a:r>
            <a:r>
              <a:rPr b="1" lang="ru-RU" sz="6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˅</a:t>
            </a:r>
            <a:r>
              <a:rPr b="1" lang="ru-RU" sz="6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˅˅ </a:t>
            </a:r>
            <a:r>
              <a:rPr b="1" lang="ru-RU" sz="6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http://izumrudnygorod.narod.ru/A0VSfon/A0VSfon2.gif"/>
          <p:cNvPicPr/>
          <p:nvPr/>
        </p:nvPicPr>
        <p:blipFill>
          <a:blip r:embed="rId1"/>
          <a:stretch/>
        </p:blipFill>
        <p:spPr>
          <a:xfrm>
            <a:off x="2595600" y="1333440"/>
            <a:ext cx="1657440" cy="504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izumrudnygorod.narod.ru/A0VSfon/A0VSfon3.gif"/>
          <p:cNvPicPr/>
          <p:nvPr/>
        </p:nvPicPr>
        <p:blipFill>
          <a:blip r:embed="rId2"/>
          <a:stretch/>
        </p:blipFill>
        <p:spPr>
          <a:xfrm>
            <a:off x="4251240" y="1333440"/>
            <a:ext cx="1771560" cy="504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izumrudnygorod.narod.ru/A0VSfon/A0VSfon4.gif"/>
          <p:cNvPicPr/>
          <p:nvPr/>
        </p:nvPicPr>
        <p:blipFill>
          <a:blip r:embed="rId3"/>
          <a:stretch/>
        </p:blipFill>
        <p:spPr>
          <a:xfrm>
            <a:off x="5979960" y="1333440"/>
            <a:ext cx="1162080" cy="504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ttp://izumrudnygorod.narod.ru/A0VSfon/A0VSfon5.gif"/>
          <p:cNvPicPr/>
          <p:nvPr/>
        </p:nvPicPr>
        <p:blipFill>
          <a:blip r:embed="rId4"/>
          <a:stretch/>
        </p:blipFill>
        <p:spPr>
          <a:xfrm>
            <a:off x="7132680" y="1333440"/>
            <a:ext cx="1266840" cy="504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izumrudnygorod.narod.ru/A0VSfon/A0VSfon1.gif"/>
          <p:cNvPicPr/>
          <p:nvPr/>
        </p:nvPicPr>
        <p:blipFill>
          <a:blip r:embed="rId5"/>
          <a:stretch/>
        </p:blipFill>
        <p:spPr>
          <a:xfrm>
            <a:off x="831960" y="1333440"/>
            <a:ext cx="1790640" cy="5048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A0VSfon59Riva.gif"/>
          <p:cNvPicPr/>
          <p:nvPr/>
        </p:nvPicPr>
        <p:blipFill>
          <a:blip r:embed="rId6"/>
          <a:stretch/>
        </p:blipFill>
        <p:spPr>
          <a:xfrm>
            <a:off x="2960640" y="3051000"/>
            <a:ext cx="4886280" cy="2181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A0VSfon51Smerch2.gif"/>
          <p:cNvPicPr/>
          <p:nvPr/>
        </p:nvPicPr>
        <p:blipFill>
          <a:blip r:embed="rId7"/>
          <a:stretch/>
        </p:blipFill>
        <p:spPr>
          <a:xfrm>
            <a:off x="3675240" y="1549440"/>
            <a:ext cx="377172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799200" y="260280"/>
            <a:ext cx="75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А ИЗУМРУДН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28332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ка Т                   125·40-9992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ка Э                    125·8:25-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ка Д       145·102-11424:56-145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ка С                       5:(73-4·1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ка Л                       25·40-99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ttp://planetaskazok.ru/images/stories/volkov/volshebnik_izumrudnogo_goroda/img_14.jpg"/>
          <p:cNvPicPr/>
          <p:nvPr/>
        </p:nvPicPr>
        <p:blipFill>
          <a:blip r:embed="rId1"/>
          <a:srcRect l="36300" t="70336" r="42641" b="0"/>
          <a:stretch/>
        </p:blipFill>
        <p:spPr>
          <a:xfrm>
            <a:off x="324000" y="17640"/>
            <a:ext cx="1008000" cy="125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go4.imgsmail.ru/imgpreview?key=http%3A//multnow.ru/upload/elly%5Fv%5Fstrane%5F3.jpg&amp;mb=imgdb_preview_77"/>
          <p:cNvPicPr/>
          <p:nvPr/>
        </p:nvPicPr>
        <p:blipFill>
          <a:blip r:embed="rId2"/>
          <a:stretch/>
        </p:blipFill>
        <p:spPr>
          <a:xfrm>
            <a:off x="179280" y="2637000"/>
            <a:ext cx="1527120" cy="114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go1.imgsmail.ru/imgpreview?key=http%3A//planetaskazok.ru/images/stories/volkov/volshebnik%5Fizumrudnogo%5Fgoroda/img%5F14.jpg&amp;mb=imgdb_preview_1021"/>
          <p:cNvPicPr/>
          <p:nvPr/>
        </p:nvPicPr>
        <p:blipFill>
          <a:blip r:embed="rId3"/>
          <a:srcRect l="51141" t="0" r="0" b="17744"/>
          <a:stretch/>
        </p:blipFill>
        <p:spPr>
          <a:xfrm>
            <a:off x="395280" y="3789360"/>
            <a:ext cx="108108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ttp://www.klass39.ru/wp-content/uploads/2013/02/0_9b418_4de3b32c_XL.jpg"/>
          <p:cNvPicPr/>
          <p:nvPr/>
        </p:nvPicPr>
        <p:blipFill>
          <a:blip r:embed="rId4"/>
          <a:srcRect l="3231" t="0" r="22683" b="12746"/>
          <a:stretch/>
        </p:blipFill>
        <p:spPr>
          <a:xfrm>
            <a:off x="0" y="5516640"/>
            <a:ext cx="1911240" cy="134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4.imgsmail.ru/imgpreview?key=http%3A//repa4ok.biz/uploads/posts/2011-10/1318940323%5F1.jpg&amp;mb=imgdb_preview_177"/>
          <p:cNvPicPr/>
          <p:nvPr/>
        </p:nvPicPr>
        <p:blipFill>
          <a:blip r:embed="rId5"/>
          <a:srcRect l="24329" t="58728" r="58115" b="0"/>
          <a:stretch/>
        </p:blipFill>
        <p:spPr>
          <a:xfrm>
            <a:off x="539640" y="1268280"/>
            <a:ext cx="695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4"/>
          <p:cNvGrpSpPr/>
          <p:nvPr/>
        </p:nvGrpSpPr>
        <p:grpSpPr>
          <a:xfrm>
            <a:off x="1187280" y="2276640"/>
            <a:ext cx="936720" cy="288720"/>
            <a:chOff x="1187280" y="2276640"/>
            <a:chExt cx="936720" cy="288720"/>
          </a:xfrm>
        </p:grpSpPr>
        <p:sp>
          <p:nvSpPr>
            <p:cNvPr id="62" name="Прямая соединительная линия 2"/>
            <p:cNvSpPr/>
            <p:nvPr/>
          </p:nvSpPr>
          <p:spPr>
            <a:xfrm>
              <a:off x="1187280" y="2421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10"/>
            <p:cNvSpPr/>
            <p:nvPr/>
          </p:nvSpPr>
          <p:spPr>
            <a:xfrm>
              <a:off x="118728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Группа 15"/>
          <p:cNvGrpSpPr/>
          <p:nvPr/>
        </p:nvGrpSpPr>
        <p:grpSpPr>
          <a:xfrm>
            <a:off x="2124000" y="2276640"/>
            <a:ext cx="935280" cy="288720"/>
            <a:chOff x="2124000" y="2276640"/>
            <a:chExt cx="935280" cy="288720"/>
          </a:xfrm>
        </p:grpSpPr>
        <p:sp>
          <p:nvSpPr>
            <p:cNvPr id="65" name="Прямая соединительная линия 16"/>
            <p:cNvSpPr/>
            <p:nvPr/>
          </p:nvSpPr>
          <p:spPr>
            <a:xfrm>
              <a:off x="2124000" y="2421000"/>
              <a:ext cx="9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17"/>
            <p:cNvSpPr/>
            <p:nvPr/>
          </p:nvSpPr>
          <p:spPr>
            <a:xfrm>
              <a:off x="212400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Группа 18"/>
          <p:cNvGrpSpPr/>
          <p:nvPr/>
        </p:nvGrpSpPr>
        <p:grpSpPr>
          <a:xfrm>
            <a:off x="3059280" y="2276640"/>
            <a:ext cx="936360" cy="288720"/>
            <a:chOff x="3059280" y="2276640"/>
            <a:chExt cx="936360" cy="288720"/>
          </a:xfrm>
        </p:grpSpPr>
        <p:sp>
          <p:nvSpPr>
            <p:cNvPr id="68" name="Прямая соединительная линия 19"/>
            <p:cNvSpPr/>
            <p:nvPr/>
          </p:nvSpPr>
          <p:spPr>
            <a:xfrm>
              <a:off x="3059280" y="242100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20"/>
            <p:cNvSpPr/>
            <p:nvPr/>
          </p:nvSpPr>
          <p:spPr>
            <a:xfrm>
              <a:off x="305928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21"/>
          <p:cNvGrpSpPr/>
          <p:nvPr/>
        </p:nvGrpSpPr>
        <p:grpSpPr>
          <a:xfrm>
            <a:off x="3995640" y="2276640"/>
            <a:ext cx="936720" cy="288720"/>
            <a:chOff x="3995640" y="2276640"/>
            <a:chExt cx="936720" cy="288720"/>
          </a:xfrm>
        </p:grpSpPr>
        <p:sp>
          <p:nvSpPr>
            <p:cNvPr id="71" name="Прямая соединительная линия 22"/>
            <p:cNvSpPr/>
            <p:nvPr/>
          </p:nvSpPr>
          <p:spPr>
            <a:xfrm>
              <a:off x="3995640" y="2421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23"/>
            <p:cNvSpPr/>
            <p:nvPr/>
          </p:nvSpPr>
          <p:spPr>
            <a:xfrm>
              <a:off x="399564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24"/>
          <p:cNvGrpSpPr/>
          <p:nvPr/>
        </p:nvGrpSpPr>
        <p:grpSpPr>
          <a:xfrm>
            <a:off x="4932360" y="2276640"/>
            <a:ext cx="934920" cy="288720"/>
            <a:chOff x="4932360" y="2276640"/>
            <a:chExt cx="934920" cy="288720"/>
          </a:xfrm>
        </p:grpSpPr>
        <p:sp>
          <p:nvSpPr>
            <p:cNvPr id="74" name="Прямая соединительная линия 25"/>
            <p:cNvSpPr/>
            <p:nvPr/>
          </p:nvSpPr>
          <p:spPr>
            <a:xfrm>
              <a:off x="4932360" y="242100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26"/>
            <p:cNvSpPr/>
            <p:nvPr/>
          </p:nvSpPr>
          <p:spPr>
            <a:xfrm>
              <a:off x="493236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27"/>
          <p:cNvGrpSpPr/>
          <p:nvPr/>
        </p:nvGrpSpPr>
        <p:grpSpPr>
          <a:xfrm>
            <a:off x="5867280" y="2276640"/>
            <a:ext cx="936720" cy="288720"/>
            <a:chOff x="5867280" y="2276640"/>
            <a:chExt cx="936720" cy="288720"/>
          </a:xfrm>
        </p:grpSpPr>
        <p:sp>
          <p:nvSpPr>
            <p:cNvPr id="77" name="Прямая соединительная линия 28"/>
            <p:cNvSpPr/>
            <p:nvPr/>
          </p:nvSpPr>
          <p:spPr>
            <a:xfrm>
              <a:off x="5867280" y="2421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9"/>
            <p:cNvSpPr/>
            <p:nvPr/>
          </p:nvSpPr>
          <p:spPr>
            <a:xfrm>
              <a:off x="586728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30"/>
          <p:cNvGrpSpPr/>
          <p:nvPr/>
        </p:nvGrpSpPr>
        <p:grpSpPr>
          <a:xfrm>
            <a:off x="6804000" y="2276640"/>
            <a:ext cx="936720" cy="288720"/>
            <a:chOff x="6804000" y="2276640"/>
            <a:chExt cx="936720" cy="288720"/>
          </a:xfrm>
        </p:grpSpPr>
        <p:sp>
          <p:nvSpPr>
            <p:cNvPr id="80" name="Прямая соединительная линия 31"/>
            <p:cNvSpPr/>
            <p:nvPr/>
          </p:nvSpPr>
          <p:spPr>
            <a:xfrm>
              <a:off x="6804000" y="2421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ая соединительная линия 32"/>
            <p:cNvSpPr/>
            <p:nvPr/>
          </p:nvSpPr>
          <p:spPr>
            <a:xfrm>
              <a:off x="680400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33"/>
          <p:cNvGrpSpPr/>
          <p:nvPr/>
        </p:nvGrpSpPr>
        <p:grpSpPr>
          <a:xfrm>
            <a:off x="7740720" y="2276640"/>
            <a:ext cx="934920" cy="288720"/>
            <a:chOff x="7740720" y="2276640"/>
            <a:chExt cx="934920" cy="288720"/>
          </a:xfrm>
        </p:grpSpPr>
        <p:sp>
          <p:nvSpPr>
            <p:cNvPr id="83" name="Прямая соединительная линия 34"/>
            <p:cNvSpPr/>
            <p:nvPr/>
          </p:nvSpPr>
          <p:spPr>
            <a:xfrm>
              <a:off x="7740720" y="242100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35"/>
            <p:cNvSpPr/>
            <p:nvPr/>
          </p:nvSpPr>
          <p:spPr>
            <a:xfrm>
              <a:off x="7740720" y="2276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" name="Прямая со стрелкой 37"/>
          <p:cNvCxnSpPr/>
          <p:nvPr/>
        </p:nvCxnSpPr>
        <p:spPr>
          <a:xfrm>
            <a:off x="8604000" y="2420640"/>
            <a:ext cx="3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38"/>
          <p:cNvSpPr/>
          <p:nvPr/>
        </p:nvSpPr>
        <p:spPr>
          <a:xfrm>
            <a:off x="97488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659124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566892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473544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5"/>
          <p:cNvSpPr/>
          <p:nvPr/>
        </p:nvSpPr>
        <p:spPr>
          <a:xfrm>
            <a:off x="284652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1910520" y="17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7"/>
          <p:cNvSpPr/>
          <p:nvPr/>
        </p:nvSpPr>
        <p:spPr>
          <a:xfrm>
            <a:off x="1911240" y="249228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2775240" y="249228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647240" y="2492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0"/>
          <p:cNvSpPr/>
          <p:nvPr/>
        </p:nvSpPr>
        <p:spPr>
          <a:xfrm>
            <a:off x="5588640" y="24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6519960" y="249228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0" y="9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идет впереди все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 по счету идет Страши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allsoft.ru/upload/screenshots/b51/b51f4af462e5eea186da82e743d16b22.png"/>
          <p:cNvPicPr/>
          <p:nvPr/>
        </p:nvPicPr>
        <p:blipFill>
          <a:blip r:embed="rId1"/>
          <a:srcRect l="14483" t="50906" r="0" b="0"/>
          <a:stretch/>
        </p:blipFill>
        <p:spPr>
          <a:xfrm>
            <a:off x="1332000" y="3427560"/>
            <a:ext cx="676908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go2.imgsmail.ru/imgpreview?key=http%3A//mashinku.ru/wp-content/uploads/audio-knigi/volshebnik%5Fizumrudnogo%5Fgoroda/59.jpg&amp;mb=imgdb_preview_1433"/>
          <p:cNvPicPr/>
          <p:nvPr/>
        </p:nvPicPr>
        <p:blipFill>
          <a:blip r:embed="rId1"/>
          <a:stretch/>
        </p:blipFill>
        <p:spPr>
          <a:xfrm>
            <a:off x="5148360" y="692280"/>
            <a:ext cx="3744720" cy="495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79280" y="516960"/>
            <a:ext cx="48610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·5·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5·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·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·10·8·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·18·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·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·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4360" y="504000"/>
            <a:ext cx="48592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5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0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0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2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х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6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go2.imgsmail.ru/imgpreview?key=http%3A//volkov.anuta.org/volsh/images/1%5F7.png&amp;mb=imgdb_preview_1150"/>
          <p:cNvPicPr/>
          <p:nvPr/>
        </p:nvPicPr>
        <p:blipFill>
          <a:blip r:embed="rId1"/>
          <a:stretch/>
        </p:blipFill>
        <p:spPr>
          <a:xfrm>
            <a:off x="4356000" y="1700280"/>
            <a:ext cx="453708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95280" y="984240"/>
            <a:ext cx="36003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5у-20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6080: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=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х:3150=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0-4у=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ятно 1 3"/>
          <p:cNvSpPr/>
          <p:nvPr/>
        </p:nvSpPr>
        <p:spPr>
          <a:xfrm>
            <a:off x="2627280" y="1197000"/>
            <a:ext cx="1513080" cy="10080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ятно 1 4"/>
          <p:cNvSpPr/>
          <p:nvPr/>
        </p:nvSpPr>
        <p:spPr>
          <a:xfrm>
            <a:off x="3132000" y="2349360"/>
            <a:ext cx="1871640" cy="1008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ятно 1 5"/>
          <p:cNvSpPr/>
          <p:nvPr/>
        </p:nvSpPr>
        <p:spPr>
          <a:xfrm>
            <a:off x="3132000" y="3500280"/>
            <a:ext cx="3384720" cy="1008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ятно 1 6"/>
          <p:cNvSpPr/>
          <p:nvPr/>
        </p:nvSpPr>
        <p:spPr>
          <a:xfrm>
            <a:off x="2987640" y="4581360"/>
            <a:ext cx="1513080" cy="1008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&amp;Kcy;&amp;rcy;&amp;acy;&amp;scy;&amp;ncy;&amp;ycy;&amp;jcy; &amp;mcy;&amp;acy;&amp;kcy;"/>
          <p:cNvPicPr/>
          <p:nvPr/>
        </p:nvPicPr>
        <p:blipFill>
          <a:blip r:embed="rId1"/>
          <a:stretch/>
        </p:blipFill>
        <p:spPr>
          <a:xfrm>
            <a:off x="3564000" y="2205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3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40171 L 3.05556E-006 -0.33302 E">
                                      <p:cBhvr>
                                        <p:cTn id="122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33302 L -0.3757 -0.33256 E">
                                      <p:cBhvr>
                                        <p:cTn id="125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57 -0.33256 L -0.3757 0.34921 E">
                                      <p:cBhvr>
                                        <p:cTn id="128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57 0.34921 L 0.37257 -0.33256 E">
                                      <p:cBhvr>
                                        <p:cTn id="131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257 -0.33256 L 0.38038 0.34921 E">
                                      <p:cBhvr>
                                        <p:cTn id="134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38 0.34921 L 0.01024 -0.0074 E">
                                      <p:cBhvr>
                                        <p:cTn id="137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3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2:51:38Z</dcterms:created>
  <dc:creator>asus</dc:creator>
  <dc:description/>
  <dc:language>en-US</dc:language>
  <cp:lastModifiedBy>Irina Mahotina</cp:lastModifiedBy>
  <dcterms:modified xsi:type="dcterms:W3CDTF">2014-07-15T08:40:46Z</dcterms:modified>
  <cp:revision>32</cp:revision>
  <dc:subject/>
  <dc:title>Слайд 1</dc:title>
</cp:coreProperties>
</file>