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D3C-28A9-4C8E-95A6-1A5C5595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513-BEE3-496E-958A-FB872B2F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429-7344-4CC6-8615-B9FFDF99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DFF-958C-4C28-9DE7-9CEB6466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5EE-21C6-4BAF-9D17-8912D3D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8EB-2A20-423B-93F7-075F35B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D5A-9158-4F16-927E-8862D064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674-A8F2-4B5D-B9C4-610868E7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FF3-16AD-4137-88EA-653089D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37C-FD88-4FE4-8488-7EA7FC6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4E7-9243-4830-ADC7-EAD301A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50C-B1B5-4284-B6A6-850A2B6F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1AF9-5391-449C-BBD4-9CFC9D634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3"/>
          <p:cNvSpPr/>
          <p:nvPr/>
        </p:nvSpPr>
        <p:spPr>
          <a:xfrm>
            <a:off x="1752480" y="0"/>
            <a:ext cx="0" cy="685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380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20</a:t>
            </a:r>
            <a:r>
              <a:rPr b="0" lang="en-US" sz="2800" spc="-1" strike="noStrike">
                <a:solidFill>
                  <a:srgbClr val="0000cc"/>
                </a:solidFill>
                <a:latin typeface="Monotype Corsiva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857240" y="214200"/>
            <a:ext cx="70009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cc"/>
                </a:solidFill>
                <a:latin typeface="Monotype Corsiva"/>
              </a:rPr>
              <a:t>Как построить график функции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f(x+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)</a:t>
            </a:r>
            <a:r>
              <a:rPr b="0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</a:t>
            </a:r>
            <a:r>
              <a:rPr b="0" i="1" lang="ru-RU" sz="4400" spc="-1" strike="noStrike">
                <a:solidFill>
                  <a:srgbClr val="0000cc"/>
                </a:solidFill>
                <a:latin typeface="Monotype Corsiva"/>
              </a:rPr>
              <a:t> если известен график функции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f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785960" y="42148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ть знания - храб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множать их - муд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мело применять - великое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24000" y="981000"/>
                <a:ext cx="2592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508720" y="2924280"/>
                <a:ext cx="3047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Line 9"/>
          <p:cNvSpPr/>
          <p:nvPr/>
        </p:nvSpPr>
        <p:spPr>
          <a:xfrm>
            <a:off x="324000" y="1052640"/>
            <a:ext cx="763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3"/>
          <p:cNvSpPr/>
          <p:nvPr/>
        </p:nvSpPr>
        <p:spPr>
          <a:xfrm>
            <a:off x="5003640" y="2133720"/>
            <a:ext cx="2784600" cy="237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4932360" y="1125360"/>
                <a:ext cx="32400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5508720" y="4292640"/>
                <a:ext cx="299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Box 14"/>
          <p:cNvSpPr/>
          <p:nvPr/>
        </p:nvSpPr>
        <p:spPr>
          <a:xfrm>
            <a:off x="3924360" y="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функции и построить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259920" y="1890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50920" y="1989000"/>
                <a:ext cx="185580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826920" y="2924280"/>
                <a:ext cx="21416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1547640" y="4076640"/>
                <a:ext cx="18036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2843280" y="5111640"/>
                <a:ext cx="174780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9"/>
          <p:cNvSpPr/>
          <p:nvPr/>
        </p:nvSpPr>
        <p:spPr>
          <a:xfrm>
            <a:off x="324000" y="1052640"/>
            <a:ext cx="7632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250920" y="1197000"/>
                <a:ext cx="259236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4932360" y="1268280"/>
                <a:ext cx="259236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395280" y="3716280"/>
                <a:ext cx="23176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0"/>
              <p:cNvSpPr txBox="1"/>
              <p:nvPr/>
            </p:nvSpPr>
            <p:spPr>
              <a:xfrm>
                <a:off x="5076720" y="3645000"/>
                <a:ext cx="263232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</m:e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Box 14"/>
          <p:cNvSpPr/>
          <p:nvPr/>
        </p:nvSpPr>
        <p:spPr>
          <a:xfrm>
            <a:off x="46836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функции и построить граф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250920" y="189000"/>
            <a:ext cx="185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5440" cy="56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069080" y="39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3071880" y="1714680"/>
            <a:ext cx="2755800" cy="4413240"/>
          </a:xfrm>
          <a:prstGeom prst="pie">
            <a:avLst/>
          </a:prstGeom>
          <a:noFill/>
          <a:ln w="8244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06908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4957920" y="1725480"/>
            <a:ext cx="2755800" cy="4413240"/>
          </a:xfrm>
          <a:prstGeom prst="pie">
            <a:avLst/>
          </a:prstGeom>
          <a:noFill/>
          <a:ln w="82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942160" y="609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8"/>
              <p:cNvSpPr txBox="1"/>
              <p:nvPr/>
            </p:nvSpPr>
            <p:spPr>
              <a:xfrm>
                <a:off x="468360" y="44280"/>
                <a:ext cx="15112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1"/>
              <p:cNvSpPr txBox="1"/>
              <p:nvPr/>
            </p:nvSpPr>
            <p:spPr>
              <a:xfrm>
                <a:off x="5303880" y="57240"/>
                <a:ext cx="2376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Freeform 26"/>
          <p:cNvSpPr/>
          <p:nvPr/>
        </p:nvSpPr>
        <p:spPr>
          <a:xfrm>
            <a:off x="1725480" y="1722600"/>
            <a:ext cx="2756160" cy="4413240"/>
          </a:xfrm>
          <a:prstGeom prst="pie">
            <a:avLst/>
          </a:prstGeom>
          <a:noFill/>
          <a:ln w="82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2557800" y="6165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4069080" y="61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9"/>
              <p:cNvSpPr txBox="1"/>
              <p:nvPr/>
            </p:nvSpPr>
            <p:spPr>
              <a:xfrm>
                <a:off x="2340000" y="77760"/>
                <a:ext cx="2590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Line 32"/>
          <p:cNvSpPr/>
          <p:nvPr/>
        </p:nvSpPr>
        <p:spPr>
          <a:xfrm>
            <a:off x="468360" y="933480"/>
            <a:ext cx="7056360" cy="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3"/>
          <p:cNvSpPr/>
          <p:nvPr/>
        </p:nvSpPr>
        <p:spPr>
          <a:xfrm flipV="1">
            <a:off x="6326280" y="1412640"/>
            <a:ext cx="0" cy="544500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4"/>
          <p:cNvSpPr/>
          <p:nvPr/>
        </p:nvSpPr>
        <p:spPr>
          <a:xfrm flipH="1" flipV="1">
            <a:off x="3084120" y="1267920"/>
            <a:ext cx="25560" cy="55897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059 0.00069 L 2.77778E-007 3.33333E-006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68 -1.11111E-006 L 5E-006 -1.11111E-006 E">
                                      <p:cBhvr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214280" y="2071800"/>
            <a:ext cx="360072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Freeform 8"/>
          <p:cNvSpPr/>
          <p:nvPr/>
        </p:nvSpPr>
        <p:spPr>
          <a:xfrm>
            <a:off x="3000240" y="2428920"/>
            <a:ext cx="4572000" cy="1571760"/>
          </a:xfrm>
          <a:prstGeom prst="pie">
            <a:avLst/>
          </a:prstGeom>
          <a:noFill/>
          <a:ln w="60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931840" y="400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4074840" y="400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289160" y="4071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1928880" y="2428920"/>
            <a:ext cx="4676760" cy="1568520"/>
          </a:xfrm>
          <a:prstGeom prst="pie">
            <a:avLst/>
          </a:prstGeom>
          <a:noFill/>
          <a:ln w="604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7"/>
              <p:cNvSpPr txBox="1"/>
              <p:nvPr/>
            </p:nvSpPr>
            <p:spPr>
              <a:xfrm>
                <a:off x="857160" y="0"/>
                <a:ext cx="172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0"/>
              <p:cNvSpPr txBox="1"/>
              <p:nvPr/>
            </p:nvSpPr>
            <p:spPr>
              <a:xfrm>
                <a:off x="2928960" y="0"/>
                <a:ext cx="237636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7" name="Line 26"/>
          <p:cNvSpPr/>
          <p:nvPr/>
        </p:nvSpPr>
        <p:spPr>
          <a:xfrm flipV="1">
            <a:off x="4427640" y="1483920"/>
            <a:ext cx="0" cy="511164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7"/>
          <p:cNvSpPr/>
          <p:nvPr/>
        </p:nvSpPr>
        <p:spPr>
          <a:xfrm>
            <a:off x="4467240" y="2492280"/>
            <a:ext cx="4676760" cy="1500120"/>
          </a:xfrm>
          <a:prstGeom prst="pie">
            <a:avLst/>
          </a:prstGeom>
          <a:noFill/>
          <a:ln w="60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1"/>
              <p:cNvSpPr txBox="1"/>
              <p:nvPr/>
            </p:nvSpPr>
            <p:spPr>
              <a:xfrm>
                <a:off x="6215040" y="0"/>
                <a:ext cx="2421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" name="Line 32"/>
          <p:cNvSpPr/>
          <p:nvPr/>
        </p:nvSpPr>
        <p:spPr>
          <a:xfrm flipV="1">
            <a:off x="1928880" y="1428480"/>
            <a:ext cx="0" cy="511164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6480" y="1263600"/>
            <a:ext cx="9111960" cy="5594400"/>
          </a:xfrm>
          <a:prstGeom prst="rect">
            <a:avLst/>
          </a:prstGeom>
          <a:ln w="0">
            <a:noFill/>
          </a:ln>
        </p:spPr>
      </p:pic>
      <p:sp>
        <p:nvSpPr>
          <p:cNvPr id="92" name="Line 14"/>
          <p:cNvSpPr/>
          <p:nvPr/>
        </p:nvSpPr>
        <p:spPr>
          <a:xfrm flipH="1" flipV="1">
            <a:off x="1692000" y="3141720"/>
            <a:ext cx="2808360" cy="302400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V="1">
            <a:off x="4462560" y="3141720"/>
            <a:ext cx="2846160" cy="3024000"/>
          </a:xfrm>
          <a:prstGeom prst="line">
            <a:avLst/>
          </a:prstGeom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250920" y="189000"/>
                <a:ext cx="23032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0"/>
              <p:cNvSpPr txBox="1"/>
              <p:nvPr/>
            </p:nvSpPr>
            <p:spPr>
              <a:xfrm>
                <a:off x="2759040" y="260280"/>
                <a:ext cx="2978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Line 24"/>
          <p:cNvSpPr/>
          <p:nvPr/>
        </p:nvSpPr>
        <p:spPr>
          <a:xfrm flipH="1" flipV="1">
            <a:off x="3499920" y="3142800"/>
            <a:ext cx="2808360" cy="3024360"/>
          </a:xfrm>
          <a:prstGeom prst="line">
            <a:avLst/>
          </a:prstGeom>
          <a:ln w="60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 flipV="1">
            <a:off x="6357960" y="3428640"/>
            <a:ext cx="2500200" cy="2714760"/>
          </a:xfrm>
          <a:prstGeom prst="line">
            <a:avLst/>
          </a:prstGeom>
          <a:ln w="60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6143760" y="614376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0"/>
              <p:cNvSpPr txBox="1"/>
              <p:nvPr/>
            </p:nvSpPr>
            <p:spPr>
              <a:xfrm>
                <a:off x="5811840" y="260280"/>
                <a:ext cx="29210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Line 31"/>
          <p:cNvSpPr/>
          <p:nvPr/>
        </p:nvSpPr>
        <p:spPr>
          <a:xfrm flipV="1">
            <a:off x="3071880" y="3142800"/>
            <a:ext cx="2846160" cy="3024360"/>
          </a:xfrm>
          <a:prstGeom prst="line">
            <a:avLst/>
          </a:prstGeom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 flipV="1">
            <a:off x="356760" y="3214800"/>
            <a:ext cx="2714760" cy="2928960"/>
          </a:xfrm>
          <a:prstGeom prst="line">
            <a:avLst/>
          </a:prstGeom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2928960" y="614376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3929040" y="1285920"/>
            <a:ext cx="3600360" cy="383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293760" y="476280"/>
                <a:ext cx="272088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Freeform 29"/>
          <p:cNvSpPr/>
          <p:nvPr/>
        </p:nvSpPr>
        <p:spPr>
          <a:xfrm>
            <a:off x="5857920" y="714240"/>
            <a:ext cx="2160720" cy="2376720"/>
          </a:xfrm>
          <a:prstGeom prst="pie">
            <a:avLst/>
          </a:prstGeom>
          <a:noFill/>
          <a:ln w="6048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 rot="10800000">
            <a:off x="3403440" y="3257280"/>
            <a:ext cx="2160720" cy="2376360"/>
          </a:xfrm>
          <a:prstGeom prst="pie">
            <a:avLst/>
          </a:prstGeom>
          <a:noFill/>
          <a:ln w="60480">
            <a:solidFill>
              <a:srgbClr val="99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3"/>
              <p:cNvSpPr txBox="1"/>
              <p:nvPr/>
            </p:nvSpPr>
            <p:spPr>
              <a:xfrm>
                <a:off x="237960" y="3203640"/>
                <a:ext cx="27622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Freeform 36"/>
          <p:cNvSpPr/>
          <p:nvPr/>
        </p:nvSpPr>
        <p:spPr>
          <a:xfrm rot="21447600">
            <a:off x="5285880" y="785880"/>
            <a:ext cx="2160720" cy="2376360"/>
          </a:xfrm>
          <a:prstGeom prst="pie">
            <a:avLst/>
          </a:prstGeom>
          <a:noFill/>
          <a:ln w="604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7"/>
          <p:cNvSpPr/>
          <p:nvPr/>
        </p:nvSpPr>
        <p:spPr>
          <a:xfrm rot="10800000">
            <a:off x="3048120" y="3325680"/>
            <a:ext cx="2017440" cy="2448000"/>
          </a:xfrm>
          <a:prstGeom prst="pie">
            <a:avLst/>
          </a:prstGeom>
          <a:noFill/>
          <a:ln w="604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>
            <a:off x="5143680" y="428760"/>
            <a:ext cx="25200" cy="612144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549000"/>
            <a:ext cx="874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бы построить график функции 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=f(x+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двинуть график функции</a:t>
            </a:r>
            <a:r>
              <a:rPr b="0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y=f(x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доль оси О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 масшт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740240" y="4071960"/>
            <a:ext cx="54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во, если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если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6:34:34Z</dcterms:created>
  <dc:creator>Admin</dc:creator>
  <dc:description/>
  <dc:language>en-US</dc:language>
  <cp:lastModifiedBy>User</cp:lastModifiedBy>
  <dcterms:modified xsi:type="dcterms:W3CDTF">2014-06-15T19:34:36Z</dcterms:modified>
  <cp:revision>25</cp:revision>
  <dc:subject/>
  <dc:title>Слайд 1</dc:title>
</cp:coreProperties>
</file>