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DE4-8F96-40DB-910A-4DAEF6EB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910-7F42-4986-979C-789E41A4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877-372F-42AA-B520-7C07256A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234-BEE1-4D87-93A9-E137841D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7F31-A9E9-4ED9-BDA0-376268FE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3E46-2D9F-490B-BBC4-94EA03B4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AF38-645A-451E-B9E1-053A4ECF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A774-D676-4595-876E-7D7EBF3C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D8E2-142A-49D4-9B31-D91F1392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52E7-68E9-4542-9AC9-10A903BB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DF2D-807A-4634-A40C-3A5DEFCD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638-300D-433D-AEDD-0BA93E94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7F04-B151-4268-9E0A-82C64805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962E-9D3B-4961-BD7C-E82425A7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4FC8-6F8E-4C8B-BE33-8E10F952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03E2-EDD6-4115-A26E-9D303038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E87F-7E43-4B54-84A0-40D823CD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983-9FD5-4932-9023-6FB8AB60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B51-8C2E-4FE8-A378-2172E5CC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A4B-2293-43F9-899C-B83191D2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1AF-89FB-4F10-B502-2FC1BE9F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305-8B6A-42A6-B9FA-1EC241AA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5B2-035F-4551-87C5-B2C14E9A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DA7-A7BC-4E56-AD45-5F2BCB08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3D95-2C9C-4D45-89CE-DFCC1172D21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E7D8-9291-4FDE-BD52-57B3E8EDD5C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6"/>
          <p:cNvSpPr txBox="1"/>
          <p:nvPr/>
        </p:nvSpPr>
        <p:spPr>
          <a:xfrm>
            <a:off x="609480" y="333360"/>
            <a:ext cx="8283600" cy="60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0 ноября-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НЬ  ПРАВ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БЁНКА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35"/>
          <p:cNvPicPr/>
          <p:nvPr/>
        </p:nvPicPr>
        <p:blipFill>
          <a:blip r:embed="rId1"/>
          <a:stretch/>
        </p:blipFill>
        <p:spPr>
          <a:xfrm>
            <a:off x="468360" y="264960"/>
            <a:ext cx="828036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36"/>
          <p:cNvPicPr/>
          <p:nvPr/>
        </p:nvPicPr>
        <p:blipFill>
          <a:blip r:embed="rId1"/>
          <a:stretch/>
        </p:blipFill>
        <p:spPr>
          <a:xfrm>
            <a:off x="395280" y="333360"/>
            <a:ext cx="8388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37"/>
          <p:cNvPicPr/>
          <p:nvPr/>
        </p:nvPicPr>
        <p:blipFill>
          <a:blip r:embed="rId1"/>
          <a:stretch/>
        </p:blipFill>
        <p:spPr>
          <a:xfrm>
            <a:off x="395280" y="549360"/>
            <a:ext cx="80643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38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39"/>
          <p:cNvPicPr/>
          <p:nvPr/>
        </p:nvPicPr>
        <p:blipFill>
          <a:blip r:embed="rId1"/>
          <a:stretch/>
        </p:blipFill>
        <p:spPr>
          <a:xfrm>
            <a:off x="395280" y="376200"/>
            <a:ext cx="842472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431640" y="476280"/>
            <a:ext cx="871236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Законы</a:t>
            </a: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 – это правила, которые устанавливает государство. Их должны выполнять все граждане нашей страны.</a:t>
            </a:r>
            <a:endParaRPr b="1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39640" y="61272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Право</a:t>
            </a: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 – это правила, по которым живут люди.</a:t>
            </a:r>
            <a:endParaRPr b="1" lang="en-US" sz="7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765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30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31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32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4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33"/>
          <p:cNvPicPr/>
          <p:nvPr/>
        </p:nvPicPr>
        <p:blipFill>
          <a:blip r:embed="rId1"/>
          <a:stretch/>
        </p:blipFill>
        <p:spPr>
          <a:xfrm>
            <a:off x="684360" y="333360"/>
            <a:ext cx="81374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6:17:41Z</dcterms:created>
  <dc:creator>Берюхова</dc:creator>
  <dc:description/>
  <dc:language>en-US</dc:language>
  <cp:lastModifiedBy>Альбина</cp:lastModifiedBy>
  <dcterms:modified xsi:type="dcterms:W3CDTF">2015-03-14T21:19:10Z</dcterms:modified>
  <cp:revision>11</cp:revision>
  <dc:subject/>
  <dc:title>Слайд 1</dc:title>
</cp:coreProperties>
</file>