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1.jpeg" ContentType="image/jpeg"/>
  <Override PartName="/ppt/media/image14.jpeg" ContentType="image/jpeg"/>
  <Override PartName="/ppt/media/image38.jpeg" ContentType="image/jpeg"/>
  <Override PartName="/ppt/media/image1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.jpeg" ContentType="image/jpeg"/>
  <Override PartName="/ppt/media/image5.gif" ContentType="image/gif"/>
  <Override PartName="/ppt/media/image23.jpeg" ContentType="image/jpeg"/>
  <Override PartName="/ppt/media/image12.png" ContentType="image/png"/>
  <Override PartName="/ppt/media/image29.jpeg" ContentType="image/jpeg"/>
  <Override PartName="/ppt/media/image7.gif" ContentType="image/gif"/>
  <Override PartName="/ppt/media/image21.jpeg" ContentType="image/jpeg"/>
  <Override PartName="/ppt/media/image6.gif" ContentType="image/gif"/>
  <Override PartName="/ppt/media/image32.jpeg" ContentType="image/jpeg"/>
  <Override PartName="/ppt/media/image8.gif" ContentType="image/gif"/>
  <Override PartName="/ppt/media/image49.jpeg" ContentType="image/jpeg"/>
  <Override PartName="/ppt/media/image28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.gif" ContentType="image/gif"/>
  <Override PartName="/ppt/media/image36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26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19.jpeg" ContentType="image/jpeg"/>
  <Override PartName="/ppt/media/image59.jpeg" ContentType="image/jpeg"/>
  <Override PartName="/ppt/media/image42.jpeg" ContentType="image/jpeg"/>
  <Override PartName="/ppt/media/image20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17.png" ContentType="image/png"/>
  <Override PartName="/ppt/media/image39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0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55.jpeg" ContentType="image/jpeg"/>
  <Override PartName="/ppt/media/image40.jpeg" ContentType="image/jpeg"/>
  <Override PartName="/ppt/media/image56.png" ContentType="image/pn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1D8-6C0C-4A9E-BECF-0F80D420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E55-2245-4325-9112-F8E1EC0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66E-8856-4972-9534-070DE62E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068-76D8-400E-AE5C-33B047B7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23AD-2606-45A2-B230-0C14F32B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19AF-0D55-4FB6-A657-79FC653C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90B0-44E9-401C-864D-65C9214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51D3-68BC-44AF-9F65-A703710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DD3-3A00-4BBF-A1F0-6C063B2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0998-81B7-4ED1-9781-9D376E9C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B54-C550-4565-A491-8335A06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A4E-70D4-49DA-8079-577ED15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D579-E8EA-4BBA-A9C6-5BC703C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1B87-7753-41C1-9ACC-2335BDE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B63-A628-4A02-B5D9-25FD541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46C-6FF7-49E7-92E2-1EDD7705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8CD2-9375-4A19-B4DA-32829537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23E-3E55-4864-B329-6079F7C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919-E1D4-4861-A918-6094138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2E7-22C2-41D8-BDA3-5770ED1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8BD-1D33-4BC0-A4BC-5A678BC1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DF9-DD56-4203-846C-A2BC8F6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973-B421-4E57-986C-7D4C73D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20C-6123-44D3-8650-E514E6A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CB8-40B2-44CD-B80C-B5AB6EA7094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DF1-8A08-49BB-96EE-1473BBEC81B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pn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  сентябр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WordArt 3"/>
          <p:cNvSpPr txBox="1"/>
          <p:nvPr/>
        </p:nvSpPr>
        <p:spPr>
          <a:xfrm>
            <a:off x="539640" y="1916280"/>
            <a:ext cx="792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   знаний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6" descr="001"/>
          <p:cNvPicPr/>
          <p:nvPr/>
        </p:nvPicPr>
        <p:blipFill>
          <a:blip r:embed="rId1"/>
          <a:stretch/>
        </p:blipFill>
        <p:spPr>
          <a:xfrm>
            <a:off x="539640" y="404640"/>
            <a:ext cx="1656000" cy="137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2460600" cy="2295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3851280" y="4292640"/>
            <a:ext cx="1771560" cy="234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4"/>
          <a:stretch/>
        </p:blipFill>
        <p:spPr>
          <a:xfrm>
            <a:off x="6516720" y="4653000"/>
            <a:ext cx="1635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68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887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5838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5917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4860720" y="134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00720" y="5734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3272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611280" y="2205000"/>
            <a:ext cx="44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929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59176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                        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Ненц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346640" cy="25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049640" cy="31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250920" y="3632040"/>
            <a:ext cx="4333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79ce09b50a2b620d190479ba67404f31"/>
          <p:cNvPicPr/>
          <p:nvPr/>
        </p:nvPicPr>
        <p:blipFill>
          <a:blip r:embed="rId1"/>
          <a:stretch/>
        </p:blipFill>
        <p:spPr>
          <a:xfrm>
            <a:off x="468360" y="476280"/>
            <a:ext cx="3809880" cy="3467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AG00020_"/>
          <p:cNvPicPr/>
          <p:nvPr/>
        </p:nvPicPr>
        <p:blipFill>
          <a:blip r:embed="rId2"/>
          <a:stretch/>
        </p:blipFill>
        <p:spPr>
          <a:xfrm>
            <a:off x="179280" y="4005360"/>
            <a:ext cx="3660840" cy="243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j0172564(p)"/>
          <p:cNvPicPr/>
          <p:nvPr/>
        </p:nvPicPr>
        <p:blipFill>
          <a:blip r:embed="rId3"/>
          <a:stretch/>
        </p:blipFill>
        <p:spPr>
          <a:xfrm>
            <a:off x="4859280" y="3429000"/>
            <a:ext cx="3167280" cy="316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у доски"/>
          <p:cNvPicPr/>
          <p:nvPr/>
        </p:nvPicPr>
        <p:blipFill>
          <a:blip r:embed="rId4"/>
          <a:stretch/>
        </p:blipFill>
        <p:spPr>
          <a:xfrm>
            <a:off x="6300720" y="260280"/>
            <a:ext cx="2381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4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4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Хант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113280" cy="261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3114360" cy="2716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42638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                        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елькуп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449440" cy="280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321080" cy="3961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44764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120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8850240" cy="61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675640" cy="651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47908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054840" cy="443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295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636040" cy="627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488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РОДИНА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АЛАЯ РОДИНА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64000" y="2637000"/>
            <a:ext cx="41040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ихир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410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42920" y="1484280"/>
          <a:ext cx="7345440" cy="4537080"/>
        </p:xfrm>
        <a:graphic>
          <a:graphicData uri="http://schemas.openxmlformats.org/drawingml/2006/table">
            <a:tbl>
              <a:tblPr/>
              <a:tblGrid>
                <a:gridCol w="754200"/>
                <a:gridCol w="941400"/>
                <a:gridCol w="941400"/>
                <a:gridCol w="941400"/>
                <a:gridCol w="941400"/>
                <a:gridCol w="941400"/>
                <a:gridCol w="941400"/>
                <a:gridCol w="94284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656000" cy="216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57800" cy="2219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3"/>
          <a:stretch/>
        </p:blipFill>
        <p:spPr>
          <a:xfrm>
            <a:off x="2771640" y="2924280"/>
            <a:ext cx="3529080" cy="165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4"/>
          <a:stretch/>
        </p:blipFill>
        <p:spPr>
          <a:xfrm>
            <a:off x="2987640" y="4797360"/>
            <a:ext cx="3097080" cy="180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/>
          <p:cNvPicPr/>
          <p:nvPr/>
        </p:nvPicPr>
        <p:blipFill>
          <a:blip r:embed="rId5"/>
          <a:stretch/>
        </p:blipFill>
        <p:spPr>
          <a:xfrm>
            <a:off x="468360" y="285264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6"/>
          <a:stretch/>
        </p:blipFill>
        <p:spPr>
          <a:xfrm>
            <a:off x="468360" y="472428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32360" y="259920"/>
            <a:ext cx="1942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р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6588000" y="2924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рб ЯНА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лаг ЯНА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6372360" y="48690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рб Ноябрьс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оябрьс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 rot="20307000">
            <a:off x="178920" y="404280"/>
            <a:ext cx="2449800" cy="165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 rot="21022800">
            <a:off x="250920" y="2060280"/>
            <a:ext cx="2449440" cy="208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3"/>
          <a:stretch/>
        </p:blipFill>
        <p:spPr>
          <a:xfrm>
            <a:off x="2771640" y="189000"/>
            <a:ext cx="2951280" cy="2374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2447640" cy="1942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5"/>
          <a:stretch/>
        </p:blipFill>
        <p:spPr>
          <a:xfrm rot="631200">
            <a:off x="5940000" y="40428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6"/>
          <a:stretch/>
        </p:blipFill>
        <p:spPr>
          <a:xfrm rot="1077600">
            <a:off x="5508360" y="278100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7"/>
          <a:stretch/>
        </p:blipFill>
        <p:spPr>
          <a:xfrm rot="20845200">
            <a:off x="323640" y="4221000"/>
            <a:ext cx="2592360" cy="2232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8"/>
          <a:stretch/>
        </p:blipFill>
        <p:spPr>
          <a:xfrm>
            <a:off x="2843280" y="4508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"/>
          <p:cNvPicPr/>
          <p:nvPr/>
        </p:nvPicPr>
        <p:blipFill>
          <a:blip r:embed="rId9"/>
          <a:stretch/>
        </p:blipFill>
        <p:spPr>
          <a:xfrm rot="545400">
            <a:off x="5724000" y="464040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9963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45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3436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48"/>
          <p:cNvPicPr/>
          <p:nvPr/>
        </p:nvPicPr>
        <p:blipFill>
          <a:blip r:embed="rId1"/>
          <a:stretch/>
        </p:blipFill>
        <p:spPr>
          <a:xfrm>
            <a:off x="0" y="0"/>
            <a:ext cx="10188720" cy="692784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"/>
          <p:cNvSpPr txBox="1"/>
          <p:nvPr/>
        </p:nvSpPr>
        <p:spPr>
          <a:xfrm>
            <a:off x="684360" y="1773360"/>
            <a:ext cx="784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4360" y="765000"/>
            <a:ext cx="784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WordArt 5"/>
          <p:cNvSpPr txBox="1"/>
          <p:nvPr/>
        </p:nvSpPr>
        <p:spPr>
          <a:xfrm>
            <a:off x="971640" y="3068640"/>
            <a:ext cx="784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6"/>
          <p:cNvSpPr txBox="1"/>
          <p:nvPr/>
        </p:nvSpPr>
        <p:spPr>
          <a:xfrm>
            <a:off x="971640" y="5373720"/>
            <a:ext cx="7848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WordArt 7"/>
          <p:cNvSpPr txBox="1"/>
          <p:nvPr/>
        </p:nvSpPr>
        <p:spPr>
          <a:xfrm>
            <a:off x="1116000" y="450864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РОСС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708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7920" y="34920"/>
            <a:ext cx="18270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Я – гражданин Росси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Я – гражданин Ямала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3959280" cy="3168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67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Ямало - Ненецкому  автономному  округ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Verdana"/>
              </a:rPr>
              <a:t>84  года</a:t>
            </a:r>
            <a:endParaRPr b="0" lang="en-US" sz="1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4019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оябрьску   39   лет!</a:t>
            </a:r>
            <a:br>
              <a:rPr sz="40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66764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1835280" y="1341360"/>
            <a:ext cx="5689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 Днем  рождения,  Ноябрьс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3" descr="57"/>
          <p:cNvPicPr/>
          <p:nvPr/>
        </p:nvPicPr>
        <p:blipFill>
          <a:blip r:embed="rId1"/>
          <a:stretch/>
        </p:blipFill>
        <p:spPr>
          <a:xfrm>
            <a:off x="1239840" y="1600200"/>
            <a:ext cx="6662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Герб   и   флаг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3" descr="Герб города Нояьбрска"/>
          <p:cNvPicPr/>
          <p:nvPr/>
        </p:nvPicPr>
        <p:blipFill>
          <a:blip r:embed="rId1"/>
          <a:stretch/>
        </p:blipFill>
        <p:spPr>
          <a:xfrm>
            <a:off x="324000" y="1700280"/>
            <a:ext cx="2549520" cy="30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5327640" cy="3538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908000" y="5373720"/>
            <a:ext cx="56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Ноябрьс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0:23:07Z</dcterms:created>
  <dc:creator>Customer</dc:creator>
  <dc:description/>
  <dc:language>en-US</dc:language>
  <cp:lastModifiedBy>Альбина</cp:lastModifiedBy>
  <dcterms:modified xsi:type="dcterms:W3CDTF">2015-03-12T15:08:10Z</dcterms:modified>
  <cp:revision>28</cp:revision>
  <dc:subject/>
  <dc:title>Слайд 1</dc:title>
</cp:coreProperties>
</file>