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FFEE-4271-4B02-AD6B-CFAC47406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F3C3-5922-4FD5-8116-5147326D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92F5-69B1-4DF6-B6B4-647559C0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237B-D3BF-4C78-B3C0-26034708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6817-DA4E-4DFC-849F-196DEF0F9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7006-C910-47F5-A2DD-A0B35B09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F2B5-4673-4CF7-BB4D-770C9C7B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FDEB-758B-458D-B1EC-2119B2B4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F777-372E-4667-806B-0E91DC69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3DD3-E2F8-4C29-9A5C-78D7E0F6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6711-051F-4564-AB52-770B7785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6D14-7B11-4B44-A65F-D2A4A7BF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2C3E-C169-4545-A7A7-CB9BF43E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4EF0-4EC0-4DD3-BCC6-B79F900F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BE81-8269-44C0-A40B-B985B807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AC71-5907-4F48-B8F3-4F117A14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A672-26BA-4FE0-B96F-977A99A8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8A8DC-9EDD-4F78-91A3-7473A237F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F22D4-486B-44FC-AB44-B87A8B8C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36AE1-2472-419B-A798-518810AD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A822E-E02D-4889-B00D-4A86C082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F72E6-9849-4EA6-8526-971DD892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5869-97D8-4C97-829D-5BABF5CD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63102-2238-4F51-8F7E-5430316E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EF138-EAF7-4E37-A36A-EECC40FF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8975F-977A-4B2E-A9C8-6F8BEB6F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5B8CC-A585-480D-B49C-10D8DB0D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4F0BE-7A11-401D-9037-89FCFA53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A4192-A824-4439-8F91-6E5FF6024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319A6-99E0-4D8A-BF37-A4396B420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7E116-A746-4001-A21A-F4F2B92E9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88C18-C35F-4088-98C4-295854A9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32A94-A067-4810-B998-9FD04168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26A2-6F8D-492B-BC5E-2C14A5A6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B3CED-482C-4FB4-AE59-EDDD3338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9E075-6714-4E32-9BEC-242CE7E7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949A8-6927-4DB0-A906-8718F12C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16FE6-B9AD-4E4B-A2AD-D6B13BFD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ABB61-0876-4294-8C28-D8B09697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CDCEB-1378-40C9-8D5A-B8B993C9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1BE87-6B77-4E0E-9B4A-6FF7B81A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EA126-BB55-4A27-9F0A-07840EC51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AFD87-F2E3-4D26-844F-02476DBEF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687C-DDDB-461E-BA2A-567CEBF2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ABD5-81E8-4A14-B05F-D81A2295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0C38-9456-4264-B251-6E874907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03B7-6E09-4B85-A63F-F21AA8E7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7946-6F91-4822-BECC-6ADD5C39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2C49-E53A-4C5E-801B-AFDAD2FE051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6412-5536-470A-8786-1D62A02D07D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98E5-EECA-433E-A5CF-4C1F78C98A3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872B-7A02-4CE5-9248-F02E6CA3B39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Rectangle 2" descr=""/>
          <p:cNvPicPr/>
          <p:nvPr/>
        </p:nvPicPr>
        <p:blipFill>
          <a:blip r:embed="rId2"/>
          <a:stretch/>
        </p:blipFill>
        <p:spPr>
          <a:xfrm>
            <a:off x="-414360" y="317520"/>
            <a:ext cx="1016784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817560" y="420840"/>
            <a:ext cx="717408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1"/>
          <a:stretch/>
        </p:blipFill>
        <p:spPr>
          <a:xfrm>
            <a:off x="457200" y="165240"/>
            <a:ext cx="8448840" cy="1150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79280" y="1125000"/>
            <a:ext cx="8856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способность в ходе наблюдения выявлять поведенческие и личностные проблем обучающихся, связанных с особенностями их развития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Оценка параметров и проектирование психологически безопасной и комфортной образовательной среды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Применение инструментария и методов диагностики и оценки показателей уровня и динамики развития ребенк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Освоение и применение психолого-педагогических технологий (в том числе инклюзивных), необходимых для адресной работы с различными контингентами учащихся: одаренные дети, социально уязвимые дети, дети, попавшие в трудные жизненные ситуации, дети-мигранты, дети-сироты, дети с особыми образовательными потребностями (аутисты, дети с синдромом дефицита внимания и гиперактивностью и др.), дети с ограниченными возможностями здоровья, дети с девиациями поведения, дети с зависимостью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Оказание адресной помощи обучающимс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Готовность к взаимодействие с другими специалистами в рамках психолого-медико-педагогического консилиума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1"/>
          <a:stretch/>
        </p:blipFill>
        <p:spPr>
          <a:xfrm>
            <a:off x="457200" y="165240"/>
            <a:ext cx="8448840" cy="11509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179280" y="1125000"/>
            <a:ext cx="8856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Умение составлять (совместно с другими специалистами) и реализовывать совместно с родителями программу индивидуального развития ребенк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Владение специальными методиками, позволяющими проводить коррекционно-развивающую работ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Развитие у обучающихся познавательной активности, самостоятельности, инициативы, творческих способностей, формирование гражданской позиции, формирование ЗОЖ и безопасного образа жизн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Формирование и реализация программ развития УУД, образцов и ценностей социального поведения, навыков в мире виртуальной реальности и социальных сетях, формирование толерантност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Формирование системы регуляции поведения и деятельности обучающихс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-182520" y="152280"/>
            <a:ext cx="8448480" cy="11462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179280" y="1125360"/>
            <a:ext cx="8856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17676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Владеть профессиональной установкой на оказание помощи любому ребёнку вне зависимости от его реальных учебных возможностей, особенностей в поведени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Использовать в практике своей работы психологические подходы: культурно-исторический, деятельностный и развивающи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Осуществлять психолого-педагогическое сопровождение основных общеобразовательных програм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Понимать документацию специалистов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Составить (совместно с психологом и др. специалистами) психолого-педагогическую характеристику личности ребёнк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Разрабатывать и реализовывать индивидуальные образовательные маршруты, индивидуальные программы развития с учётом личностных и возрастных особенностей обучающихс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ладеть стандартизированными методами психодиагностики личностных характеристик и возрастных особенностей обучающихс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Оценивать образовательные результаты: формируемые в преподаваемом предмете предметные и метапредметные компетенции, а также осуществлять (совместно с психологом) мониторинг личностных характеристик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Формировать детско-взрослые сообществ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-182520" y="171360"/>
            <a:ext cx="8418600" cy="1017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179280" y="1125000"/>
            <a:ext cx="8856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едагогические закономерности организации образовательного процесс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Законы развития личности и проявления личностных свойств, психологические законы периодизации и кризисов развити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Теория и технологии учета возрастных особенностей обучающихс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Закономерности формирования детско-взрослых сообществ, их социально-психологических особенности и закономерности развития детских и подростковых сообществ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Основные закономерности семейных отношений, позволяющие эффективно работать с родительской общественностью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Основы психодиагностики и основные признаки отклонения в развитии дете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оциально-психологические особенности и закономерности развития детско-взрослых сообществ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2T17:01:59Z</dcterms:created>
  <dc:creator>НВ</dc:creator>
  <dc:description/>
  <dc:language>en-US</dc:language>
  <cp:lastModifiedBy>Тисличенко</cp:lastModifiedBy>
  <dcterms:modified xsi:type="dcterms:W3CDTF">2014-12-12T05:02:06Z</dcterms:modified>
  <cp:revision>19</cp:revision>
  <dc:subject/>
  <dc:title>Профессиональный стандарт педагога</dc:title>
</cp:coreProperties>
</file>