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58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4.png" ContentType="image/png"/>
  <Override PartName="/ppt/media/image75.jpeg" ContentType="image/jpeg"/>
  <Override PartName="/ppt/media/image32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70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22.png" ContentType="image/png"/>
  <Override PartName="/ppt/media/image26.png" ContentType="image/png"/>
  <Override PartName="/ppt/media/image77.jpeg" ContentType="image/jpeg"/>
  <Override PartName="/ppt/media/image23.png" ContentType="image/png"/>
  <Override PartName="/ppt/media/image60.png" ContentType="image/png"/>
  <Override PartName="/ppt/media/image80.jpeg" ContentType="image/jpeg"/>
  <Override PartName="/ppt/media/image13.png" ContentType="image/png"/>
  <Override PartName="/ppt/media/image78.jpeg" ContentType="image/jpeg"/>
  <Override PartName="/ppt/media/image36.png" ContentType="image/png"/>
  <Override PartName="/ppt/media/image73.wmf" ContentType="image/x-wmf"/>
  <Override PartName="/ppt/media/image25.png" ContentType="image/png"/>
  <Override PartName="/ppt/media/image62.png" ContentType="image/png"/>
  <Override PartName="/ppt/media/image20.png" ContentType="image/png"/>
  <Override PartName="/ppt/media/image31.png" ContentType="image/png"/>
  <Override PartName="/ppt/media/image2.jpeg" ContentType="image/jpeg"/>
  <Override PartName="/ppt/media/image72.jpeg" ContentType="image/jpeg"/>
  <Override PartName="/ppt/media/image71.jpeg" ContentType="image/jpeg"/>
  <Override PartName="/ppt/media/image66.jpeg" ContentType="image/jpeg"/>
  <Override PartName="/ppt/media/image11.png" ContentType="image/png"/>
  <Override PartName="/ppt/media/image48.png" ContentType="image/png"/>
  <Override PartName="/ppt/media/image24.png" ContentType="image/png"/>
  <Override PartName="/ppt/media/image61.png" ContentType="image/png"/>
  <Override PartName="/ppt/media/image68.jpeg" ContentType="image/jpeg"/>
  <Override PartName="/ppt/media/image67.jpeg" ContentType="image/jpeg"/>
  <Override PartName="/ppt/media/image69.png" ContentType="image/png"/>
  <Override PartName="/ppt/media/image30.png" ContentType="image/png"/>
  <Override PartName="/ppt/media/image27.png" ContentType="image/png"/>
  <Override PartName="/ppt/media/image33.jpeg" ContentType="image/jpeg"/>
  <Override PartName="/ppt/media/image9.png" ContentType="image/png"/>
  <Override PartName="/ppt/media/image64.jpeg" ContentType="image/jpeg"/>
  <Override PartName="/ppt/media/image39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29.png" ContentType="image/png"/>
  <Override PartName="/ppt/media/image19.png" ContentType="image/png"/>
  <Override PartName="/ppt/media/image79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4.jpeg" ContentType="image/jpeg"/>
  <Override PartName="/ppt/media/image76.jpeg" ContentType="image/jpeg"/>
  <Override PartName="/ppt/media/image5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754-627D-49B7-8566-0CA39EF3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49A-D392-4D4F-845D-6ED854F9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D26116-9484-4A87-A706-B8B58A39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DCDC81-B732-4810-AEA1-AF210E68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154B02-076C-46DD-9B59-DE8B9715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47C5CB-7C55-45BD-8B76-9AFF1390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C8D0D5-07B1-4C0B-B11C-B04A6726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616B8A-D8F1-4BD1-A3D6-BC67FE85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463B88-6214-4360-A5CE-7B0C0B65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7F4885-5015-4F60-AE23-B82A8C85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EDB159-C346-4F02-9506-EF6DEE29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E91C1F-83C4-46CA-ADB4-4CFDE7E6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B9D-0530-4FC4-AEE5-EFF32D2E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07E2B9-74A0-4AA9-B7D4-515F52CC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1D7158-B77C-4185-AFCA-CF4802E3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5D871B-21BA-4E02-9DB6-924DC2D7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B40DEA-6E1E-4E1E-992B-7F4A7BFB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7E75BB-02A6-4094-A98A-CD25663B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C6844B-4D08-48D6-9EF2-07FDC779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414AB0-12DD-40FD-8C53-52227013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2EDF22-3A52-491C-A910-FB2DFE36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47D62F-0ABE-43EF-89E8-E35A8E41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21B219-D70C-4003-A12D-3E9B976E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293-3F56-4396-8003-2B196B8F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1249E0-4FE7-41C3-AD24-2D5B7B0B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8B7F1-1C21-42D8-B4F8-EA0A636D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E1B7D-B40D-42A0-9965-FA0DE0C1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1831F-FE99-4C11-B60C-592A055A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E4086-6CA2-4715-8382-0E179F00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33F8A-8F5B-4314-A61D-A1AF9FD6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7D6D5-788F-439F-9DEA-C50FC451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F8A1D-CD71-4258-B687-61360121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35840-74F6-4AA7-B225-A10C627C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DF357-EB36-4605-A666-250510E9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E6AE-42EA-4568-8EC2-41B42821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449A1-BBAD-43D7-A813-F85E3D71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9C839-DE02-4247-9E71-8E580A18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7648D-F7F8-411C-B41F-14CB02E1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6DA36-2811-4AB5-8D1C-7F0D4791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769A7-CB7A-4E1C-B440-D400734A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F40B3-9E20-4975-8452-D005807F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7A21C-916D-4AD8-B683-956E1F2C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9A7FC-05F5-41CC-9DE7-6C650491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5DD0D-99AE-424D-BEC0-86F8948A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5CC12-BA22-4F62-9447-EAC49147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4D0B-338E-458B-B1CE-B7F4BD1E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3700A-E5C9-41CD-86FD-00A4F523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98BF5-FE4E-46D9-8043-5E201691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1C989-D8A7-4CAE-BBD8-4F733DE9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9C51E-A330-42AC-B7EC-1B023781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F5C41-3D94-49F8-A8D4-07406FE9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77B9-0CDB-4428-A721-C539DEB2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A987-2877-4CA3-8A88-14D9D7D5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85D0-155D-46E8-B715-5C6D3DF9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C11A-11FD-409A-982C-316AEBA3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DD88-0A1B-4B4C-9F92-05C34075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863-843F-40A5-8868-3C49145A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8F0D-807D-4B02-A339-D93973EA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A89E-3643-4B6A-B7C0-8CCE2E82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5180-280E-4CDF-B624-50728867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C08A-C07D-4EC4-B6D6-D997B258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6D21-A5D9-46D0-83A8-A01EB693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3A8DF-4B57-4887-8552-64E84839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CFCCA-C9F6-4A43-829A-669513C1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DD69F-D673-440E-BABD-DFD50527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C749E-5856-4EC2-BC97-3ED80CD0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4D01C-3824-4420-90A3-1186A33D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BA0-392E-4B0D-A8EE-7BF252B0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3F070-30C5-43AA-82C0-5BB2B1F0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9259E-59A0-4CD4-8971-E46C8339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BEFC2-C933-48A7-A977-9F21B6B4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4EFC9-C305-4283-B853-8197CC0C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31E9E-8B88-4F90-883E-A5DE8701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EB6D1-E9CC-4C47-80BF-75B8FA7F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85C44-01F3-4293-8E2B-512B6DC4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B114D-050C-4B57-9FEC-C1D39651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0BC2-7777-430F-B9E9-F04AB940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0074E-EB9B-48A4-9C4A-5A39608E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3DD-A3AC-46C5-969D-F5C90DAB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5BF1F-C629-4E9B-B35C-16CD43A3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774D9-F70C-4465-B0D3-8BD96EB5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2B92E-E75C-4E41-BA60-DA65F602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39810-B3A2-41C9-AC80-65EC7BE3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23C1F-9AD7-4171-B6AB-EF5659FE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54210-F53A-4108-87EA-D4882857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13F26-33DD-4ADB-97A9-01CB56AD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473CC-4530-466F-B17B-5B6DDA09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5789D-0636-4008-BAAE-D7FA8879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F880D-1221-4AA4-8D5F-F81E38FE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4C7-C5DA-41CE-8D30-602E14F8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AD530-0D96-49DD-B5D1-DD973678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1333F-0A0E-4B66-B2F5-7473338E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E49D2-65D4-4AA0-B5A8-786C7FB0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E3DE3-61BA-4A6E-BAC4-4F2B83F5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FD440-E510-4AAA-9F4C-6990D46D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F3400-EE0B-45F7-A1A8-97EF43BF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E806F-1707-40A3-8059-2520B977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601DD-636F-4DDA-BBBE-6A1F0470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253FE-D3DC-46F8-B83D-96D863E0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CC885-0C98-49CE-8AE0-521B3E74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F80-9C69-4A28-A3F1-D4A6812C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01ACA-DEA8-4EDF-B72F-77B08613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42B16-9EF8-4027-B9DD-1B76BC3E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30DC1-8841-4D8E-9DC2-FA6E7EA2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1243F-3298-48F4-AE4C-3B6AB9F6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0E5DA-12AB-4C2F-80D0-DD49151E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C167A-7A00-44F3-930A-73334C36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2C525-D0BB-40F1-BF2A-2BE47356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4CEF5-23C7-4759-97B8-798F55EE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D5D02-9CDF-4325-B5B6-0548B3D1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919FA-85E6-4F05-9A69-F970C473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6E7-D4A7-406C-9CA2-4970263C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2F557-93DE-4674-BD05-AC5C0241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0F1C9-4EE6-4022-A41D-13B8D73D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96B2F-F789-460D-89C3-0D45175A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61F2D7-E166-4D64-A0CF-77869ABC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3EEC54-3424-4A7E-8F23-2555F5F8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926AC-67C0-4645-9FA1-D63B850E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4F48E3-2BA4-46AA-89D6-DD6356B2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272D1-1BF1-45BB-BFD7-C9FEA6BC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B457BF-7B13-4332-8592-3F4ADD55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20F95-C00B-436B-8658-7B0E9B15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E68-37AC-4417-8C8C-D4F8DADB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00253-ED3B-47E9-9951-01D122D5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A05222-3D64-46A7-923F-3EE45673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47476-563A-4CF5-BEAF-2131FC00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302B9-42BA-40AC-AD29-FC6D9367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65BE8-0E5D-4A84-9009-C5D12EA0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6EB2D-343D-4208-83DD-36C91E6B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C149E-F27C-4C68-823C-C0AAE711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C41C9-F176-4BE1-9B96-74A5D277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569A3-FD14-4354-BDBD-1F299542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B01CA-BA7F-43CF-8E84-3441AFD8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9E3-4D3A-488F-BACF-6F36844C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91271-28FD-492A-AF24-FF6E0686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65427-F9B2-410A-ADCB-AE29E1FB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D0022-68A0-4A17-834B-B4AB1719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B189C-5E3D-4366-AFB6-9FBCCEA8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10994-5B67-43FF-9D58-E769A5D2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FDFCF-30A7-401D-863E-4917D3F9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45E81-163A-4F7D-A7B4-AAF12F36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BF5C17-CE9B-4F3C-89F9-9DC2B13A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44F54E-D40C-4FD9-822F-A0CA0A66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F253A1-A10E-4A5E-8749-AC65A590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16.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3F28AB-E434-4072-86C8-22D88C127F7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70AB5D-063D-422C-990C-0A0ED2D097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ABA8F0-9DDF-42E6-A552-72E34B7F7E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E1F95B-2CC1-42DF-ADA5-8C4C6065E6A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3109DA-ADEC-49C6-9E9F-CEC33D28B7C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835A06-A481-4726-A431-304D69ACACC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02E54B-7084-4C56-842D-C069D5D199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31F266-A027-4330-BEE8-68A8FAA33C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4659CB-E2A6-4265-AADA-4A653DABA41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D3A433-A22E-4D1A-BC52-1210B99A244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855B14-1EFF-449F-A56A-8EA660ED33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6D94AE-382E-4A06-8B85-81EAE15178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56.png"/><Relationship Id="rId7" Type="http://schemas.openxmlformats.org/officeDocument/2006/relationships/image" Target="../media/image81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jpe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30.png"/><Relationship Id="rId14" Type="http://schemas.openxmlformats.org/officeDocument/2006/relationships/image" Target="../media/image40.jpe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16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19.png"/><Relationship Id="rId18" Type="http://schemas.openxmlformats.org/officeDocument/2006/relationships/image" Target="../media/image53.png"/><Relationship Id="rId19" Type="http://schemas.openxmlformats.org/officeDocument/2006/relationships/image" Target="../media/image54.png"/><Relationship Id="rId20" Type="http://schemas.openxmlformats.org/officeDocument/2006/relationships/image" Target="../media/image55.png"/><Relationship Id="rId21" Type="http://schemas.openxmlformats.org/officeDocument/2006/relationships/image" Target="../media/image56.png"/><Relationship Id="rId22" Type="http://schemas.openxmlformats.org/officeDocument/2006/relationships/image" Target="../media/image57.jpeg"/><Relationship Id="rId23" Type="http://schemas.openxmlformats.org/officeDocument/2006/relationships/image" Target="../media/image58.jpeg"/><Relationship Id="rId24" Type="http://schemas.openxmlformats.org/officeDocument/2006/relationships/image" Target="../media/image59.jpeg"/><Relationship Id="rId25" Type="http://schemas.openxmlformats.org/officeDocument/2006/relationships/image" Target="../media/image60.png"/><Relationship Id="rId26" Type="http://schemas.openxmlformats.org/officeDocument/2006/relationships/image" Target="../media/image61.png"/><Relationship Id="rId27" Type="http://schemas.openxmlformats.org/officeDocument/2006/relationships/image" Target="../media/image61.png"/><Relationship Id="rId28" Type="http://schemas.openxmlformats.org/officeDocument/2006/relationships/image" Target="../media/image62.png"/><Relationship Id="rId29" Type="http://schemas.openxmlformats.org/officeDocument/2006/relationships/image" Target="../media/image63.png"/><Relationship Id="rId3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wmf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6" descr="D:\work\Prezentacii\Faktura_Prezentacii\2013\jpg\ekran_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2920" y="1195200"/>
            <a:ext cx="71294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СИСТЕМА УЧЕБНО-МЕТОДИЧЕСКИХ КОМПЛЕКТ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ДЛЯ НОО И ООО  ОБРАЗОВАНИЯ</a:t>
            </a:r>
            <a:br>
              <a:rPr sz="27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«НАЧАЛЬНАЯ ШКОЛА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XXI 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ВЕКА»</a:t>
            </a:r>
            <a:r>
              <a:rPr b="1" lang="ru-RU" sz="49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2700"/>
            </a:br>
            <a:r>
              <a:rPr b="1" lang="ru-RU" sz="4900" spc="-1" strike="noStrike">
                <a:solidFill>
                  <a:srgbClr val="ff0000"/>
                </a:solidFill>
                <a:latin typeface="Century Schoolbook"/>
              </a:rPr>
              <a:t>«АЛГОРИТМ</a:t>
            </a:r>
            <a:r>
              <a:rPr b="1" lang="en-US" sz="49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4900" spc="-1" strike="noStrike">
                <a:solidFill>
                  <a:srgbClr val="ff0000"/>
                </a:solidFill>
                <a:latin typeface="Century Schoolbook"/>
              </a:rPr>
              <a:t>УСПЕХА» </a:t>
            </a:r>
            <a:br>
              <a:rPr sz="3600"/>
            </a:br>
            <a:r>
              <a:rPr b="1" lang="ru-RU" sz="2900" spc="-1" strike="noStrike">
                <a:solidFill>
                  <a:srgbClr val="990033"/>
                </a:solidFill>
                <a:latin typeface="Century Schoolbook"/>
              </a:rPr>
              <a:t>КАК РЕСУРС РЕАЛИЗАЦИИ </a:t>
            </a:r>
            <a:br>
              <a:rPr sz="2900"/>
            </a:br>
            <a:r>
              <a:rPr b="1" lang="ru-RU" sz="2900" spc="-1" strike="noStrike">
                <a:solidFill>
                  <a:srgbClr val="990033"/>
                </a:solidFill>
                <a:latin typeface="Century Schoolbook"/>
              </a:rPr>
              <a:t>ТРЕБОВАНИЙ ФГОС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      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УЧЕБНИК КАК ПУТЬ В БУДУЩЕЕ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ПОД РЕДАКЦИЕЙ К.Ф.Н., ПРОФЕССОРА </a:t>
            </a: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Г.В. МОСКВИНА</a:t>
            </a: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420720" y="2249640"/>
            <a:ext cx="52657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Если всякое познание – процесс творческий, то постижение художественного текста - высшее  проявление творчеств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19" name="Picture 7" descr="5 кла 1"/>
          <p:cNvPicPr/>
          <p:nvPr/>
        </p:nvPicPr>
        <p:blipFill>
          <a:blip r:embed="rId1"/>
          <a:stretch/>
        </p:blipFill>
        <p:spPr>
          <a:xfrm rot="20905800">
            <a:off x="0" y="1196640"/>
            <a:ext cx="1701720" cy="22320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720" name="Picture 3" descr="6 класс 1"/>
          <p:cNvPicPr/>
          <p:nvPr/>
        </p:nvPicPr>
        <p:blipFill>
          <a:blip r:embed="rId2"/>
          <a:stretch/>
        </p:blipFill>
        <p:spPr>
          <a:xfrm rot="20862600">
            <a:off x="323640" y="3068280"/>
            <a:ext cx="1698480" cy="25131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1" name="Содержимое 4" descr="7 класс 1.jpg"/>
          <p:cNvPicPr/>
          <p:nvPr/>
        </p:nvPicPr>
        <p:blipFill>
          <a:blip r:embed="rId3"/>
          <a:stretch/>
        </p:blipFill>
        <p:spPr>
          <a:xfrm rot="21139200">
            <a:off x="1835280" y="3357720"/>
            <a:ext cx="1773000" cy="24476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2" name="Содержимое 7" descr="Oblojka_klass8_2.jpg"/>
          <p:cNvPicPr/>
          <p:nvPr/>
        </p:nvPicPr>
        <p:blipFill>
          <a:blip r:embed="rId4"/>
          <a:stretch/>
        </p:blipFill>
        <p:spPr>
          <a:xfrm>
            <a:off x="1835280" y="1341360"/>
            <a:ext cx="1638000" cy="223380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3" name="Picture 7" descr="5 прогр"/>
          <p:cNvPicPr/>
          <p:nvPr/>
        </p:nvPicPr>
        <p:blipFill>
          <a:blip r:embed="rId5"/>
          <a:stretch/>
        </p:blipFill>
        <p:spPr>
          <a:xfrm>
            <a:off x="6012000" y="4149720"/>
            <a:ext cx="1800000" cy="256536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4" name="Picture 9" descr="1799_200"/>
          <p:cNvPicPr/>
          <p:nvPr/>
        </p:nvPicPr>
        <p:blipFill>
          <a:blip r:embed="rId6"/>
          <a:stretch/>
        </p:blipFill>
        <p:spPr>
          <a:xfrm>
            <a:off x="971640" y="4756320"/>
            <a:ext cx="1616040" cy="2101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5" name="Picture 8" descr="FP3"/>
          <p:cNvPicPr/>
          <p:nvPr/>
        </p:nvPicPr>
        <p:blipFill>
          <a:blip r:embed="rId7"/>
          <a:stretch/>
        </p:blipFill>
        <p:spPr>
          <a:xfrm>
            <a:off x="-19080" y="0"/>
            <a:ext cx="12063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6" descr="D:\work\Prezentacii\Faktura_Prezentacii\2013\jpg\ekran_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4000" y="1195560"/>
            <a:ext cx="84247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ВОЗНИКНОВЕНИЕ ПОНЯТИЯ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«УНИВЕРСАЛЬНЫЕ УЧЕБНЫЕ ДЕЙСТВИЯ»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СВЯЗАНО С ИЗМЕНЕНИЕМ ПАРАДИГМЫ ОБРАЗОВАНИЯ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ОТ УСВОЕНИЯ ЗНАНИЙ, УМЕНИЙ И НАВЫКОВ К РАЗВИТИЮ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entury Schoolbook"/>
              </a:rPr>
              <a:t>ЛИЧНОСТИ   УЧАЩЕГОСЯ</a:t>
            </a:r>
            <a:br>
              <a:rPr sz="25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16" descr="ekra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5"/>
          <p:cNvSpPr/>
          <p:nvPr/>
        </p:nvSpPr>
        <p:spPr>
          <a:xfrm>
            <a:off x="2411280" y="1298520"/>
            <a:ext cx="4753080" cy="33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едставляет собой целостную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нформационно-образовательную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реду школы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остроенную на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основе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единых идеологических, дидактических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и методических принципов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аправленных на реализацию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ребований ФГОС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2411280" y="47628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учебников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Алгоритм успеха»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74" descr="D:\work\Prezentacii\Faktura_Prezentacii\2013\jpg\ekran_03.jp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6" descr=""/>
          <p:cNvPicPr/>
          <p:nvPr/>
        </p:nvPicPr>
        <p:blipFill>
          <a:blip r:embed="rId2"/>
          <a:stretch/>
        </p:blipFill>
        <p:spPr>
          <a:xfrm>
            <a:off x="3774960" y="2852640"/>
            <a:ext cx="576360" cy="760680"/>
          </a:xfrm>
          <a:prstGeom prst="rect">
            <a:avLst/>
          </a:prstGeom>
          <a:ln w="9360">
            <a:solidFill>
              <a:srgbClr val="f2f2f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95" name="Picture 44" descr="70_200"/>
          <p:cNvPicPr/>
          <p:nvPr/>
        </p:nvPicPr>
        <p:blipFill>
          <a:blip r:embed="rId3"/>
          <a:stretch/>
        </p:blipFill>
        <p:spPr>
          <a:xfrm>
            <a:off x="1290600" y="5322960"/>
            <a:ext cx="619200" cy="81108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СИСТЕМА УЧЕБН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О-МЕТОДИЧЕСКИХ КОМПЛЕКТОВ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«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АЛГОРИТМ УСПЕХА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»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826560" y="1484280"/>
            <a:ext cx="28083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22268"/>
                </a:solidFill>
                <a:latin typeface="Century Schoolbook"/>
              </a:rPr>
              <a:t>Программа</a:t>
            </a:r>
            <a:r>
              <a:rPr b="0" lang="ru-RU" sz="1000" spc="-1" strike="noStrike">
                <a:solidFill>
                  <a:srgbClr val="222268"/>
                </a:solidFill>
                <a:latin typeface="Century Schoolbook"/>
              </a:rPr>
              <a:t> (линия УМК) </a:t>
            </a:r>
            <a:r>
              <a:rPr b="1" lang="ru-RU" sz="1000" spc="-1" strike="noStrike">
                <a:solidFill>
                  <a:srgbClr val="222268"/>
                </a:solidFill>
                <a:latin typeface="Century Schoolbook"/>
              </a:rPr>
              <a:t>«ТРОПИНКИ»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22268"/>
                </a:solidFill>
                <a:latin typeface="Century Schoolbook"/>
              </a:rPr>
              <a:t>от 3 до 7 лет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4548240"/>
            <a:ext cx="274644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22268"/>
                </a:solidFill>
                <a:latin typeface="Century Schoolbook"/>
              </a:rPr>
              <a:t>   </a:t>
            </a:r>
            <a:r>
              <a:rPr b="0" lang="ru-RU" sz="900" spc="-1" strike="noStrike">
                <a:solidFill>
                  <a:srgbClr val="222268"/>
                </a:solidFill>
                <a:latin typeface="Century Schoolbook"/>
              </a:rPr>
              <a:t>Программа (линия УМК)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2268"/>
                </a:solidFill>
                <a:latin typeface="Century Schoolbook"/>
              </a:rPr>
              <a:t>«Предшкольная пора»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22268"/>
                </a:solidFill>
                <a:latin typeface="Century Schoolbook"/>
              </a:rPr>
              <a:t>  </a:t>
            </a:r>
            <a:r>
              <a:rPr b="0" lang="ru-RU" sz="900" spc="-1" strike="noStrike">
                <a:solidFill>
                  <a:srgbClr val="222268"/>
                </a:solidFill>
                <a:latin typeface="Century Schoolbook"/>
              </a:rPr>
              <a:t>для 5 – 6 лет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9" name="Rectangle 18"/>
          <p:cNvSpPr/>
          <p:nvPr/>
        </p:nvSpPr>
        <p:spPr>
          <a:xfrm>
            <a:off x="3203640" y="1484280"/>
            <a:ext cx="3106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2268"/>
                </a:solidFill>
                <a:latin typeface="Arial"/>
              </a:rPr>
              <a:t>                  </a:t>
            </a:r>
            <a:r>
              <a:rPr b="1" lang="ru-RU" sz="1200" spc="-1" strike="noStrike">
                <a:solidFill>
                  <a:srgbClr val="222268"/>
                </a:solidFill>
                <a:latin typeface="Arial"/>
              </a:rPr>
              <a:t>Линии УМК 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2268"/>
                </a:solidFill>
                <a:latin typeface="Arial"/>
              </a:rPr>
              <a:t>«Начальная школа </a:t>
            </a:r>
            <a:r>
              <a:rPr b="1" lang="en-US" sz="1200" spc="-1" strike="noStrike">
                <a:solidFill>
                  <a:srgbClr val="222268"/>
                </a:solidFill>
                <a:latin typeface="Arial"/>
              </a:rPr>
              <a:t>XXI</a:t>
            </a:r>
            <a:r>
              <a:rPr b="1" lang="ru-RU" sz="1200" spc="-1" strike="noStrike">
                <a:solidFill>
                  <a:srgbClr val="222268"/>
                </a:solidFill>
                <a:latin typeface="Arial"/>
              </a:rPr>
              <a:t> века»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Rectangle 19"/>
          <p:cNvSpPr/>
          <p:nvPr/>
        </p:nvSpPr>
        <p:spPr>
          <a:xfrm>
            <a:off x="3492360" y="4227480"/>
            <a:ext cx="29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2268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222268"/>
                </a:solidFill>
                <a:latin typeface="Arial"/>
              </a:rPr>
              <a:t>Линии УМК по лит.чтению, математике и технологии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Rectangle 20"/>
          <p:cNvSpPr/>
          <p:nvPr/>
        </p:nvSpPr>
        <p:spPr>
          <a:xfrm>
            <a:off x="468360" y="1125360"/>
            <a:ext cx="1942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Rectangle 21"/>
          <p:cNvSpPr/>
          <p:nvPr/>
        </p:nvSpPr>
        <p:spPr>
          <a:xfrm>
            <a:off x="4211640" y="1052640"/>
            <a:ext cx="12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 4 классы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Rectangle 22"/>
          <p:cNvSpPr/>
          <p:nvPr/>
        </p:nvSpPr>
        <p:spPr>
          <a:xfrm>
            <a:off x="6804000" y="979560"/>
            <a:ext cx="2016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ОО и С(П)О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– 9 классы, 10 – 11 классы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04" name="Picture 23" descr="FGT%20logo"/>
          <p:cNvPicPr/>
          <p:nvPr/>
        </p:nvPicPr>
        <p:blipFill>
          <a:blip r:embed="rId4"/>
          <a:stretch/>
        </p:blipFill>
        <p:spPr>
          <a:xfrm>
            <a:off x="1384200" y="988920"/>
            <a:ext cx="432000" cy="3733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0" descr="FGOS"/>
          <p:cNvPicPr/>
          <p:nvPr/>
        </p:nvPicPr>
        <p:blipFill>
          <a:blip r:embed="rId5"/>
          <a:stretch/>
        </p:blipFill>
        <p:spPr>
          <a:xfrm>
            <a:off x="3780000" y="1000080"/>
            <a:ext cx="431640" cy="4129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FGOS"/>
          <p:cNvPicPr/>
          <p:nvPr/>
        </p:nvPicPr>
        <p:blipFill>
          <a:blip r:embed="rId6"/>
          <a:stretch/>
        </p:blipFill>
        <p:spPr>
          <a:xfrm>
            <a:off x="6372360" y="1000080"/>
            <a:ext cx="431640" cy="4129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6" descr="1201_200"/>
          <p:cNvPicPr/>
          <p:nvPr/>
        </p:nvPicPr>
        <p:blipFill>
          <a:blip r:embed="rId7"/>
          <a:stretch/>
        </p:blipFill>
        <p:spPr>
          <a:xfrm>
            <a:off x="196920" y="2541600"/>
            <a:ext cx="630000" cy="9018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7" descr="1002_200"/>
          <p:cNvPicPr/>
          <p:nvPr/>
        </p:nvPicPr>
        <p:blipFill>
          <a:blip r:embed="rId8"/>
          <a:stretch/>
        </p:blipFill>
        <p:spPr>
          <a:xfrm>
            <a:off x="1600200" y="2557440"/>
            <a:ext cx="668160" cy="9018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7" descr="1740_200"/>
          <p:cNvPicPr/>
          <p:nvPr/>
        </p:nvPicPr>
        <p:blipFill>
          <a:blip r:embed="rId9"/>
          <a:stretch/>
        </p:blipFill>
        <p:spPr>
          <a:xfrm>
            <a:off x="150840" y="5315040"/>
            <a:ext cx="658800" cy="85392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pic>
        <p:nvPicPr>
          <p:cNvPr id="610" name="Picture 8" descr="2081_200"/>
          <p:cNvPicPr/>
          <p:nvPr/>
        </p:nvPicPr>
        <p:blipFill>
          <a:blip r:embed="rId10"/>
          <a:stretch/>
        </p:blipFill>
        <p:spPr>
          <a:xfrm>
            <a:off x="3419640" y="1916280"/>
            <a:ext cx="576000" cy="7207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5" descr=""/>
          <p:cNvPicPr/>
          <p:nvPr/>
        </p:nvPicPr>
        <p:blipFill>
          <a:blip r:embed="rId11"/>
          <a:stretch/>
        </p:blipFill>
        <p:spPr>
          <a:xfrm>
            <a:off x="4103640" y="192888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0" descr="2082_200"/>
          <p:cNvPicPr/>
          <p:nvPr/>
        </p:nvPicPr>
        <p:blipFill>
          <a:blip r:embed="rId12"/>
          <a:stretch/>
        </p:blipFill>
        <p:spPr>
          <a:xfrm>
            <a:off x="4716360" y="1917720"/>
            <a:ext cx="544680" cy="72396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5"/>
          <p:cNvSpPr/>
          <p:nvPr/>
        </p:nvSpPr>
        <p:spPr>
          <a:xfrm>
            <a:off x="4643280" y="2852640"/>
            <a:ext cx="533520" cy="728640"/>
          </a:xfrm>
          <a:prstGeom prst="rect">
            <a:avLst/>
          </a:prstGeom>
          <a:blipFill rotWithShape="0">
            <a:blip r:embed="rId13"/>
            <a:srcRect/>
            <a:stretch/>
          </a:blip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4" name="Picture 58" descr="2738_200"/>
          <p:cNvPicPr/>
          <p:nvPr/>
        </p:nvPicPr>
        <p:blipFill>
          <a:blip r:embed="rId14"/>
          <a:stretch/>
        </p:blipFill>
        <p:spPr>
          <a:xfrm>
            <a:off x="5084640" y="4846680"/>
            <a:ext cx="714600" cy="90792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pic>
        <p:nvPicPr>
          <p:cNvPr id="615" name="Picture 59" descr="2066_200"/>
          <p:cNvPicPr/>
          <p:nvPr/>
        </p:nvPicPr>
        <p:blipFill>
          <a:blip r:embed="rId15"/>
          <a:stretch/>
        </p:blipFill>
        <p:spPr>
          <a:xfrm>
            <a:off x="3311640" y="4827600"/>
            <a:ext cx="684000" cy="91440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pic>
        <p:nvPicPr>
          <p:cNvPr id="616" name="Picture 60" descr="2200_200"/>
          <p:cNvPicPr/>
          <p:nvPr/>
        </p:nvPicPr>
        <p:blipFill>
          <a:blip r:embed="rId16"/>
          <a:stretch/>
        </p:blipFill>
        <p:spPr>
          <a:xfrm>
            <a:off x="4211640" y="4871880"/>
            <a:ext cx="639720" cy="91440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pic>
        <p:nvPicPr>
          <p:cNvPr id="617" name="Picture 11" descr="Cover P1a4"/>
          <p:cNvPicPr/>
          <p:nvPr/>
        </p:nvPicPr>
        <p:blipFill>
          <a:blip r:embed="rId17"/>
          <a:stretch/>
        </p:blipFill>
        <p:spPr>
          <a:xfrm>
            <a:off x="6310440" y="1884240"/>
            <a:ext cx="561960" cy="7905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67" descr="2301_200"/>
          <p:cNvPicPr/>
          <p:nvPr/>
        </p:nvPicPr>
        <p:blipFill>
          <a:blip r:embed="rId18"/>
          <a:stretch/>
        </p:blipFill>
        <p:spPr>
          <a:xfrm>
            <a:off x="7230960" y="1857240"/>
            <a:ext cx="608040" cy="7923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70" descr="2169_200"/>
          <p:cNvPicPr/>
          <p:nvPr/>
        </p:nvPicPr>
        <p:blipFill>
          <a:blip r:embed="rId19"/>
          <a:stretch/>
        </p:blipFill>
        <p:spPr>
          <a:xfrm>
            <a:off x="8211960" y="1838160"/>
            <a:ext cx="608040" cy="7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73" descr="2538_200"/>
          <p:cNvPicPr/>
          <p:nvPr/>
        </p:nvPicPr>
        <p:blipFill>
          <a:blip r:embed="rId20"/>
          <a:stretch/>
        </p:blipFill>
        <p:spPr>
          <a:xfrm>
            <a:off x="7346880" y="4508640"/>
            <a:ext cx="592200" cy="792000"/>
          </a:xfrm>
          <a:prstGeom prst="rect">
            <a:avLst/>
          </a:prstGeom>
          <a:ln w="3240">
            <a:solidFill>
              <a:srgbClr val="bfbfbf"/>
            </a:solidFill>
            <a:miter/>
          </a:ln>
        </p:spPr>
      </p:pic>
      <p:pic>
        <p:nvPicPr>
          <p:cNvPr id="621" name="Picture 74" descr="2515_200"/>
          <p:cNvPicPr/>
          <p:nvPr/>
        </p:nvPicPr>
        <p:blipFill>
          <a:blip r:embed="rId21"/>
          <a:stretch/>
        </p:blipFill>
        <p:spPr>
          <a:xfrm>
            <a:off x="7304040" y="2781360"/>
            <a:ext cx="592200" cy="7920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78" descr="2479_200"/>
          <p:cNvPicPr/>
          <p:nvPr/>
        </p:nvPicPr>
        <p:blipFill>
          <a:blip r:embed="rId22"/>
          <a:stretch/>
        </p:blipFill>
        <p:spPr>
          <a:xfrm>
            <a:off x="7756560" y="3645000"/>
            <a:ext cx="590400" cy="79200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80"/>
          <p:cNvSpPr/>
          <p:nvPr/>
        </p:nvSpPr>
        <p:spPr>
          <a:xfrm>
            <a:off x="6516720" y="1484280"/>
            <a:ext cx="28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2268"/>
                </a:solidFill>
                <a:latin typeface="Arial"/>
              </a:rPr>
              <a:t>Линии УМК по всем предметам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24" name="Picture 82" descr="2295_200"/>
          <p:cNvPicPr/>
          <p:nvPr/>
        </p:nvPicPr>
        <p:blipFill>
          <a:blip r:embed="rId23"/>
          <a:stretch/>
        </p:blipFill>
        <p:spPr>
          <a:xfrm>
            <a:off x="8116920" y="2728800"/>
            <a:ext cx="577800" cy="7923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85" descr="2326_200"/>
          <p:cNvPicPr/>
          <p:nvPr/>
        </p:nvPicPr>
        <p:blipFill>
          <a:blip r:embed="rId24"/>
          <a:stretch/>
        </p:blipFill>
        <p:spPr>
          <a:xfrm>
            <a:off x="6521400" y="4508640"/>
            <a:ext cx="601560" cy="79200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26" name="Picture 86" descr="2333_200"/>
          <p:cNvPicPr/>
          <p:nvPr/>
        </p:nvPicPr>
        <p:blipFill>
          <a:blip r:embed="rId25"/>
          <a:stretch/>
        </p:blipFill>
        <p:spPr>
          <a:xfrm>
            <a:off x="8470800" y="3645000"/>
            <a:ext cx="608040" cy="79200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27" name="Picture 88" descr="2539_200"/>
          <p:cNvPicPr/>
          <p:nvPr/>
        </p:nvPicPr>
        <p:blipFill>
          <a:blip r:embed="rId26"/>
          <a:stretch/>
        </p:blipFill>
        <p:spPr>
          <a:xfrm>
            <a:off x="8070840" y="4522680"/>
            <a:ext cx="593640" cy="7923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91" descr="1831_200"/>
          <p:cNvPicPr/>
          <p:nvPr/>
        </p:nvPicPr>
        <p:blipFill>
          <a:blip r:embed="rId27"/>
          <a:stretch/>
        </p:blipFill>
        <p:spPr>
          <a:xfrm>
            <a:off x="6804000" y="5567400"/>
            <a:ext cx="569880" cy="763560"/>
          </a:xfrm>
          <a:prstGeom prst="rect">
            <a:avLst/>
          </a:prstGeom>
          <a:ln w="3240">
            <a:solidFill>
              <a:srgbClr val="f2f2f2"/>
            </a:solidFill>
            <a:miter/>
          </a:ln>
        </p:spPr>
      </p:pic>
      <p:pic>
        <p:nvPicPr>
          <p:cNvPr id="629" name="Picture 92" descr="1381_200"/>
          <p:cNvPicPr/>
          <p:nvPr/>
        </p:nvPicPr>
        <p:blipFill>
          <a:blip r:embed="rId28"/>
          <a:stretch/>
        </p:blipFill>
        <p:spPr>
          <a:xfrm>
            <a:off x="8405640" y="5505480"/>
            <a:ext cx="624240" cy="81108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30" name="Picture 93" descr="1419_200"/>
          <p:cNvPicPr/>
          <p:nvPr/>
        </p:nvPicPr>
        <p:blipFill>
          <a:blip r:embed="rId29"/>
          <a:stretch/>
        </p:blipFill>
        <p:spPr>
          <a:xfrm>
            <a:off x="7547040" y="5541840"/>
            <a:ext cx="584280" cy="78912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31" name="Picture 83" descr="2330_200"/>
          <p:cNvPicPr/>
          <p:nvPr/>
        </p:nvPicPr>
        <p:blipFill>
          <a:blip r:embed="rId30"/>
          <a:stretch/>
        </p:blipFill>
        <p:spPr>
          <a:xfrm>
            <a:off x="6967440" y="3662280"/>
            <a:ext cx="609840" cy="7923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72" descr="2272_200"/>
          <p:cNvPicPr/>
          <p:nvPr/>
        </p:nvPicPr>
        <p:blipFill>
          <a:blip r:embed="rId31"/>
          <a:stretch/>
        </p:blipFill>
        <p:spPr>
          <a:xfrm>
            <a:off x="6516720" y="2781360"/>
            <a:ext cx="6062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2" descr="ekran_03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ЛИНИИ ПРЕЕМСТВЕННЫХ УМК ПО РУССКОМУ ЯЗЫКУ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5" name="Rectangle 3"/>
          <p:cNvSpPr/>
          <p:nvPr/>
        </p:nvSpPr>
        <p:spPr>
          <a:xfrm>
            <a:off x="755640" y="765000"/>
            <a:ext cx="194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 4 классы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3565440" y="765000"/>
            <a:ext cx="194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О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– 9 классы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6805440" y="765000"/>
            <a:ext cx="194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(П)О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– 11 классы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38" name="Picture 10" descr="FGOS"/>
          <p:cNvPicPr/>
          <p:nvPr/>
        </p:nvPicPr>
        <p:blipFill>
          <a:blip r:embed="rId2"/>
          <a:stretch/>
        </p:blipFill>
        <p:spPr>
          <a:xfrm>
            <a:off x="900000" y="712800"/>
            <a:ext cx="432000" cy="4125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0" descr="FGOS"/>
          <p:cNvPicPr/>
          <p:nvPr/>
        </p:nvPicPr>
        <p:blipFill>
          <a:blip r:embed="rId3"/>
          <a:stretch/>
        </p:blipFill>
        <p:spPr>
          <a:xfrm>
            <a:off x="3852720" y="712800"/>
            <a:ext cx="432000" cy="4125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0" descr="FGOS"/>
          <p:cNvPicPr/>
          <p:nvPr/>
        </p:nvPicPr>
        <p:blipFill>
          <a:blip r:embed="rId4"/>
          <a:stretch/>
        </p:blipFill>
        <p:spPr>
          <a:xfrm>
            <a:off x="6804000" y="712800"/>
            <a:ext cx="432000" cy="41256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16"/>
          <p:cNvSpPr/>
          <p:nvPr/>
        </p:nvSpPr>
        <p:spPr>
          <a:xfrm>
            <a:off x="818640" y="1440000"/>
            <a:ext cx="129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2611c"/>
                </a:solidFill>
                <a:latin typeface="Arial"/>
              </a:rPr>
              <a:t>Журова Л.Е., </a:t>
            </a: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2611c"/>
                </a:solidFill>
                <a:latin typeface="Arial"/>
              </a:rPr>
              <a:t>Евдокимова А.О.</a:t>
            </a: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Rectangle 17"/>
          <p:cNvSpPr/>
          <p:nvPr/>
        </p:nvSpPr>
        <p:spPr>
          <a:xfrm>
            <a:off x="3632400" y="5229360"/>
            <a:ext cx="178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2611c"/>
                </a:solidFill>
                <a:latin typeface="Arial"/>
              </a:rPr>
              <a:t>под ред. А.Д. Шмелёва</a:t>
            </a: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Rectangle 18"/>
          <p:cNvSpPr/>
          <p:nvPr/>
        </p:nvSpPr>
        <p:spPr>
          <a:xfrm>
            <a:off x="7446600" y="5543640"/>
            <a:ext cx="114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2611c"/>
                </a:solidFill>
                <a:latin typeface="Arial"/>
              </a:rPr>
              <a:t>И.В. Гусарова</a:t>
            </a: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Rectangle 19"/>
          <p:cNvSpPr/>
          <p:nvPr/>
        </p:nvSpPr>
        <p:spPr>
          <a:xfrm>
            <a:off x="6831720" y="2305080"/>
            <a:ext cx="2274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2611c"/>
                </a:solidFill>
                <a:latin typeface="Arial"/>
              </a:rPr>
              <a:t>Базовый и углубленный уровни</a:t>
            </a:r>
            <a:r>
              <a:rPr b="0" lang="ru-RU" sz="1100" spc="-1" strike="noStrike">
                <a:solidFill>
                  <a:srgbClr val="d2611c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45" name="Picture 27" descr="2080_200"/>
          <p:cNvPicPr/>
          <p:nvPr/>
        </p:nvPicPr>
        <p:blipFill>
          <a:blip r:embed="rId5"/>
          <a:stretch/>
        </p:blipFill>
        <p:spPr>
          <a:xfrm>
            <a:off x="900000" y="1917720"/>
            <a:ext cx="966960" cy="1295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8" descr="2137_200"/>
          <p:cNvPicPr/>
          <p:nvPr/>
        </p:nvPicPr>
        <p:blipFill>
          <a:blip r:embed="rId6"/>
          <a:stretch/>
        </p:blipFill>
        <p:spPr>
          <a:xfrm>
            <a:off x="324000" y="3789360"/>
            <a:ext cx="984240" cy="129528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47" name="Picture 29" descr="2138_200"/>
          <p:cNvPicPr/>
          <p:nvPr/>
        </p:nvPicPr>
        <p:blipFill>
          <a:blip r:embed="rId7"/>
          <a:stretch/>
        </p:blipFill>
        <p:spPr>
          <a:xfrm>
            <a:off x="1403280" y="3789360"/>
            <a:ext cx="988920" cy="129528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48" name="Picture 30" descr="2141_200"/>
          <p:cNvPicPr/>
          <p:nvPr/>
        </p:nvPicPr>
        <p:blipFill>
          <a:blip r:embed="rId8"/>
          <a:stretch/>
        </p:blipFill>
        <p:spPr>
          <a:xfrm>
            <a:off x="324000" y="5229360"/>
            <a:ext cx="985680" cy="129528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49" name="Picture 32" descr="2856_200"/>
          <p:cNvPicPr/>
          <p:nvPr/>
        </p:nvPicPr>
        <p:blipFill>
          <a:blip r:embed="rId9"/>
          <a:stretch/>
        </p:blipFill>
        <p:spPr>
          <a:xfrm>
            <a:off x="4716360" y="1773360"/>
            <a:ext cx="995400" cy="129528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50" name="Picture 37" descr="2856_200"/>
          <p:cNvPicPr/>
          <p:nvPr/>
        </p:nvPicPr>
        <p:blipFill>
          <a:blip r:embed="rId10"/>
          <a:stretch/>
        </p:blipFill>
        <p:spPr>
          <a:xfrm>
            <a:off x="4152960" y="2781360"/>
            <a:ext cx="995400" cy="129528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51" name="Picture 39" descr="2856_200"/>
          <p:cNvPicPr/>
          <p:nvPr/>
        </p:nvPicPr>
        <p:blipFill>
          <a:blip r:embed="rId11"/>
          <a:stretch/>
        </p:blipFill>
        <p:spPr>
          <a:xfrm>
            <a:off x="3635280" y="3789360"/>
            <a:ext cx="995400" cy="129528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sp>
        <p:nvSpPr>
          <p:cNvPr id="652" name="Rectangle 40"/>
          <p:cNvSpPr/>
          <p:nvPr/>
        </p:nvSpPr>
        <p:spPr>
          <a:xfrm>
            <a:off x="6818400" y="1484280"/>
            <a:ext cx="2242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d2611c"/>
                </a:solidFill>
                <a:latin typeface="Arial"/>
              </a:rPr>
              <a:t>Русский язык и литература.</a:t>
            </a: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d2611c"/>
                </a:solidFill>
                <a:latin typeface="Arial"/>
              </a:rPr>
              <a:t>Русский язык  </a:t>
            </a: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53" name="Picture 42" descr="1418_200"/>
          <p:cNvPicPr/>
          <p:nvPr/>
        </p:nvPicPr>
        <p:blipFill>
          <a:blip r:embed="rId12"/>
          <a:stretch/>
        </p:blipFill>
        <p:spPr>
          <a:xfrm>
            <a:off x="7470720" y="2638440"/>
            <a:ext cx="988920" cy="12952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3" descr="1419_200"/>
          <p:cNvPicPr/>
          <p:nvPr/>
        </p:nvPicPr>
        <p:blipFill>
          <a:blip r:embed="rId13"/>
          <a:stretch/>
        </p:blipFill>
        <p:spPr>
          <a:xfrm>
            <a:off x="7524720" y="4149720"/>
            <a:ext cx="959040" cy="129528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44"/>
          <p:cNvSpPr/>
          <p:nvPr/>
        </p:nvSpPr>
        <p:spPr>
          <a:xfrm>
            <a:off x="250920" y="34290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2611c"/>
                </a:solidFill>
                <a:latin typeface="Arial"/>
              </a:rPr>
              <a:t>Иванов С.В. и др. </a:t>
            </a: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56" name="Picture 45" descr="2143_100"/>
          <p:cNvPicPr/>
          <p:nvPr/>
        </p:nvPicPr>
        <p:blipFill>
          <a:blip r:embed="rId14"/>
          <a:stretch/>
        </p:blipFill>
        <p:spPr>
          <a:xfrm>
            <a:off x="1403280" y="5229360"/>
            <a:ext cx="993960" cy="129528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57" name="Picture 3" descr=""/>
          <p:cNvPicPr/>
          <p:nvPr/>
        </p:nvPicPr>
        <p:blipFill>
          <a:blip r:embed="rId15"/>
          <a:stretch/>
        </p:blipFill>
        <p:spPr>
          <a:xfrm>
            <a:off x="2592360" y="3328920"/>
            <a:ext cx="884160" cy="2444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" descr=""/>
          <p:cNvPicPr/>
          <p:nvPr/>
        </p:nvPicPr>
        <p:blipFill>
          <a:blip r:embed="rId16"/>
          <a:stretch/>
        </p:blipFill>
        <p:spPr>
          <a:xfrm>
            <a:off x="6084720" y="3328920"/>
            <a:ext cx="88452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42" descr="ekran_03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ЛИНИИ ПРЕЕМСТВЕННЫХ УМК ПО ЛИТЕРАТУРЕ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755640" y="765000"/>
            <a:ext cx="194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 4 классы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3565440" y="765000"/>
            <a:ext cx="194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О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– 9 классы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6805440" y="765000"/>
            <a:ext cx="194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(П)О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– 11 классы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64" name="Picture 10" descr="FGOS"/>
          <p:cNvPicPr/>
          <p:nvPr/>
        </p:nvPicPr>
        <p:blipFill>
          <a:blip r:embed="rId2"/>
          <a:stretch/>
        </p:blipFill>
        <p:spPr>
          <a:xfrm>
            <a:off x="900000" y="712800"/>
            <a:ext cx="432000" cy="4125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0" descr="FGOS"/>
          <p:cNvPicPr/>
          <p:nvPr/>
        </p:nvPicPr>
        <p:blipFill>
          <a:blip r:embed="rId3"/>
          <a:stretch/>
        </p:blipFill>
        <p:spPr>
          <a:xfrm>
            <a:off x="3852720" y="712800"/>
            <a:ext cx="432000" cy="41256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FGOS"/>
          <p:cNvPicPr/>
          <p:nvPr/>
        </p:nvPicPr>
        <p:blipFill>
          <a:blip r:embed="rId4"/>
          <a:stretch/>
        </p:blipFill>
        <p:spPr>
          <a:xfrm>
            <a:off x="6804000" y="712800"/>
            <a:ext cx="432000" cy="41256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12"/>
          <p:cNvSpPr/>
          <p:nvPr/>
        </p:nvSpPr>
        <p:spPr>
          <a:xfrm>
            <a:off x="326160" y="1628640"/>
            <a:ext cx="127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611c"/>
                </a:solidFill>
                <a:latin typeface="Arial"/>
              </a:rPr>
              <a:t>Л.А. </a:t>
            </a:r>
            <a:r>
              <a:rPr b="0" lang="ru-RU" sz="1100" spc="-1" strike="noStrike">
                <a:solidFill>
                  <a:srgbClr val="d2611c"/>
                </a:solidFill>
                <a:latin typeface="Arial"/>
              </a:rPr>
              <a:t>Ефросинина</a:t>
            </a: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8" name="Rectangle 14"/>
          <p:cNvSpPr/>
          <p:nvPr/>
        </p:nvSpPr>
        <p:spPr>
          <a:xfrm>
            <a:off x="7247520" y="4653000"/>
            <a:ext cx="1642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2611c"/>
                </a:solidFill>
                <a:latin typeface="Arial"/>
              </a:rPr>
              <a:t>под ред. Б.А. Ланина</a:t>
            </a: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Rectangle 15"/>
          <p:cNvSpPr/>
          <p:nvPr/>
        </p:nvSpPr>
        <p:spPr>
          <a:xfrm>
            <a:off x="6735600" y="2492280"/>
            <a:ext cx="223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2611c"/>
                </a:solidFill>
                <a:latin typeface="Arial"/>
              </a:rPr>
              <a:t>Базовый и углубленный уровни</a:t>
            </a: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0" name="Rectangle 24"/>
          <p:cNvSpPr/>
          <p:nvPr/>
        </p:nvSpPr>
        <p:spPr>
          <a:xfrm>
            <a:off x="-4320" y="4365720"/>
            <a:ext cx="202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2611c"/>
                </a:solidFill>
                <a:latin typeface="Arial"/>
              </a:rPr>
              <a:t>под ред. Н.Ф. Виноградовой</a:t>
            </a: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Rectangle 40"/>
          <p:cNvSpPr/>
          <p:nvPr/>
        </p:nvSpPr>
        <p:spPr>
          <a:xfrm>
            <a:off x="4007160" y="1600200"/>
            <a:ext cx="1642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2611c"/>
                </a:solidFill>
                <a:latin typeface="Arial"/>
              </a:rPr>
              <a:t>под ред. Б.А. Ланина</a:t>
            </a: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Rectangle 41"/>
          <p:cNvSpPr/>
          <p:nvPr/>
        </p:nvSpPr>
        <p:spPr>
          <a:xfrm>
            <a:off x="3580560" y="6165720"/>
            <a:ext cx="24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2611c"/>
                </a:solidFill>
                <a:latin typeface="Arial"/>
              </a:rPr>
              <a:t>Москвин Г.В., Пуряева Н.Н. и др.</a:t>
            </a: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Rectangle 43"/>
          <p:cNvSpPr/>
          <p:nvPr/>
        </p:nvSpPr>
        <p:spPr>
          <a:xfrm>
            <a:off x="6651000" y="1592280"/>
            <a:ext cx="2282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d2611c"/>
                </a:solidFill>
                <a:latin typeface="Arial"/>
              </a:rPr>
              <a:t>Русский язык и литература. </a:t>
            </a: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d2611c"/>
                </a:solidFill>
                <a:latin typeface="Arial"/>
              </a:rPr>
              <a:t>Литература</a:t>
            </a:r>
            <a:endParaRPr b="0" lang="en-US" sz="11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4" name="Picture 46" descr="2082_200"/>
          <p:cNvPicPr/>
          <p:nvPr/>
        </p:nvPicPr>
        <p:blipFill>
          <a:blip r:embed="rId5"/>
          <a:stretch/>
        </p:blipFill>
        <p:spPr>
          <a:xfrm>
            <a:off x="179280" y="1916280"/>
            <a:ext cx="704880" cy="93636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75" name="Picture 47" descr="2103_200"/>
          <p:cNvPicPr/>
          <p:nvPr/>
        </p:nvPicPr>
        <p:blipFill>
          <a:blip r:embed="rId6"/>
          <a:stretch/>
        </p:blipFill>
        <p:spPr>
          <a:xfrm>
            <a:off x="1042920" y="1916280"/>
            <a:ext cx="720720" cy="93636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76" name="Picture 48" descr="2159_200"/>
          <p:cNvPicPr/>
          <p:nvPr/>
        </p:nvPicPr>
        <p:blipFill>
          <a:blip r:embed="rId7"/>
          <a:stretch/>
        </p:blipFill>
        <p:spPr>
          <a:xfrm>
            <a:off x="179280" y="2997360"/>
            <a:ext cx="704880" cy="91584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77" name="Picture 50" descr="2066_200"/>
          <p:cNvPicPr/>
          <p:nvPr/>
        </p:nvPicPr>
        <p:blipFill>
          <a:blip r:embed="rId8"/>
          <a:stretch/>
        </p:blipFill>
        <p:spPr>
          <a:xfrm>
            <a:off x="179280" y="4648320"/>
            <a:ext cx="704880" cy="94140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pic>
        <p:nvPicPr>
          <p:cNvPr id="678" name="Picture 51" descr="2185_200"/>
          <p:cNvPicPr/>
          <p:nvPr/>
        </p:nvPicPr>
        <p:blipFill>
          <a:blip r:embed="rId9"/>
          <a:stretch/>
        </p:blipFill>
        <p:spPr>
          <a:xfrm>
            <a:off x="1042920" y="4638600"/>
            <a:ext cx="720720" cy="95112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pic>
        <p:nvPicPr>
          <p:cNvPr id="679" name="Picture 52" descr="1852_200"/>
          <p:cNvPicPr/>
          <p:nvPr/>
        </p:nvPicPr>
        <p:blipFill>
          <a:blip r:embed="rId10"/>
          <a:stretch/>
        </p:blipFill>
        <p:spPr>
          <a:xfrm>
            <a:off x="169920" y="5705640"/>
            <a:ext cx="730080" cy="96336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pic>
        <p:nvPicPr>
          <p:cNvPr id="680" name="Picture 53" descr="2072_200"/>
          <p:cNvPicPr/>
          <p:nvPr/>
        </p:nvPicPr>
        <p:blipFill>
          <a:blip r:embed="rId11"/>
          <a:stretch/>
        </p:blipFill>
        <p:spPr>
          <a:xfrm>
            <a:off x="1042920" y="5732640"/>
            <a:ext cx="720720" cy="93636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pic>
        <p:nvPicPr>
          <p:cNvPr id="681" name="Picture 54" descr="2274_200"/>
          <p:cNvPicPr/>
          <p:nvPr/>
        </p:nvPicPr>
        <p:blipFill>
          <a:blip r:embed="rId12"/>
          <a:stretch/>
        </p:blipFill>
        <p:spPr>
          <a:xfrm>
            <a:off x="3392640" y="1916280"/>
            <a:ext cx="730080" cy="94932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pic>
        <p:nvPicPr>
          <p:cNvPr id="682" name="Picture 55" descr="345_200"/>
          <p:cNvPicPr/>
          <p:nvPr/>
        </p:nvPicPr>
        <p:blipFill>
          <a:blip r:embed="rId13"/>
          <a:stretch/>
        </p:blipFill>
        <p:spPr>
          <a:xfrm>
            <a:off x="4268880" y="1916280"/>
            <a:ext cx="739800" cy="96804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pic>
        <p:nvPicPr>
          <p:cNvPr id="683" name="Picture 56" descr="1330_200"/>
          <p:cNvPicPr/>
          <p:nvPr/>
        </p:nvPicPr>
        <p:blipFill>
          <a:blip r:embed="rId14"/>
          <a:stretch/>
        </p:blipFill>
        <p:spPr>
          <a:xfrm>
            <a:off x="5148360" y="1916280"/>
            <a:ext cx="753840" cy="96804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pic>
        <p:nvPicPr>
          <p:cNvPr id="684" name="Picture 57" descr="1904_200"/>
          <p:cNvPicPr/>
          <p:nvPr/>
        </p:nvPicPr>
        <p:blipFill>
          <a:blip r:embed="rId15"/>
          <a:stretch/>
        </p:blipFill>
        <p:spPr>
          <a:xfrm>
            <a:off x="3863880" y="2565360"/>
            <a:ext cx="722520" cy="93996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pic>
        <p:nvPicPr>
          <p:cNvPr id="685" name="Picture 58" descr="1944_200"/>
          <p:cNvPicPr/>
          <p:nvPr/>
        </p:nvPicPr>
        <p:blipFill>
          <a:blip r:embed="rId16"/>
          <a:stretch/>
        </p:blipFill>
        <p:spPr>
          <a:xfrm>
            <a:off x="4716360" y="2556000"/>
            <a:ext cx="752400" cy="98244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pic>
        <p:nvPicPr>
          <p:cNvPr id="686" name="Picture 59" descr="2301_200"/>
          <p:cNvPicPr/>
          <p:nvPr/>
        </p:nvPicPr>
        <p:blipFill>
          <a:blip r:embed="rId17"/>
          <a:stretch/>
        </p:blipFill>
        <p:spPr>
          <a:xfrm>
            <a:off x="3409920" y="4459320"/>
            <a:ext cx="741240" cy="96372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87" name="Picture 60" descr="1112_200"/>
          <p:cNvPicPr/>
          <p:nvPr/>
        </p:nvPicPr>
        <p:blipFill>
          <a:blip r:embed="rId18"/>
          <a:stretch/>
        </p:blipFill>
        <p:spPr>
          <a:xfrm>
            <a:off x="4309920" y="4437000"/>
            <a:ext cx="733680" cy="98604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88" name="Picture 61" descr="1285_200"/>
          <p:cNvPicPr/>
          <p:nvPr/>
        </p:nvPicPr>
        <p:blipFill>
          <a:blip r:embed="rId19"/>
          <a:stretch/>
        </p:blipFill>
        <p:spPr>
          <a:xfrm>
            <a:off x="5219640" y="4437000"/>
            <a:ext cx="762120" cy="98604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89" name="Picture 62" descr="1779_200"/>
          <p:cNvPicPr/>
          <p:nvPr/>
        </p:nvPicPr>
        <p:blipFill>
          <a:blip r:embed="rId20"/>
          <a:stretch/>
        </p:blipFill>
        <p:spPr>
          <a:xfrm>
            <a:off x="3944880" y="5124600"/>
            <a:ext cx="730440" cy="97776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90" name="Picture 63" descr="1799_200"/>
          <p:cNvPicPr/>
          <p:nvPr/>
        </p:nvPicPr>
        <p:blipFill>
          <a:blip r:embed="rId21"/>
          <a:stretch/>
        </p:blipFill>
        <p:spPr>
          <a:xfrm>
            <a:off x="4795920" y="5124600"/>
            <a:ext cx="752400" cy="97776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91" name="Picture 64" descr="2273_100"/>
          <p:cNvPicPr/>
          <p:nvPr/>
        </p:nvPicPr>
        <p:blipFill>
          <a:blip r:embed="rId22"/>
          <a:stretch/>
        </p:blipFill>
        <p:spPr>
          <a:xfrm>
            <a:off x="7240680" y="2852640"/>
            <a:ext cx="1076400" cy="136836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pic>
        <p:nvPicPr>
          <p:cNvPr id="692" name="Picture 65" descr="2273_100"/>
          <p:cNvPicPr/>
          <p:nvPr/>
        </p:nvPicPr>
        <p:blipFill>
          <a:blip r:embed="rId23"/>
          <a:stretch/>
        </p:blipFill>
        <p:spPr>
          <a:xfrm>
            <a:off x="7704000" y="3213000"/>
            <a:ext cx="1044720" cy="132876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pic>
        <p:nvPicPr>
          <p:cNvPr id="693" name="Picture 66" descr="2163_100"/>
          <p:cNvPicPr/>
          <p:nvPr/>
        </p:nvPicPr>
        <p:blipFill>
          <a:blip r:embed="rId24"/>
          <a:stretch/>
        </p:blipFill>
        <p:spPr>
          <a:xfrm>
            <a:off x="1042920" y="2978280"/>
            <a:ext cx="720720" cy="95544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694" name="Picture 2" descr=""/>
          <p:cNvPicPr/>
          <p:nvPr/>
        </p:nvPicPr>
        <p:blipFill>
          <a:blip r:embed="rId25"/>
          <a:stretch/>
        </p:blipFill>
        <p:spPr>
          <a:xfrm>
            <a:off x="2124000" y="2781360"/>
            <a:ext cx="822240" cy="2188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" descr=""/>
          <p:cNvPicPr/>
          <p:nvPr/>
        </p:nvPicPr>
        <p:blipFill>
          <a:blip r:embed="rId26"/>
          <a:stretch/>
        </p:blipFill>
        <p:spPr>
          <a:xfrm>
            <a:off x="2179800" y="5592600"/>
            <a:ext cx="822240" cy="2127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" descr=""/>
          <p:cNvPicPr/>
          <p:nvPr/>
        </p:nvPicPr>
        <p:blipFill>
          <a:blip r:embed="rId27"/>
          <a:stretch/>
        </p:blipFill>
        <p:spPr>
          <a:xfrm>
            <a:off x="5664240" y="3654360"/>
            <a:ext cx="1077840" cy="2793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" descr=""/>
          <p:cNvPicPr/>
          <p:nvPr/>
        </p:nvPicPr>
        <p:blipFill>
          <a:blip r:embed="rId28"/>
          <a:stretch/>
        </p:blipFill>
        <p:spPr>
          <a:xfrm rot="19113000">
            <a:off x="1982880" y="3938400"/>
            <a:ext cx="1065240" cy="2696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7" descr=""/>
          <p:cNvPicPr/>
          <p:nvPr/>
        </p:nvPicPr>
        <p:blipFill>
          <a:blip r:embed="rId29"/>
          <a:stretch/>
        </p:blipFill>
        <p:spPr>
          <a:xfrm rot="3509400">
            <a:off x="1962720" y="4026240"/>
            <a:ext cx="11030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3954-F6C1-46B5-8A66-0A0719E656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УМК   «РУССКИЙ ЯЗЫК» 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                    ПОД РЕД. А.Д.ШМЕЛЁВ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701" name="Picture 8" descr="облприложения"/>
          <p:cNvPicPr/>
          <p:nvPr/>
        </p:nvPicPr>
        <p:blipFill>
          <a:blip r:embed="rId1"/>
          <a:stretch/>
        </p:blipFill>
        <p:spPr>
          <a:xfrm>
            <a:off x="5694480" y="2349360"/>
            <a:ext cx="2997000" cy="324036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5508720" cy="3933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92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1"/>
                </a:solidFill>
                <a:latin typeface="Times New Roman"/>
              </a:rPr>
              <a:t>В комплекте с учебником предлагаются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92160" indent="17280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81811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181811"/>
                </a:solidFill>
                <a:latin typeface="Times New Roman"/>
              </a:rPr>
              <a:t>аудиоприложение на компакт-диск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92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1"/>
                </a:solidFill>
                <a:latin typeface="Times New Roman"/>
              </a:rPr>
              <a:t>(аудиотексты, диктанты)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92160" indent="17280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1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181811"/>
                </a:solidFill>
                <a:latin typeface="Times New Roman"/>
              </a:rPr>
              <a:t>органайзер</a:t>
            </a:r>
            <a:r>
              <a:rPr b="0" lang="ru-RU" sz="1800" spc="-1" strike="noStrike">
                <a:solidFill>
                  <a:srgbClr val="181811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181811"/>
                </a:solidFill>
                <a:latin typeface="Times New Roman"/>
              </a:rPr>
              <a:t>для учител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92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1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181811"/>
                </a:solidFill>
                <a:latin typeface="Times New Roman"/>
              </a:rPr>
              <a:t>(примерные рабочие программы, контрольные работы (диктанты, тесты), тексты для изложений, алгоритмы сочинений, конспекты уроков, авторские статьи)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92160" indent="17280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1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181811"/>
                </a:solidFill>
                <a:latin typeface="Times New Roman"/>
              </a:rPr>
              <a:t>приложение</a:t>
            </a:r>
            <a:r>
              <a:rPr b="0" lang="ru-RU" sz="1800" spc="-1" strike="noStrike">
                <a:solidFill>
                  <a:srgbClr val="181811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92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1"/>
                </a:solidFill>
                <a:latin typeface="Times New Roman"/>
              </a:rPr>
              <a:t>(учебные словари (орфографический,   орфоэпический, толковый), учебные инструкции, проектные задания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92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3" name="Picture 12" descr="обложки"/>
          <p:cNvPicPr/>
          <p:nvPr/>
        </p:nvPicPr>
        <p:blipFill>
          <a:blip r:embed="rId2"/>
          <a:stretch/>
        </p:blipFill>
        <p:spPr>
          <a:xfrm>
            <a:off x="0" y="1413000"/>
            <a:ext cx="304308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284720" y="549000"/>
            <a:ext cx="4402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УМК «Литература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под ред. 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  <a:ea typeface="SimSun"/>
              </a:rPr>
              <a:t>Б.А.Ланина,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доктора филологических наук, профессора, </a:t>
            </a:r>
            <a:r>
              <a:rPr b="1" lang="ru-RU" sz="2000" spc="-1" strike="noStrike">
                <a:solidFill>
                  <a:srgbClr val="ffffff"/>
                </a:solidFill>
                <a:latin typeface="Century Schoolbook"/>
                <a:ea typeface="SimSun"/>
              </a:rPr>
              <a:t>заведующего лабораторией литературного образования ИСМО РАО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6" name="Picture 3" descr="ekran Al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752480" cy="23050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7" descr=""/>
          <p:cNvPicPr/>
          <p:nvPr/>
        </p:nvPicPr>
        <p:blipFill>
          <a:blip r:embed="rId3"/>
          <a:stretch/>
        </p:blipFill>
        <p:spPr>
          <a:xfrm>
            <a:off x="1403280" y="1989000"/>
            <a:ext cx="1827360" cy="23050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3" descr="FP3"/>
          <p:cNvPicPr/>
          <p:nvPr/>
        </p:nvPicPr>
        <p:blipFill>
          <a:blip r:embed="rId4"/>
          <a:stretch/>
        </p:blipFill>
        <p:spPr>
          <a:xfrm>
            <a:off x="0" y="0"/>
            <a:ext cx="9000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752480" cy="23050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" descr=""/>
          <p:cNvPicPr/>
          <p:nvPr/>
        </p:nvPicPr>
        <p:blipFill>
          <a:blip r:embed="rId2"/>
          <a:stretch/>
        </p:blipFill>
        <p:spPr>
          <a:xfrm>
            <a:off x="182520" y="2865600"/>
            <a:ext cx="1820880" cy="29970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0" descr="44923b7d3432205739cf1b27c0cf4319"/>
          <p:cNvPicPr/>
          <p:nvPr/>
        </p:nvPicPr>
        <p:blipFill>
          <a:blip r:embed="rId3"/>
          <a:stretch/>
        </p:blipFill>
        <p:spPr>
          <a:xfrm>
            <a:off x="6804000" y="3213000"/>
            <a:ext cx="1849320" cy="28368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12" descr="логотип"/>
          <p:cNvPicPr/>
          <p:nvPr/>
        </p:nvPicPr>
        <p:blipFill>
          <a:blip r:embed="rId4"/>
          <a:stretch/>
        </p:blipFill>
        <p:spPr>
          <a:xfrm>
            <a:off x="2771640" y="404640"/>
            <a:ext cx="3095640" cy="26035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3" descr="7"/>
          <p:cNvPicPr/>
          <p:nvPr/>
        </p:nvPicPr>
        <p:blipFill>
          <a:blip r:embed="rId5"/>
          <a:stretch/>
        </p:blipFill>
        <p:spPr>
          <a:xfrm>
            <a:off x="3276720" y="3890880"/>
            <a:ext cx="1701720" cy="27129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5" descr="9 2"/>
          <p:cNvPicPr/>
          <p:nvPr/>
        </p:nvPicPr>
        <p:blipFill>
          <a:blip r:embed="rId6"/>
          <a:stretch/>
        </p:blipFill>
        <p:spPr>
          <a:xfrm>
            <a:off x="6804000" y="317520"/>
            <a:ext cx="1873440" cy="26906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" descr="FP3"/>
          <p:cNvPicPr/>
          <p:nvPr/>
        </p:nvPicPr>
        <p:blipFill>
          <a:blip r:embed="rId7"/>
          <a:stretch/>
        </p:blipFill>
        <p:spPr>
          <a:xfrm>
            <a:off x="0" y="0"/>
            <a:ext cx="900000" cy="80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7:20:20Z</dcterms:created>
  <dc:creator>Елтонская А.В.</dc:creator>
  <dc:description/>
  <dc:language>en-US</dc:language>
  <cp:lastModifiedBy>Учитель</cp:lastModifiedBy>
  <dcterms:modified xsi:type="dcterms:W3CDTF">2014-07-02T03:26:16Z</dcterms:modified>
  <cp:revision>27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29991</vt:lpwstr>
  </property>
</Properties>
</file>