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6.png" ContentType="image/png"/>
  <Override PartName="/ppt/media/image3.png" ContentType="image/png"/>
  <Override PartName="/ppt/media/image33.png" ContentType="image/png"/>
  <Override PartName="/ppt/media/image17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18.jpeg" ContentType="image/jpeg"/>
  <Override PartName="/ppt/media/image22.gif" ContentType="image/gif"/>
  <Override PartName="/ppt/media/image25.png" ContentType="image/png"/>
  <Override PartName="/ppt/media/image52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61.gif" ContentType="image/gif"/>
  <Override PartName="/ppt/media/image54.png" ContentType="image/png"/>
  <Override PartName="/ppt/media/image15.jpeg" ContentType="image/jpeg"/>
  <Override PartName="/ppt/media/image29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19.wmf" ContentType="image/x-wmf"/>
  <Override PartName="/ppt/media/image58.png" ContentType="image/png"/>
  <Override PartName="/ppt/media/image1.jpeg" ContentType="image/jpeg"/>
  <Override PartName="/ppt/media/image21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16.jpeg" ContentType="image/jpeg"/>
  <Override PartName="/ppt/media/image4.png" ContentType="image/png"/>
  <Override PartName="/ppt/media/image34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8.gif" ContentType="image/gif"/>
  <Override PartName="/ppt/media/image6.gif" ContentType="image/gif"/>
  <Override PartName="/ppt/media/image9.png" ContentType="image/png"/>
  <Override PartName="/ppt/media/image39.png" ContentType="image/png"/>
  <Override PartName="/ppt/media/image49.png" ContentType="image/png"/>
  <Override PartName="/ppt/media/image46.gif" ContentType="image/gif"/>
  <Override PartName="/ppt/media/image11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8.png" ContentType="image/png"/>
  <Override PartName="/ppt/media/image45.gif" ContentType="image/gif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4A5E-5DB3-48E3-9F5C-45D9B3A1A17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548A-0089-4153-9590-F7CE67ECBE45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97E4-FCC5-416B-9F4A-B92B6687BC85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B27F-2965-476D-8845-935C665C44F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D87-0B29-471B-9A47-EEFE130E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F9F-7540-4D10-9FC7-166D6319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D89-1340-452B-B919-A73E942F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0C3-6B52-4E4D-9DC9-3B73AEDA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5FC-4660-4B7C-890A-6A39A37D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F39-47D8-4CCB-AC7C-7072B93B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382-C834-4DE4-A672-08AD5BF6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89C-E9B8-435B-8E79-30605FCB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2A6-6AA8-4581-A273-2FF17274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4F7-1EA1-4C9A-B37B-DB4EC94B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6C0-EB7F-4661-BDED-AF027973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2B0-E0FC-4787-B7E8-4FF15CE2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6F56-1D57-4D6B-9BC8-8FC4643E6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5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7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0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296640"/>
            <a:ext cx="9144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Педсовет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«Современные подходы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 </a:t>
            </a: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в работе с одаренными детьми»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" descr="http://sinyavka-shckol.ucoz.ru/prazdnik.png"/>
          <p:cNvPicPr/>
          <p:nvPr/>
        </p:nvPicPr>
        <p:blipFill>
          <a:blip r:embed="rId2"/>
          <a:stretch/>
        </p:blipFill>
        <p:spPr>
          <a:xfrm>
            <a:off x="357120" y="3643200"/>
            <a:ext cx="1866960" cy="2948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643120" y="521496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2013-2014 учебный год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6" name="Схема 5" descr=""/>
          <p:cNvPicPr/>
          <p:nvPr/>
        </p:nvPicPr>
        <p:blipFill>
          <a:blip r:embed="rId2"/>
          <a:stretch/>
        </p:blipFill>
        <p:spPr>
          <a:xfrm>
            <a:off x="-66600" y="-6480"/>
            <a:ext cx="938664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85840" y="285840"/>
            <a:ext cx="8643960" cy="1068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Принципы обучения одарённых учащихс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82422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3" name="Схема 7" descr=""/>
          <p:cNvPicPr/>
          <p:nvPr/>
        </p:nvPicPr>
        <p:blipFill>
          <a:blip r:embed="rId2"/>
          <a:stretch/>
        </p:blipFill>
        <p:spPr>
          <a:xfrm>
            <a:off x="-6480" y="566640"/>
            <a:ext cx="8656920" cy="6297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428760" y="214200"/>
            <a:ext cx="850104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тратегии обучения одарённых учащихс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214200" y="642960"/>
            <a:ext cx="864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143000" y="142920"/>
            <a:ext cx="728676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Формы работы с одаренными детьми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57120" y="714240"/>
            <a:ext cx="8572680" cy="5946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работа по индивидуальным планам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занятия в классах с углубленным изучением предметов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отрудничество с другими школам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фестивалей творчества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ематические конкурсы, выстав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мотры художественной самодеятельност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ворческие отчет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общешкольных проектов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портивные соревнования разных уровней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радиционные Дни Нау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опытно-экспериментальные работы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еминар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ШНОУ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индивидуальные творческие задания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дистанционное обучение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500040" y="142920"/>
            <a:ext cx="828684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овременные педагогические технологии в работе с одаренными детьми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214200" y="1214280"/>
            <a:ext cx="8786880" cy="5854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ИКТ- технологии- 12 чел. (63,2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технология проектной деятельности-15 чел.(79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игровые технологии-8 чел. (42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развивающее обучении-3 чел. (15,8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развитие критического мышления-2 чел.(10,5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технология проблемного обучения-2 чел.(10,5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технология разноуровнего обучения-2 чел.(10,5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технология исследовательской деятельности-2 чел.(10,5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технология коллективной творческой деятельности-2 чел.(10,5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здоровьесберегающие технологии- 1 чел. (5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технология коммуникативного обучения иноязычной культуре-1 чел. (5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личностно-ориентированное развивающее обучение 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(Якиманская И.С.) -1 чел. (5%);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технология саморазвивающего обучения ( Селевко Г.В.) –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Cambria"/>
              </a:rPr>
              <a:t>1 чел. (5%).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28760" y="14292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аким должен быть учитель, работающий с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пособными и одарёнными учащимися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3068640" cy="207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4572000" y="3857760"/>
            <a:ext cx="2776680" cy="221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1571760" y="1500120"/>
            <a:ext cx="2643120" cy="207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>
            <a:off x="1000080" y="38577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J0079114"/>
          <p:cNvPicPr/>
          <p:nvPr/>
        </p:nvPicPr>
        <p:blipFill>
          <a:blip r:embed="rId2"/>
          <a:stretch/>
        </p:blipFill>
        <p:spPr>
          <a:xfrm>
            <a:off x="380880" y="9144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17" name="Рамка 9"/>
          <p:cNvGrpSpPr/>
          <p:nvPr/>
        </p:nvGrpSpPr>
        <p:grpSpPr>
          <a:xfrm>
            <a:off x="2225520" y="1176480"/>
            <a:ext cx="6832800" cy="5541840"/>
            <a:chOff x="2225520" y="1176480"/>
            <a:chExt cx="6832800" cy="5541840"/>
          </a:xfrm>
        </p:grpSpPr>
        <p:pic>
          <p:nvPicPr>
            <p:cNvPr id="118" name="Рамка 9" descr=""/>
            <p:cNvPicPr/>
            <p:nvPr/>
          </p:nvPicPr>
          <p:blipFill>
            <a:blip r:embed="rId3"/>
            <a:stretch/>
          </p:blipFill>
          <p:spPr>
            <a:xfrm>
              <a:off x="2225520" y="1176480"/>
              <a:ext cx="6832800" cy="55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963880" y="1892160"/>
              <a:ext cx="5359320" cy="40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Прямоугольник 11"/>
          <p:cNvSpPr/>
          <p:nvPr/>
        </p:nvSpPr>
        <p:spPr>
          <a:xfrm>
            <a:off x="2928960" y="1857240"/>
            <a:ext cx="557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Талантливым, способным к экспериментальной и творческой деятельност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офессионально грамот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нтеллигентным, нравственным  и эрудирован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ладеть современными  педагогическими  технологиям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меть позитивную Я- концепцию, быть целеустремленным,настойчивым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эмоционально стабиль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Умелым организатором учебно-воспитательного процесса, психологом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Скругленный прямоугольник 11"/>
          <p:cNvSpPr/>
          <p:nvPr/>
        </p:nvSpPr>
        <p:spPr>
          <a:xfrm>
            <a:off x="2786040" y="214200"/>
            <a:ext cx="5357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бы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J0079114"/>
          <p:cNvPicPr/>
          <p:nvPr/>
        </p:nvPicPr>
        <p:blipFill>
          <a:blip r:embed="rId2"/>
          <a:stretch/>
        </p:blipFill>
        <p:spPr>
          <a:xfrm>
            <a:off x="142920" y="9288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26" name="Рамка 9"/>
          <p:cNvGrpSpPr/>
          <p:nvPr/>
        </p:nvGrpSpPr>
        <p:grpSpPr>
          <a:xfrm>
            <a:off x="1865160" y="963720"/>
            <a:ext cx="7193160" cy="5827680"/>
            <a:chOff x="1865160" y="963720"/>
            <a:chExt cx="7193160" cy="5827680"/>
          </a:xfrm>
        </p:grpSpPr>
        <p:pic>
          <p:nvPicPr>
            <p:cNvPr id="127" name="Рамка 9" descr=""/>
            <p:cNvPicPr/>
            <p:nvPr/>
          </p:nvPicPr>
          <p:blipFill>
            <a:blip r:embed="rId3"/>
            <a:stretch/>
          </p:blipFill>
          <p:spPr>
            <a:xfrm>
              <a:off x="1865160" y="963720"/>
              <a:ext cx="719316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643120" y="1714680"/>
              <a:ext cx="56437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Прямоугольник 11"/>
          <p:cNvSpPr/>
          <p:nvPr/>
        </p:nvSpPr>
        <p:spPr>
          <a:xfrm>
            <a:off x="2928960" y="1857240"/>
            <a:ext cx="5572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Скругленный прямоугольник 11"/>
          <p:cNvSpPr/>
          <p:nvPr/>
        </p:nvSpPr>
        <p:spPr>
          <a:xfrm>
            <a:off x="2714760" y="142920"/>
            <a:ext cx="53575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уме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2714760" y="1643040"/>
            <a:ext cx="6072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богащать учебные программы, т.е. обновлять и расширять содержание образова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Работать дифференцированно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существлять  индивидуальный подход и консультировать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тимулировать познавательные  способности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инимать взвешенные  психолого-педагогические реше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Анализировать свою учебно-воспитательную деятельность и всего класса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тбирать и готовить материал для коллективных  творческих де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1785960" y="2000160"/>
            <a:ext cx="7143840" cy="5639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Результаты проведенной анкеты среди педагогов показали, что 100% учителей имеют склонности к работе  с одаренными детьми, но они требуют дополнительных ресурсов и активного саморегулирования в интеллектуальном процессе. Педагогам лишь необходим правильный выбор объекта направления творческого интереса учащихся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42876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Анкета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«Определение склонностей педагога к работе с одарёнными детьми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baby18"/>
          <p:cNvPicPr/>
          <p:nvPr/>
        </p:nvPicPr>
        <p:blipFill>
          <a:blip r:embed="rId2"/>
          <a:stretch/>
        </p:blipFill>
        <p:spPr>
          <a:xfrm>
            <a:off x="0" y="2928960"/>
            <a:ext cx="1673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857160" y="214200"/>
            <a:ext cx="6715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Рекомендации педагогам при работе с  одаренными обучающимися         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http://www.enoti-nperedelkino.ru/upload/iblock/2ef/jlzupa.jpg"/>
          <p:cNvPicPr/>
          <p:nvPr/>
        </p:nvPicPr>
        <p:blipFill>
          <a:blip r:embed="rId3"/>
          <a:stretch/>
        </p:blipFill>
        <p:spPr>
          <a:xfrm>
            <a:off x="7858080" y="142920"/>
            <a:ext cx="1014480" cy="1071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428760" y="1071720"/>
            <a:ext cx="8429400" cy="56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1.      Общение с одарёнными детьми требует от учителя гибкости мышления, творчества, профессионализма, позволяет чувствовать себя свободным в рамках школьной программы, предполагает творческую деятельность учителя и ученика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2.      Работа с талантливыми детьми должна быть повсеместной, начиная с особого внимания к ним на уроках, продолжая эту работу в кружках, на факультативных занятиях, а также используя индивидуально-групповые формы работы и консультации во внеурочное врем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3.      В классе, с детьми разного уровня развития, важно правильно организовывать работу  с «сильными» учениками, создать такую проблемную ситуацию, чтобы включить способных учеников самостоятельный творческий поиск. На каждом уроке готовить карточки повышенной трудности с олимпиадными заданиями или упражнениями, требующими нестандартного мышлени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4.      Привлекать способных творчески мыслящих учеников к сотрудничеству, предлагая им выступать в роли оппонентов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5.      Чтобы включить в творческий процесс одарённого ученика необходимо создать проблемные ситуации, пусть небольшие, но заставляющие удивляться, искать пути решения проблемы, применять имеющиеся знания в нестандартной ситуации, делать свои умозаключения. А это и есть творческий поиск, который ведёт к развитию творческого мышления. </a:t>
            </a:r>
            <a:r>
              <a:rPr b="1" i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2920" y="1428840"/>
            <a:ext cx="8858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Одаренность человека - это маленький росточек, едва проклюнувшийся из земли и требующий к себе огромного внимания. Необходимо холить и лелеять, ухаживать за ним, сделать все необходимое, чтобы он вырос и дал обильный плод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В. А. Сухомлинский</a:t>
            </a:r>
            <a:r>
              <a:rPr b="0" lang="ru-RU" sz="2200" spc="-1" strike="noStrike">
                <a:solidFill>
                  <a:srgbClr val="a50021"/>
                </a:solidFill>
                <a:latin typeface="Georgia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5" name="Схема 5" descr=""/>
          <p:cNvPicPr/>
          <p:nvPr/>
        </p:nvPicPr>
        <p:blipFill>
          <a:blip r:embed="rId2"/>
          <a:stretch/>
        </p:blipFill>
        <p:spPr>
          <a:xfrm>
            <a:off x="-66600" y="-6480"/>
            <a:ext cx="93819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4"/>
          <p:cNvSpPr/>
          <p:nvPr/>
        </p:nvSpPr>
        <p:spPr>
          <a:xfrm>
            <a:off x="857160" y="428760"/>
            <a:ext cx="757260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ая образовательная траектор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Схема 6" descr=""/>
          <p:cNvPicPr/>
          <p:nvPr/>
        </p:nvPicPr>
        <p:blipFill>
          <a:blip r:embed="rId3"/>
          <a:stretch/>
        </p:blipFill>
        <p:spPr>
          <a:xfrm>
            <a:off x="762120" y="2109960"/>
            <a:ext cx="78692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User\Desktop\ИОТ\IOT_0.jpg"/>
          <p:cNvPicPr/>
          <p:nvPr/>
        </p:nvPicPr>
        <p:blipFill>
          <a:blip r:embed="rId3"/>
          <a:stretch/>
        </p:blipFill>
        <p:spPr>
          <a:xfrm>
            <a:off x="357120" y="26820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User\Desktop\ИОТ\IOT_1_0.jpg"/>
          <p:cNvPicPr/>
          <p:nvPr/>
        </p:nvPicPr>
        <p:blipFill>
          <a:blip r:embed="rId3"/>
          <a:stretch/>
        </p:blipFill>
        <p:spPr>
          <a:xfrm>
            <a:off x="380880" y="28584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4"/>
          <p:cNvSpPr/>
          <p:nvPr/>
        </p:nvSpPr>
        <p:spPr>
          <a:xfrm>
            <a:off x="1357200" y="428760"/>
            <a:ext cx="65725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Направления реализации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Схема 6" descr=""/>
          <p:cNvPicPr/>
          <p:nvPr/>
        </p:nvPicPr>
        <p:blipFill>
          <a:blip r:embed="rId3"/>
          <a:stretch/>
        </p:blipFill>
        <p:spPr>
          <a:xfrm>
            <a:off x="542880" y="1206360"/>
            <a:ext cx="82296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7" name="Схема 8" descr=""/>
          <p:cNvPicPr/>
          <p:nvPr/>
        </p:nvPicPr>
        <p:blipFill>
          <a:blip r:embed="rId3"/>
          <a:stretch/>
        </p:blipFill>
        <p:spPr>
          <a:xfrm>
            <a:off x="633240" y="1195560"/>
            <a:ext cx="7877520" cy="49672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7"/>
          <p:cNvSpPr/>
          <p:nvPr/>
        </p:nvSpPr>
        <p:spPr>
          <a:xfrm>
            <a:off x="1357200" y="428760"/>
            <a:ext cx="657252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Этапы становления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4"/>
          <p:cNvSpPr/>
          <p:nvPr/>
        </p:nvSpPr>
        <p:spPr>
          <a:xfrm>
            <a:off x="1857240" y="357120"/>
            <a:ext cx="507204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Сопровождение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Схема 6" descr=""/>
          <p:cNvPicPr/>
          <p:nvPr/>
        </p:nvPicPr>
        <p:blipFill>
          <a:blip r:embed="rId3"/>
          <a:stretch/>
        </p:blipFill>
        <p:spPr>
          <a:xfrm>
            <a:off x="738360" y="1139760"/>
            <a:ext cx="796104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77" name="Схема 8" descr=""/>
          <p:cNvPicPr/>
          <p:nvPr/>
        </p:nvPicPr>
        <p:blipFill>
          <a:blip r:embed="rId3"/>
          <a:stretch/>
        </p:blipFill>
        <p:spPr>
          <a:xfrm>
            <a:off x="360360" y="1536840"/>
            <a:ext cx="8624880" cy="51130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9"/>
          <p:cNvSpPr/>
          <p:nvPr/>
        </p:nvSpPr>
        <p:spPr>
          <a:xfrm>
            <a:off x="428760" y="285840"/>
            <a:ext cx="83581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ый образовательный маршру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4"/>
          <p:cNvSpPr/>
          <p:nvPr/>
        </p:nvSpPr>
        <p:spPr>
          <a:xfrm>
            <a:off x="1714680" y="42876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СТ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го маршрута обучен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О________________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 ___класса 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_____________________учебный год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14200" y="2428920"/>
          <a:ext cx="8642520" cy="2398680"/>
        </p:xfrm>
        <a:graphic>
          <a:graphicData uri="http://schemas.openxmlformats.org/drawingml/2006/table">
            <a:tbl>
              <a:tblPr/>
              <a:tblGrid>
                <a:gridCol w="1616040"/>
                <a:gridCol w="1194120"/>
                <a:gridCol w="1054080"/>
                <a:gridCol w="1827000"/>
                <a:gridCol w="1616040"/>
                <a:gridCol w="13352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лективн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рса (9кл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И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л-во часов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хождения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прохождении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дпис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т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183" name="Прямоугольник 8"/>
          <p:cNvSpPr/>
          <p:nvPr/>
        </p:nvSpPr>
        <p:spPr>
          <a:xfrm>
            <a:off x="357120" y="5214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м.директора по УВР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ник (ца)__________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000160" y="5786280"/>
          <a:ext cx="1656000" cy="73692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714240" y="67464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-образовательный маршрут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______класса                       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ликвидация пробелов по предмету 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4200" y="2428920"/>
          <a:ext cx="8785440" cy="1279440"/>
        </p:xfrm>
        <a:graphic>
          <a:graphicData uri="http://schemas.openxmlformats.org/drawingml/2006/table">
            <a:tbl>
              <a:tblPr/>
              <a:tblGrid>
                <a:gridCol w="1255680"/>
                <a:gridCol w="995400"/>
                <a:gridCol w="1162080"/>
                <a:gridCol w="1379520"/>
                <a:gridCol w="943200"/>
                <a:gridCol w="1379520"/>
                <a:gridCol w="16700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м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У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я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пособы работы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а контро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выполнени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89" name="Прямоугольник 7"/>
          <p:cNvSpPr/>
          <p:nvPr/>
        </p:nvSpPr>
        <p:spPr>
          <a:xfrm>
            <a:off x="500040" y="392904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знакомлены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5" descr=""/>
          <p:cNvPicPr/>
          <p:nvPr/>
        </p:nvPicPr>
        <p:blipFill>
          <a:blip r:embed="rId2"/>
          <a:stretch/>
        </p:blipFill>
        <p:spPr>
          <a:xfrm>
            <a:off x="-66600" y="-12600"/>
            <a:ext cx="926604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Схема 5" descr=""/>
          <p:cNvPicPr/>
          <p:nvPr/>
        </p:nvPicPr>
        <p:blipFill>
          <a:blip r:embed="rId2"/>
          <a:stretch/>
        </p:blipFill>
        <p:spPr>
          <a:xfrm>
            <a:off x="-66600" y="-6480"/>
            <a:ext cx="938664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5" name="Схема 5" descr=""/>
          <p:cNvPicPr/>
          <p:nvPr/>
        </p:nvPicPr>
        <p:blipFill>
          <a:blip r:embed="rId2"/>
          <a:stretch/>
        </p:blipFill>
        <p:spPr>
          <a:xfrm>
            <a:off x="-66600" y="-6480"/>
            <a:ext cx="926604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7080" y="3643200"/>
          <a:ext cx="6549840" cy="438120"/>
        </p:xfrm>
        <a:graphic>
          <a:graphicData uri="http://schemas.openxmlformats.org/drawingml/2006/table">
            <a:tbl>
              <a:tblPr/>
              <a:tblGrid>
                <a:gridCol w="3219480"/>
                <a:gridCol w="333036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Положи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6"/>
          <p:cNvSpPr/>
          <p:nvPr/>
        </p:nvSpPr>
        <p:spPr>
          <a:xfrm>
            <a:off x="1285920" y="357120"/>
            <a:ext cx="7215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mbria"/>
              </a:rPr>
              <a:t>Портрет  одаренного ребёнк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Заполните таблицу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57200" y="1714680"/>
          <a:ext cx="7072560" cy="3282840"/>
        </p:xfrm>
        <a:graphic>
          <a:graphicData uri="http://schemas.openxmlformats.org/drawingml/2006/table">
            <a:tbl>
              <a:tblPr/>
              <a:tblGrid>
                <a:gridCol w="3429000"/>
                <a:gridCol w="364356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ложительные 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221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Схема 13" descr=""/>
          <p:cNvPicPr/>
          <p:nvPr/>
        </p:nvPicPr>
        <p:blipFill>
          <a:blip r:embed="rId3"/>
          <a:stretch/>
        </p:blipFill>
        <p:spPr>
          <a:xfrm>
            <a:off x="420840" y="1109520"/>
            <a:ext cx="8369280" cy="54993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4"/>
          <p:cNvSpPr/>
          <p:nvPr/>
        </p:nvSpPr>
        <p:spPr>
          <a:xfrm>
            <a:off x="285840" y="357120"/>
            <a:ext cx="8286840" cy="76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ambria"/>
              </a:rPr>
              <a:t>Пирамида одарённости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7"/>
          <p:cNvSpPr/>
          <p:nvPr/>
        </p:nvSpPr>
        <p:spPr>
          <a:xfrm>
            <a:off x="1857240" y="2000160"/>
            <a:ext cx="571500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ешение задач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Схема 7" descr=""/>
          <p:cNvPicPr/>
          <p:nvPr/>
        </p:nvPicPr>
        <p:blipFill>
          <a:blip r:embed="rId2"/>
          <a:stretch/>
        </p:blipFill>
        <p:spPr>
          <a:xfrm>
            <a:off x="298440" y="1652760"/>
            <a:ext cx="86202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600200"/>
          <a:ext cx="7923240" cy="4665600"/>
        </p:xfrm>
        <a:graphic>
          <a:graphicData uri="http://schemas.openxmlformats.org/drawingml/2006/table">
            <a:tbl>
              <a:tblPr/>
              <a:tblGrid>
                <a:gridCol w="2004840"/>
                <a:gridCol w="820800"/>
                <a:gridCol w="1182960"/>
                <a:gridCol w="2003400"/>
                <a:gridCol w="819000"/>
                <a:gridCol w="10922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142920" y="214200"/>
            <a:ext cx="84297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ведения о родителях выдающихся людей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0" descr="j0236488"/>
          <p:cNvPicPr/>
          <p:nvPr/>
        </p:nvPicPr>
        <p:blipFill>
          <a:blip r:embed="rId2"/>
          <a:stretch/>
        </p:blipFill>
        <p:spPr>
          <a:xfrm>
            <a:off x="0" y="5800680"/>
            <a:ext cx="885960" cy="1057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1" descr="j0303418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428760" y="1143000"/>
          <a:ext cx="8501040" cy="4786200"/>
        </p:xfrm>
        <a:graphic>
          <a:graphicData uri="http://schemas.openxmlformats.org/drawingml/2006/table">
            <a:tbl>
              <a:tblPr/>
              <a:tblGrid>
                <a:gridCol w="1928520"/>
                <a:gridCol w="1071720"/>
                <a:gridCol w="1214280"/>
                <a:gridCol w="1928880"/>
                <a:gridCol w="1071720"/>
                <a:gridCol w="1285920"/>
              </a:tblGrid>
              <a:tr h="446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Схема 7" descr=""/>
          <p:cNvPicPr/>
          <p:nvPr/>
        </p:nvPicPr>
        <p:blipFill>
          <a:blip r:embed="rId2"/>
          <a:stretch/>
        </p:blipFill>
        <p:spPr>
          <a:xfrm>
            <a:off x="298440" y="1652760"/>
            <a:ext cx="86202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Схема 7" descr=""/>
          <p:cNvPicPr/>
          <p:nvPr/>
        </p:nvPicPr>
        <p:blipFill>
          <a:blip r:embed="rId2"/>
          <a:stretch/>
        </p:blipFill>
        <p:spPr>
          <a:xfrm>
            <a:off x="298440" y="1652760"/>
            <a:ext cx="86202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Схема 7" descr=""/>
          <p:cNvPicPr/>
          <p:nvPr/>
        </p:nvPicPr>
        <p:blipFill>
          <a:blip r:embed="rId2"/>
          <a:stretch/>
        </p:blipFill>
        <p:spPr>
          <a:xfrm>
            <a:off x="1017720" y="1494000"/>
            <a:ext cx="7467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4" descr=""/>
          <p:cNvPicPr/>
          <p:nvPr/>
        </p:nvPicPr>
        <p:blipFill>
          <a:blip r:embed="rId2"/>
          <a:stretch/>
        </p:blipFill>
        <p:spPr>
          <a:xfrm>
            <a:off x="324000" y="-6480"/>
            <a:ext cx="8710560" cy="69976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173040" y="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ЗАДАЧИ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1143000" y="2000160"/>
            <a:ext cx="742968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АЗБОР СИТУАЦИЙ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0" y="121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1714680" y="142920"/>
            <a:ext cx="476388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Проект решения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142920" y="857160"/>
            <a:ext cx="8786880" cy="6802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1.Проводить психолого- педагогический мониторинг  учащихся в ходе учебно-воспитательного процесса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2.Создать максимально благоприятные условия для интеллектуального  развития одаренных детей, как в учебном процессе, так и во внеурочно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3.Создать условия одаренным детям для реализации их творческих способностей в процессе научно-исследовательской и поисковой деятельност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4.Стимулировать творческую деятельность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5.В каждом классе выявить мнение родителей  о склонностях, области наибольшей успешности и круге интересов их ребенка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6.Оказывать квалифицированную психолого-педагогическую помощь родителям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7.Издать сборник методических материалов «Система работы с одаренными детьми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8.Разработать Положение об ИОТ учащегос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9.Оказывать содействие и поощрять классных руководителей и учителей-предметников, систематически работающих с одаренными и талантливыми детьм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7"/>
          <p:cNvSpPr/>
          <p:nvPr/>
        </p:nvSpPr>
        <p:spPr>
          <a:xfrm>
            <a:off x="357120" y="214200"/>
            <a:ext cx="857268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Рефлексия «Незаконченное предложение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Группа 8"/>
          <p:cNvGrpSpPr/>
          <p:nvPr/>
        </p:nvGrpSpPr>
        <p:grpSpPr>
          <a:xfrm>
            <a:off x="214200" y="928800"/>
            <a:ext cx="8715600" cy="5715000"/>
            <a:chOff x="214200" y="928800"/>
            <a:chExt cx="8715600" cy="5715000"/>
          </a:xfrm>
        </p:grpSpPr>
        <p:sp>
          <p:nvSpPr>
            <p:cNvPr id="253" name="Скругленный прямоугольник 9"/>
            <p:cNvSpPr/>
            <p:nvPr/>
          </p:nvSpPr>
          <p:spPr>
            <a:xfrm>
              <a:off x="214200" y="928800"/>
              <a:ext cx="8715600" cy="571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Скругленный прямоугольник 4"/>
            <p:cNvSpPr/>
            <p:nvPr/>
          </p:nvSpPr>
          <p:spPr>
            <a:xfrm>
              <a:off x="366480" y="1208160"/>
              <a:ext cx="841104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just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Прямоугольник 12"/>
          <p:cNvSpPr/>
          <p:nvPr/>
        </p:nvSpPr>
        <p:spPr>
          <a:xfrm>
            <a:off x="357120" y="1071720"/>
            <a:ext cx="86439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состоит из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направлен н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может внести вклад в развитие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учит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ходе педсовета использовались способы деятельности, такие как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не особенно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Больше всего мне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результате работы на педсовете я узнал (а):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ебе то, что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воих коллегах то, что они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ои пожелания на следующие педсоветы состоит в том, что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C:\Documents and Settings\User\Рабочий стол\картинки на школьныю тему\Рисунок11.png"/>
          <p:cNvPicPr/>
          <p:nvPr/>
        </p:nvPicPr>
        <p:blipFill>
          <a:blip r:embed="rId2"/>
          <a:stretch/>
        </p:blipFill>
        <p:spPr>
          <a:xfrm>
            <a:off x="357120" y="3714840"/>
            <a:ext cx="2592360" cy="244800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357120" y="2286000"/>
            <a:ext cx="842976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СПАСИБО ЗА ВНИМАНИЕ!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8" descr="08CAC4~116"/>
          <p:cNvPicPr/>
          <p:nvPr/>
        </p:nvPicPr>
        <p:blipFill>
          <a:blip r:embed="rId3"/>
          <a:stretch/>
        </p:blipFill>
        <p:spPr>
          <a:xfrm>
            <a:off x="6786720" y="214200"/>
            <a:ext cx="1989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0"/>
            <a:ext cx="932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хема 6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9095040" cy="6407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2786040" y="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mbria"/>
              </a:rPr>
              <a:t>ПОВЕСТКА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42960" y="2718360"/>
            <a:ext cx="64292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ЭКСПЕРИМЕНТ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AG00317_"/>
          <p:cNvPicPr/>
          <p:nvPr/>
        </p:nvPicPr>
        <p:blipFill>
          <a:blip r:embed="rId2"/>
          <a:stretch/>
        </p:blipFill>
        <p:spPr>
          <a:xfrm>
            <a:off x="928800" y="3857760"/>
            <a:ext cx="1904760" cy="209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33[2]"/>
          <p:cNvPicPr/>
          <p:nvPr/>
        </p:nvPicPr>
        <p:blipFill>
          <a:blip r:embed="rId3"/>
          <a:stretch/>
        </p:blipFill>
        <p:spPr>
          <a:xfrm>
            <a:off x="5572080" y="285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Cambria"/>
              </a:rPr>
              <a:t>ПЕРЕЧЕНЬ ЛИЧНОСТНЫХ И ДЕЛОВЫХ КАЧЕСТВ  УЧЕНИКОВ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 Дисциплин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 Неровно успевающи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рганиз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Выбивающийся из общего темпа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5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Эруд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6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Странный в поведении, непоня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7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Умеющий поддержать общее дел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8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984807"/>
                </a:solidFill>
                <a:latin typeface="Cambria"/>
              </a:rPr>
              <a:t>Выскакивающий на уроке с нелепыми замечаниями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9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Стабильно успевающий (всегда хорошо учится)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0.</a:t>
            </a:r>
            <a:r>
              <a:rPr b="1" i="1" lang="ru-RU" sz="2200" spc="-1" strike="noStrike">
                <a:solidFill>
                  <a:srgbClr val="254061"/>
                </a:solidFill>
                <a:latin typeface="Cambria"/>
              </a:rPr>
              <a:t> Занятый своими делами (индивидуалист)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1. </a:t>
            </a: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Быстро, “на лету” схватывающий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2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Не умеющий общаться, конфлик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бщающийся легко, приятный в общени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4f6228"/>
                </a:solidFill>
                <a:latin typeface="Cambria"/>
              </a:rPr>
              <a:t>Иногда тугодум, иногда не может понять очевидног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5. 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Ясно, понятно для всех выражающий свои мысл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6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Не всегда желающий подчиняться большинству или официальному руководителю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AG00315_"/>
          <p:cNvPicPr/>
          <p:nvPr/>
        </p:nvPicPr>
        <p:blipFill>
          <a:blip r:embed="rId2"/>
          <a:stretch/>
        </p:blipFill>
        <p:spPr>
          <a:xfrm>
            <a:off x="6572160" y="42876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500040" y="609480"/>
            <a:ext cx="5143680" cy="70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Каких “+”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у Вас больше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Если чётных “+” больше, то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mbria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На практике такие учителя встречаются редко!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misli_html_m658e97f"/>
          <p:cNvPicPr/>
          <p:nvPr/>
        </p:nvPicPr>
        <p:blipFill>
          <a:blip r:embed="rId2"/>
          <a:stretch/>
        </p:blipFill>
        <p:spPr>
          <a:xfrm>
            <a:off x="5643720" y="1071720"/>
            <a:ext cx="3500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3" name="Схема 5" descr=""/>
          <p:cNvPicPr/>
          <p:nvPr/>
        </p:nvPicPr>
        <p:blipFill>
          <a:blip r:embed="rId2"/>
          <a:stretch/>
        </p:blipFill>
        <p:spPr>
          <a:xfrm>
            <a:off x="-66600" y="-6480"/>
            <a:ext cx="93693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1:58:31Z</dcterms:created>
  <dc:creator>User</dc:creator>
  <dc:description/>
  <dc:language>en-US</dc:language>
  <cp:lastModifiedBy>User</cp:lastModifiedBy>
  <dcterms:modified xsi:type="dcterms:W3CDTF">2014-05-12T07:08:50Z</dcterms:modified>
  <cp:revision>144</cp:revision>
  <dc:subject/>
  <dc:title>Слайд 1</dc:title>
</cp:coreProperties>
</file>