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EEF-CA6C-440B-BF02-1D4ABA528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4CC2-E230-4A71-9230-CED2F279E2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8E02-A7BA-4E19-BC05-9AA5A073E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CB2E-176C-455A-9C89-90F02F8C1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3C4-DACE-4D27-B796-B9715218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58D-41A9-40DD-957B-4BB24A1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5BC-AA3B-461F-BA4B-6C2500CD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7F6-A2BF-46D6-9A03-2834837B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B75-3C56-4BB3-87D7-5CE960D5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9554-1219-4863-91AD-60EF746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625-6DAF-450C-AA2F-F60430F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FA79-1A17-4E8E-A249-6F747DE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E0C3-55AD-4421-A48F-1BD4EBB4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D329-C090-43CA-B503-FA764FC4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8B98-4D76-4DC4-95C6-17C8236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0C0-9028-4861-9868-2E84A37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54B-F8C2-482E-8AE4-88FFFBC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8100-D985-4C25-A736-AC29CF5C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6BD-85DC-40B8-86DC-9B9F6B8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182-11AD-4352-987F-BBB036CA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0DF8-BE84-4087-BC0B-93A0F88D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71E-2031-4C5A-95BB-E4173785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3F3-3942-42ED-9396-A69C7C0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930-76EB-4A97-BDA6-D6ACD8F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22E-C605-4B7E-8E0A-0ADB039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1BD-E2BD-49C1-965A-9564C6C2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A78-E848-40F8-812F-072E631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2D2-F96A-426B-B2FC-71204FE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CE4C-5664-4A17-9752-AC53FDBCF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89F-3E9B-4F53-A502-2C107871E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2286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КВАДРАТНЫЕ УРАВНЕНИЯ </a:t>
            </a:r>
            <a:br>
              <a:rPr sz="4400"/>
            </a:b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приемы устного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29240" y="5286240"/>
            <a:ext cx="2409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Полищук О. В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ФГКОУ СОШ №15</a:t>
            </a: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. Оленегорск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ученик"/>
          <p:cNvPicPr/>
          <p:nvPr/>
        </p:nvPicPr>
        <p:blipFill>
          <a:blip r:embed="rId2"/>
          <a:stretch/>
        </p:blipFill>
        <p:spPr>
          <a:xfrm>
            <a:off x="0" y="0"/>
            <a:ext cx="1643040" cy="1228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643040" y="2142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ое государственное казе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5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Группа 2" descr=""/>
          <p:cNvPicPr/>
          <p:nvPr/>
        </p:nvPicPr>
        <p:blipFill>
          <a:blip r:embed="rId1"/>
          <a:stretch/>
        </p:blipFill>
        <p:spPr>
          <a:xfrm>
            <a:off x="1182600" y="1895400"/>
            <a:ext cx="7016760" cy="1560600"/>
          </a:xfrm>
          <a:prstGeom prst="rect">
            <a:avLst/>
          </a:prstGeom>
          <a:ln w="0">
            <a:noFill/>
          </a:ln>
        </p:spPr>
      </p:pic>
      <p:pic>
        <p:nvPicPr>
          <p:cNvPr id="129" name="Группа 5" descr=""/>
          <p:cNvPicPr/>
          <p:nvPr/>
        </p:nvPicPr>
        <p:blipFill>
          <a:blip r:embed="rId2"/>
          <a:stretch/>
        </p:blipFill>
        <p:spPr>
          <a:xfrm>
            <a:off x="1182600" y="3541680"/>
            <a:ext cx="721224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6786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 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Правило нахождения корней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60" y="2571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714240" y="4000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3"/>
          <p:cNvGrpSpPr/>
          <p:nvPr/>
        </p:nvGrpSpPr>
        <p:grpSpPr>
          <a:xfrm>
            <a:off x="317520" y="669960"/>
            <a:ext cx="8461440" cy="4895640"/>
            <a:chOff x="317520" y="669960"/>
            <a:chExt cx="8461440" cy="4895640"/>
          </a:xfrm>
        </p:grpSpPr>
        <p:pic>
          <p:nvPicPr>
            <p:cNvPr id="134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669960"/>
              <a:ext cx="846144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00040" y="677520"/>
              <a:ext cx="8215200" cy="48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Пример 1.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Решить уравнение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+ 7х + 12 =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Решение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2 = 1</a:t>
              </a:r>
              <a:r>
                <a:rPr b="0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12 = 2 </a:t>
              </a:r>
              <a:r>
                <a:rPr b="0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6 = 3 </a:t>
              </a:r>
              <a:r>
                <a:rPr b="0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4   и   3 + 4 = 7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а в уравнении два «плюса», то корн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уравнения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-3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-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Ответ: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-3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-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3"/>
          <p:cNvGrpSpPr/>
          <p:nvPr/>
        </p:nvGrpSpPr>
        <p:grpSpPr>
          <a:xfrm>
            <a:off x="249120" y="743040"/>
            <a:ext cx="8456760" cy="1817640"/>
            <a:chOff x="249120" y="743040"/>
            <a:chExt cx="8456760" cy="1817640"/>
          </a:xfrm>
        </p:grpSpPr>
        <p:pic>
          <p:nvPicPr>
            <p:cNvPr id="137" name="Rectangle 3" descr=""/>
            <p:cNvPicPr/>
            <p:nvPr/>
          </p:nvPicPr>
          <p:blipFill>
            <a:blip r:embed="rId1"/>
            <a:stretch/>
          </p:blipFill>
          <p:spPr>
            <a:xfrm>
              <a:off x="249120" y="743040"/>
              <a:ext cx="84567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28760" y="792720"/>
              <a:ext cx="82152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Пример 2.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Решить уравнение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9х + 14 =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Блок-схема: несколько документов 3"/>
          <p:cNvSpPr/>
          <p:nvPr/>
        </p:nvSpPr>
        <p:spPr>
          <a:xfrm>
            <a:off x="1143000" y="2786040"/>
            <a:ext cx="7143840" cy="3786120"/>
          </a:xfrm>
          <a:prstGeom prst="flowChartMultidocument">
            <a:avLst/>
          </a:prstGeom>
          <a:solidFill>
            <a:srgbClr val="f7d685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857240" y="3429000"/>
            <a:ext cx="50007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 = 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7 и 2 + 7 = 9,  второй знак «минус», последний знак «плюс», значит,  корни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2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2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ученик"/>
          <p:cNvPicPr/>
          <p:nvPr/>
        </p:nvPicPr>
        <p:blipFill>
          <a:blip r:embed="rId2"/>
          <a:stretch/>
        </p:blipFill>
        <p:spPr>
          <a:xfrm>
            <a:off x="0" y="5857920"/>
            <a:ext cx="1071720" cy="799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3"/>
          <p:cNvGrpSpPr/>
          <p:nvPr/>
        </p:nvGrpSpPr>
        <p:grpSpPr>
          <a:xfrm>
            <a:off x="317520" y="311400"/>
            <a:ext cx="8461440" cy="5639760"/>
            <a:chOff x="317520" y="311400"/>
            <a:chExt cx="8461440" cy="5639760"/>
          </a:xfrm>
        </p:grpSpPr>
        <p:pic>
          <p:nvPicPr>
            <p:cNvPr id="143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457200"/>
              <a:ext cx="846144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0040" y="311400"/>
              <a:ext cx="8215200" cy="56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Задания для самостоятельного реш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. Решите уравн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)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11х  + 24 = 0        3)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17х + 30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)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+ 4х + 3 = 0             4)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 9х + 14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2. Составьте уравнение, корнями котор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являются числа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)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  и   7                             3)   11 и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)- 1  и – 6                            4)   - 4  и - 20               3.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Составьте четыре произвольных уравнения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целыми корнями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хема 4" descr=""/>
          <p:cNvPicPr/>
          <p:nvPr/>
        </p:nvPicPr>
        <p:blipFill>
          <a:blip r:embed="rId1"/>
          <a:stretch/>
        </p:blipFill>
        <p:spPr>
          <a:xfrm>
            <a:off x="493560" y="993600"/>
            <a:ext cx="8229600" cy="5705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785880" y="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40000"/>
                </a:solidFill>
                <a:latin typeface="Calibri"/>
              </a:rPr>
              <a:t>Алгоритм нахождения кор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Rectangle 3"/>
          <p:cNvGrpSpPr/>
          <p:nvPr/>
        </p:nvGrpSpPr>
        <p:grpSpPr>
          <a:xfrm>
            <a:off x="317520" y="669960"/>
            <a:ext cx="8461440" cy="4835520"/>
            <a:chOff x="317520" y="669960"/>
            <a:chExt cx="8461440" cy="4835520"/>
          </a:xfrm>
        </p:grpSpPr>
        <p:pic>
          <p:nvPicPr>
            <p:cNvPr id="148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669960"/>
              <a:ext cx="8461440" cy="48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00040" y="677160"/>
              <a:ext cx="8215200" cy="47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имер 1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Решить уравнение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7х – 30 =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шение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ножители числа 30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 и 30; 2 и 15 ; 3 и 10 ;  5 и 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оследний знак  в уравнении  « - »,  подбираем те  множители,  разность которых равна 7: Это  3  и 10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еньшему числу присваиваем знак  « - »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аким образом, корни уравнения: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-3 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1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твет: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-3 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1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3"/>
          <p:cNvGrpSpPr/>
          <p:nvPr/>
        </p:nvGrpSpPr>
        <p:grpSpPr>
          <a:xfrm>
            <a:off x="317520" y="669960"/>
            <a:ext cx="8461440" cy="4835520"/>
            <a:chOff x="317520" y="669960"/>
            <a:chExt cx="8461440" cy="4835520"/>
          </a:xfrm>
        </p:grpSpPr>
        <p:pic>
          <p:nvPicPr>
            <p:cNvPr id="151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669960"/>
              <a:ext cx="8461440" cy="48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00040" y="677160"/>
              <a:ext cx="8215200" cy="47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имер 2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Решить уравнение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7х + 6=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шение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реди множителей числа 6 ищем такие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умма   которых равна 7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 последний знак уравнения «  +  »)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Это числа 1 и 6., таким образом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1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твет: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1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= 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1"/>
              <p:cNvSpPr txBox="1"/>
              <p:nvPr/>
            </p:nvSpPr>
            <p:spPr>
              <a:xfrm>
                <a:off x="2286000" y="2643120"/>
                <a:ext cx="38498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TextBox 3"/>
          <p:cNvSpPr/>
          <p:nvPr/>
        </p:nvSpPr>
        <p:spPr>
          <a:xfrm>
            <a:off x="1357200" y="10717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вадратные уравнения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357200" y="21430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13880" y="1214280"/>
            <a:ext cx="7753320" cy="5429520"/>
          </a:xfrm>
          <a:prstGeom prst="rect">
            <a:avLst/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дано квадратное уравн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7500960" y="1500120"/>
                <a:ext cx="6476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214720" y="2257560"/>
                <a:ext cx="1258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8"/>
          <p:cNvSpPr/>
          <p:nvPr/>
        </p:nvSpPr>
        <p:spPr>
          <a:xfrm>
            <a:off x="1979640" y="263700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4857840" y="1500120"/>
                <a:ext cx="2592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23"/>
          <p:cNvSpPr/>
          <p:nvPr/>
        </p:nvSpPr>
        <p:spPr>
          <a:xfrm>
            <a:off x="785880" y="2000160"/>
            <a:ext cx="758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 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+ b + 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.е сумма коэффициентов равна нулю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 flipV="1" rot="10800000">
            <a:off x="1000080" y="2714760"/>
            <a:ext cx="722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зате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м обе части уравнения  на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получим приведённое  квадратное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3786120" y="3357720"/>
                <a:ext cx="17272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 Box 32"/>
          <p:cNvSpPr/>
          <p:nvPr/>
        </p:nvSpPr>
        <p:spPr>
          <a:xfrm>
            <a:off x="1000080" y="3786120"/>
            <a:ext cx="24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теореме, обратной теореме Ви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3500280" y="3929040"/>
                <a:ext cx="10717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Text Box 35"/>
          <p:cNvSpPr/>
          <p:nvPr/>
        </p:nvSpPr>
        <p:spPr>
          <a:xfrm>
            <a:off x="1071720" y="4857840"/>
            <a:ext cx="58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услови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+ b +c =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откуда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= - a – 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Зна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357280" y="5214960"/>
                <a:ext cx="20304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Text Box 37"/>
          <p:cNvSpPr/>
          <p:nvPr/>
        </p:nvSpPr>
        <p:spPr>
          <a:xfrm>
            <a:off x="1020600" y="607212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2428920" y="6143760"/>
                <a:ext cx="2482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41"/>
          <p:cNvSpPr/>
          <p:nvPr/>
        </p:nvSpPr>
        <p:spPr>
          <a:xfrm>
            <a:off x="5072040" y="614376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 требовалось до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1285920" y="0"/>
            <a:ext cx="6786360" cy="9471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йства коэффи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14720" y="2146680"/>
            <a:ext cx="3500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– в + с = 0, или в = а + с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"/>
              <p:cNvSpPr txBox="1"/>
              <p:nvPr/>
            </p:nvSpPr>
            <p:spPr>
              <a:xfrm>
                <a:off x="3500280" y="2857680"/>
                <a:ext cx="108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Блок-схема: несколько документов 3"/>
          <p:cNvSpPr/>
          <p:nvPr/>
        </p:nvSpPr>
        <p:spPr>
          <a:xfrm>
            <a:off x="1143000" y="1285920"/>
            <a:ext cx="8001000" cy="4643280"/>
          </a:xfrm>
          <a:prstGeom prst="flowChartMultidocument">
            <a:avLst/>
          </a:prstGeom>
          <a:solidFill>
            <a:srgbClr val="f7d685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428840" y="2214720"/>
            <a:ext cx="6000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Если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– в + с = 0, или в = а + с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437360" y="7488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857680" y="3143160"/>
                <a:ext cx="2881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TextBox 8"/>
          <p:cNvSpPr/>
          <p:nvPr/>
        </p:nvSpPr>
        <p:spPr>
          <a:xfrm>
            <a:off x="128592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жите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9" descr="ученик"/>
          <p:cNvPicPr/>
          <p:nvPr/>
        </p:nvPicPr>
        <p:blipFill>
          <a:blip r:embed="rId1"/>
          <a:stretch/>
        </p:blipFill>
        <p:spPr>
          <a:xfrm>
            <a:off x="0" y="5857920"/>
            <a:ext cx="1071720" cy="799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3" descr=""/>
          <p:cNvPicPr/>
          <p:nvPr/>
        </p:nvPicPr>
        <p:blipFill>
          <a:blip r:embed="rId1"/>
          <a:stretch/>
        </p:blipFill>
        <p:spPr>
          <a:xfrm>
            <a:off x="969840" y="1468440"/>
            <a:ext cx="6473880" cy="39816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2" descr=""/>
          <p:cNvPicPr/>
          <p:nvPr/>
        </p:nvPicPr>
        <p:blipFill>
          <a:blip r:embed="rId2"/>
          <a:stretch/>
        </p:blipFill>
        <p:spPr>
          <a:xfrm>
            <a:off x="993600" y="476280"/>
            <a:ext cx="5158080" cy="117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4"/>
          <p:cNvSpPr/>
          <p:nvPr/>
        </p:nvSpPr>
        <p:spPr>
          <a:xfrm>
            <a:off x="1357200" y="1357200"/>
            <a:ext cx="642960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Если 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вадратном уравнении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в+с=0,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его кор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357280" y="2286000"/>
                <a:ext cx="4078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42960" y="3599640"/>
            <a:ext cx="7929720" cy="26420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Пример 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. Решить уравнение     4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– 13х + 9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Сумма коэффициентов  4 – 13 + 9 = 0, зна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1,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Ответ: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1,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1643040" y="4287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ы «коэффици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4"/>
          <p:cNvSpPr/>
          <p:nvPr/>
        </p:nvSpPr>
        <p:spPr>
          <a:xfrm>
            <a:off x="1357200" y="1357200"/>
            <a:ext cx="642960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Если 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вадратном уравнении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= а +с 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 его кор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643040" y="4287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ы «коэффици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143080" y="2357280"/>
                <a:ext cx="41004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5"/>
          <p:cNvSpPr/>
          <p:nvPr/>
        </p:nvSpPr>
        <p:spPr>
          <a:xfrm>
            <a:off x="571680" y="3286080"/>
            <a:ext cx="7929360" cy="3005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Пример 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. Решить уравнение  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7х + 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Решение. 7 = 2 + 5, значит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= - 1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  - корни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Ответ: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- 1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- 2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Пример 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. Решить уравнение   5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3х -2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Решение.  3 = 5 + (-2), значит,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=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-1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Ответ: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- 1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0,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 «переброски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285840" y="1214280"/>
            <a:ext cx="8572320" cy="4969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ножим обе части уравнения на             , полу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приходим к уравнению                                   равносильному данному .   Его кор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нчательн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5357880" y="3929040"/>
                <a:ext cx="36018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у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286000" y="3071880"/>
                <a:ext cx="3286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в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571760" y="3286080"/>
                <a:ext cx="27828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х</m:t>
                    </m:r>
                    <m:r>
                      <m:t xml:space="preserve">=</m:t>
                    </m:r>
                    <m:r>
                      <m:t xml:space="preserve">у</m:t>
                    </m:r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6715080" y="4357800"/>
                <a:ext cx="11635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3214800" y="5000760"/>
                <a:ext cx="28162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8"/>
          <p:cNvSpPr/>
          <p:nvPr/>
        </p:nvSpPr>
        <p:spPr>
          <a:xfrm>
            <a:off x="428760" y="1373400"/>
            <a:ext cx="7929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квадратном уравнении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используем метод «переброски коэффициен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5572080" y="1285920"/>
                <a:ext cx="3328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857160" y="1857240"/>
                <a:ext cx="2317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±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786280" y="2714760"/>
                <a:ext cx="10353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3357720" y="9358200"/>
                <a:ext cx="28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 advTm="12000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214200" y="1357200"/>
            <a:ext cx="835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85840" y="738720"/>
            <a:ext cx="8572320" cy="5869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Пример 1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.Решить уравнение  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2х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2х – 1 = 0,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|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9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+  6х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(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2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(3х)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Пусть  3х = у, тогда получи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у</a:t>
            </a:r>
            <a:r>
              <a:rPr b="0" lang="ru-RU" sz="2800" spc="-1" strike="noStrike" baseline="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+ 2у – 3 = 0. Сумма коэффициентов равна нулю: 1 + 2 - 3 = 0, значит, у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1, у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= -3/ 1 = -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Вернемся к подстановке: 1) 3х = 1, х = 1/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2) 3х = - 3,  х = -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Ответ: х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- 1, х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= 1/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3840" y="857160"/>
            <a:ext cx="8758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этом способе коэффициент а  умножается на свободный член, как бы «перебрасывается» к нему, поэтому его и называют способом «переброс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т способ применяют, когда можно легко найти корни уравнения, используя теорему Виета и, что самое важное, когда дискриминант есть точный квадра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3"/>
          <p:cNvGrpSpPr/>
          <p:nvPr/>
        </p:nvGrpSpPr>
        <p:grpSpPr>
          <a:xfrm>
            <a:off x="390600" y="605880"/>
            <a:ext cx="8650080" cy="5209560"/>
            <a:chOff x="390600" y="605880"/>
            <a:chExt cx="8650080" cy="5209560"/>
          </a:xfrm>
        </p:grpSpPr>
        <p:pic>
          <p:nvPicPr>
            <p:cNvPr id="205" name="Rectangle 3" descr=""/>
            <p:cNvPicPr/>
            <p:nvPr/>
          </p:nvPicPr>
          <p:blipFill>
            <a:blip r:embed="rId1"/>
            <a:stretch/>
          </p:blipFill>
          <p:spPr>
            <a:xfrm>
              <a:off x="390600" y="811080"/>
              <a:ext cx="865008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71680" y="605880"/>
              <a:ext cx="8215200" cy="52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имер 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Решить уравнение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11х + 5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шение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«Перебросив»  коэффициент, получим приведенное квадратное уравнение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- 11 х + 10 = 0, корни которого 1 и 10. Делим каждое число на 2, получаем корн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данного уравнения: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0,5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Ответ: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0,5, х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5.</a:t>
              </a:r>
              <a:br>
                <a:rPr sz="2800"/>
              </a:b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" name="Выгнутая вверх стрелка 17"/>
          <p:cNvSpPr/>
          <p:nvPr/>
        </p:nvSpPr>
        <p:spPr>
          <a:xfrm>
            <a:off x="5643720" y="1357200"/>
            <a:ext cx="1714320" cy="285840"/>
          </a:xfrm>
          <a:custGeom>
            <a:avLst/>
            <a:gdLst>
              <a:gd name="textAreaLeft" fmla="*/ 401760 w 1714320"/>
              <a:gd name="textAreaRight" fmla="*/ 1276920 w 17143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25" hR="21600" stAng="10800000" swAng="5400000"/>
                <a:lnTo>
                  <a:pt x="11025" y="0"/>
                </a:lnTo>
                <a:arcTo wR="10125" hR="21600" stAng="-5400000" swAng="3669178"/>
                <a:lnTo>
                  <a:pt x="21278" y="16200"/>
                </a:lnTo>
                <a:lnTo>
                  <a:pt x="20700" y="21600"/>
                </a:lnTo>
                <a:lnTo>
                  <a:pt x="19478" y="16200"/>
                </a:lnTo>
                <a:lnTo>
                  <a:pt x="19928" y="16200"/>
                </a:lnTo>
                <a:arcTo wR="10125" hR="21600" stAng="-1730822" swAng="-3597497"/>
                <a:lnTo>
                  <a:pt x="10575" y="21"/>
                </a:lnTo>
                <a:arcTo wR="10125" hR="21600" stAng="-5471680" swAng="-5328320"/>
                <a:close/>
              </a:path>
              <a:path fill="darkenLess" w="21600" h="21600">
                <a:moveTo>
                  <a:pt x="0" y="21600"/>
                </a:moveTo>
                <a:arcTo wR="10125" hR="21600" stAng="10800000" swAng="5400000"/>
                <a:lnTo>
                  <a:pt x="10125" y="0"/>
                </a:lnTo>
                <a:arcTo wR="10125" hR="21600" stAng="-5400000" swAng="71680"/>
                <a:lnTo>
                  <a:pt x="10575" y="21"/>
                </a:lnTo>
                <a:arcTo wR="10125" hR="21600" stAng="-5471680" swAng="-5328320"/>
                <a:close/>
              </a:path>
            </a:pathLst>
          </a:custGeom>
          <a:solidFill>
            <a:srgbClr val="000000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428760"/>
            <a:ext cx="7786800" cy="4908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мер 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ить уравнение   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7х – 3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еребросив» коэффициент, получим приведенное квадрат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7х – 18 = 0, корни которого 9 и –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м на 6 найденные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ни дан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гнутая вверх стрелка 2"/>
          <p:cNvSpPr/>
          <p:nvPr/>
        </p:nvSpPr>
        <p:spPr>
          <a:xfrm>
            <a:off x="5929200" y="714240"/>
            <a:ext cx="1357560" cy="285840"/>
          </a:xfrm>
          <a:custGeom>
            <a:avLst/>
            <a:gdLst>
              <a:gd name="textAreaLeft" fmla="*/ 312480 w 1357560"/>
              <a:gd name="textAreaRight" fmla="*/ 1009440 w 13575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8" hR="21600" stAng="10800000" swAng="5400000"/>
                <a:lnTo>
                  <a:pt x="11084" y="0"/>
                </a:lnTo>
                <a:arcTo wR="9948" hR="21600" stAng="-5400000" swAng="3643362"/>
                <a:lnTo>
                  <a:pt x="21284" y="16200"/>
                </a:lnTo>
                <a:lnTo>
                  <a:pt x="20463" y="21600"/>
                </a:lnTo>
                <a:lnTo>
                  <a:pt x="19010" y="16200"/>
                </a:lnTo>
                <a:lnTo>
                  <a:pt x="19579" y="16200"/>
                </a:lnTo>
                <a:arcTo wR="9948" hR="21600" stAng="-1756638" swAng="-3552835"/>
                <a:lnTo>
                  <a:pt x="10516" y="35"/>
                </a:lnTo>
                <a:arcTo wR="9948" hR="21600" stAng="-5490527" swAng="-5309473"/>
                <a:close/>
              </a:path>
              <a:path fill="darkenLess" w="21600" h="21600">
                <a:moveTo>
                  <a:pt x="0" y="21600"/>
                </a:moveTo>
                <a:arcTo wR="9948" hR="21600" stAng="10800000" swAng="5400000"/>
                <a:lnTo>
                  <a:pt x="9948" y="0"/>
                </a:lnTo>
                <a:arcTo wR="9948" hR="21600" stAng="-5400000" swAng="90527"/>
                <a:lnTo>
                  <a:pt x="10516" y="35"/>
                </a:lnTo>
                <a:arcTo wR="9948" hR="21600" stAng="-5490527" swAng="-5309473"/>
                <a:close/>
              </a:path>
            </a:pathLst>
          </a:cu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5254560" y="3357720"/>
                <a:ext cx="2984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2143080" y="4143240"/>
                <a:ext cx="3156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 advTm="12000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85840" y="642960"/>
            <a:ext cx="8143920" cy="5579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 4.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ь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метод «переброски», получим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теореме Вие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"/>
              <p:cNvSpPr txBox="1"/>
              <p:nvPr/>
            </p:nvSpPr>
            <p:spPr>
              <a:xfrm>
                <a:off x="4714920" y="1285920"/>
                <a:ext cx="3305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Выгнутая вверх стрелка 4"/>
          <p:cNvSpPr/>
          <p:nvPr/>
        </p:nvSpPr>
        <p:spPr>
          <a:xfrm>
            <a:off x="5000760" y="928800"/>
            <a:ext cx="2286000" cy="357120"/>
          </a:xfrm>
          <a:custGeom>
            <a:avLst/>
            <a:gdLst>
              <a:gd name="textAreaLeft" fmla="*/ 537840 w 2286000"/>
              <a:gd name="textAreaRight" fmla="*/ 1703520 w 228600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68" hR="21600" stAng="10800000" swAng="5400000"/>
                <a:lnTo>
                  <a:pt x="11011" y="0"/>
                </a:lnTo>
                <a:arcTo wR="10168" hR="21600" stAng="-5400000" swAng="3675256"/>
                <a:lnTo>
                  <a:pt x="21277" y="16200"/>
                </a:lnTo>
                <a:lnTo>
                  <a:pt x="20757" y="21600"/>
                </a:lnTo>
                <a:lnTo>
                  <a:pt x="19590" y="16200"/>
                </a:lnTo>
                <a:lnTo>
                  <a:pt x="20012" y="16200"/>
                </a:lnTo>
                <a:arcTo wR="10168" hR="21600" stAng="-1724744" swAng="-3608123"/>
                <a:lnTo>
                  <a:pt x="10589" y="19"/>
                </a:lnTo>
                <a:arcTo wR="10168" hR="21600" stAng="-5467133" swAng="-5332867"/>
                <a:close/>
              </a:path>
              <a:path fill="darkenLess" w="21600" h="21600">
                <a:moveTo>
                  <a:pt x="0" y="21600"/>
                </a:moveTo>
                <a:arcTo wR="10168" hR="21600" stAng="10800000" swAng="5400000"/>
                <a:lnTo>
                  <a:pt x="10168" y="0"/>
                </a:lnTo>
                <a:arcTo wR="10168" hR="21600" stAng="-5400000" swAng="67133"/>
                <a:lnTo>
                  <a:pt x="10589" y="19"/>
                </a:lnTo>
                <a:arcTo wR="10168" hR="21600" stAng="-5467133" swAng="-5332867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"/>
              <p:cNvSpPr txBox="1"/>
              <p:nvPr/>
            </p:nvSpPr>
            <p:spPr>
              <a:xfrm>
                <a:off x="1785960" y="3500280"/>
                <a:ext cx="1046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9" name="Левая фигурная скобка 8"/>
          <p:cNvSpPr/>
          <p:nvPr/>
        </p:nvSpPr>
        <p:spPr>
          <a:xfrm>
            <a:off x="1571760" y="3500280"/>
            <a:ext cx="285480" cy="857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857520"/>
              <a:gd name="textAreaBottom" fmla="*/ 8503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3571920" y="3071880"/>
                <a:ext cx="144612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1" name="Левая фигурная скобка 10"/>
          <p:cNvSpPr/>
          <p:nvPr/>
        </p:nvSpPr>
        <p:spPr>
          <a:xfrm>
            <a:off x="3571920" y="3286080"/>
            <a:ext cx="428760" cy="1285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85920"/>
              <a:gd name="textAreaBottom" fmla="*/ 12747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286680" y="3071880"/>
                <a:ext cx="129060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Левая фигурная скобка 13"/>
          <p:cNvSpPr/>
          <p:nvPr/>
        </p:nvSpPr>
        <p:spPr>
          <a:xfrm>
            <a:off x="6000840" y="3214800"/>
            <a:ext cx="428400" cy="12859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285920"/>
              <a:gd name="textAreaBottom" fmla="*/ 12747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право 14"/>
          <p:cNvSpPr/>
          <p:nvPr/>
        </p:nvSpPr>
        <p:spPr>
          <a:xfrm>
            <a:off x="2928960" y="3857760"/>
            <a:ext cx="571320" cy="71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право 15"/>
          <p:cNvSpPr/>
          <p:nvPr/>
        </p:nvSpPr>
        <p:spPr>
          <a:xfrm>
            <a:off x="5286240" y="38577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3214800" y="5143680"/>
                <a:ext cx="11109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9"/>
              <p:cNvSpPr txBox="1"/>
              <p:nvPr/>
            </p:nvSpPr>
            <p:spPr>
              <a:xfrm>
                <a:off x="3078000" y="2571840"/>
                <a:ext cx="3175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12000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Содержимое 2" descr=""/>
          <p:cNvPicPr/>
          <p:nvPr/>
        </p:nvPicPr>
        <p:blipFill>
          <a:blip r:embed="rId1"/>
          <a:stretch/>
        </p:blipFill>
        <p:spPr>
          <a:xfrm>
            <a:off x="907920" y="1163520"/>
            <a:ext cx="7182000" cy="99853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5"/>
          <p:cNvSpPr/>
          <p:nvPr/>
        </p:nvSpPr>
        <p:spPr>
          <a:xfrm>
            <a:off x="2571840" y="4786200"/>
            <a:ext cx="2214360" cy="1800"/>
          </a:xfrm>
          <a:prstGeom prst="line">
            <a:avLst/>
          </a:prstGeom>
          <a:ln w="158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6" descr="ученик"/>
          <p:cNvPicPr/>
          <p:nvPr/>
        </p:nvPicPr>
        <p:blipFill>
          <a:blip r:embed="rId2"/>
          <a:stretch/>
        </p:blipFill>
        <p:spPr>
          <a:xfrm>
            <a:off x="0" y="6058080"/>
            <a:ext cx="1071720" cy="799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Содержимое 2"/>
          <p:cNvGrpSpPr/>
          <p:nvPr/>
        </p:nvGrpSpPr>
        <p:grpSpPr>
          <a:xfrm>
            <a:off x="1073160" y="1170000"/>
            <a:ext cx="6991200" cy="5054760"/>
            <a:chOff x="1073160" y="1170000"/>
            <a:chExt cx="6991200" cy="505476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073160" y="1170000"/>
              <a:ext cx="6991200" cy="50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143000" y="1285920"/>
              <a:ext cx="685800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8)  3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5х +2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9)  5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4х – 1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0) 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4х + 3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1) 2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– 9х + 9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2) 10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– 11х + 3 =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3) 3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11х + 6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4) 6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5х – 6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15) 3х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+ х – 4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ая соединительная линия 5"/>
          <p:cNvSpPr/>
          <p:nvPr/>
        </p:nvSpPr>
        <p:spPr>
          <a:xfrm>
            <a:off x="2928960" y="3071880"/>
            <a:ext cx="2214720" cy="1440"/>
          </a:xfrm>
          <a:prstGeom prst="line">
            <a:avLst/>
          </a:prstGeom>
          <a:ln w="158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4" descr="ученик"/>
          <p:cNvPicPr/>
          <p:nvPr/>
        </p:nvPicPr>
        <p:blipFill>
          <a:blip r:embed="rId2"/>
          <a:stretch/>
        </p:blipFill>
        <p:spPr>
          <a:xfrm>
            <a:off x="0" y="6058080"/>
            <a:ext cx="1071720" cy="799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231920" y="1042920"/>
            <a:ext cx="6095880" cy="6862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857160" y="1071720"/>
            <a:ext cx="63579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иведенные квадра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500200" y="2714760"/>
                <a:ext cx="3592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12000">
    <p:pull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1206360" y="1395360"/>
            <a:ext cx="6158160" cy="1433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Скругленный прямоугольник 5"/>
          <p:cNvGrpSpPr/>
          <p:nvPr/>
        </p:nvGrpSpPr>
        <p:grpSpPr>
          <a:xfrm>
            <a:off x="768240" y="554040"/>
            <a:ext cx="8912160" cy="6632640"/>
            <a:chOff x="768240" y="554040"/>
            <a:chExt cx="8912160" cy="6632640"/>
          </a:xfrm>
        </p:grpSpPr>
        <p:pic>
          <p:nvPicPr>
            <p:cNvPr id="99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68240" y="554040"/>
              <a:ext cx="8912160" cy="66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044720" y="830160"/>
              <a:ext cx="719748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6"/>
          <p:cNvSpPr/>
          <p:nvPr/>
        </p:nvSpPr>
        <p:spPr>
          <a:xfrm>
            <a:off x="857160" y="642960"/>
            <a:ext cx="7286760" cy="11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Корни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х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и х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Franklin Gothic Medium"/>
                <a:ea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привед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урав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удовлетворяют    теореме Ви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Определить знаки корней без решения уравнения (при условии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0)   можно по следующим прави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286080" y="2714760"/>
            <a:ext cx="221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х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+   х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= -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8"/>
          <p:cNvSpPr/>
          <p:nvPr/>
        </p:nvSpPr>
        <p:spPr>
          <a:xfrm>
            <a:off x="3214800" y="2928960"/>
            <a:ext cx="46080" cy="5000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500040"/>
              <a:gd name="textAreaBottom" fmla="*/ 49896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3286080" y="1571760"/>
                <a:ext cx="2463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12000"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Скругленный прямоугольник 5"/>
          <p:cNvGrpSpPr/>
          <p:nvPr/>
        </p:nvGrpSpPr>
        <p:grpSpPr>
          <a:xfrm>
            <a:off x="768240" y="554040"/>
            <a:ext cx="8912160" cy="6632640"/>
            <a:chOff x="768240" y="554040"/>
            <a:chExt cx="8912160" cy="6632640"/>
          </a:xfrm>
        </p:grpSpPr>
        <p:pic>
          <p:nvPicPr>
            <p:cNvPr id="106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68240" y="554040"/>
              <a:ext cx="8912160" cy="66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044720" y="830160"/>
              <a:ext cx="719748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6"/>
          <p:cNvSpPr/>
          <p:nvPr/>
        </p:nvSpPr>
        <p:spPr>
          <a:xfrm>
            <a:off x="857160" y="642960"/>
            <a:ext cx="72867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00120" y="1357200"/>
          <a:ext cx="6429600" cy="3571920"/>
        </p:xfrm>
        <a:graphic>
          <a:graphicData uri="http://schemas.openxmlformats.org/drawingml/2006/table">
            <a:tbl>
              <a:tblPr/>
              <a:tblGrid>
                <a:gridCol w="1119240"/>
                <a:gridCol w="2781360"/>
                <a:gridCol w="2529000"/>
              </a:tblGrid>
              <a:tr h="117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р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q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Оба корня отрицатель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Оба корня положитель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q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Корни имеют противоположные 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12000">
    <p:pull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Группа 2" descr=""/>
          <p:cNvPicPr/>
          <p:nvPr/>
        </p:nvPicPr>
        <p:blipFill>
          <a:blip r:embed="rId1"/>
          <a:stretch/>
        </p:blipFill>
        <p:spPr>
          <a:xfrm>
            <a:off x="1158840" y="1895400"/>
            <a:ext cx="6753240" cy="1560600"/>
          </a:xfrm>
          <a:prstGeom prst="rect">
            <a:avLst/>
          </a:prstGeom>
          <a:ln w="0">
            <a:noFill/>
          </a:ln>
        </p:spPr>
      </p:pic>
      <p:pic>
        <p:nvPicPr>
          <p:cNvPr id="111" name="Группа 5" descr=""/>
          <p:cNvPicPr/>
          <p:nvPr/>
        </p:nvPicPr>
        <p:blipFill>
          <a:blip r:embed="rId2"/>
          <a:stretch/>
        </p:blipFill>
        <p:spPr>
          <a:xfrm>
            <a:off x="1158840" y="3541680"/>
            <a:ext cx="688176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6786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 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Правило нахождения корней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00040" y="2571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00040" y="4286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ll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3"/>
          <p:cNvGrpSpPr/>
          <p:nvPr/>
        </p:nvGrpSpPr>
        <p:grpSpPr>
          <a:xfrm>
            <a:off x="317520" y="486000"/>
            <a:ext cx="8461440" cy="5351400"/>
            <a:chOff x="317520" y="486000"/>
            <a:chExt cx="8461440" cy="5351400"/>
          </a:xfrm>
        </p:grpSpPr>
        <p:pic>
          <p:nvPicPr>
            <p:cNvPr id="116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669960"/>
              <a:ext cx="84614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00040" y="486000"/>
              <a:ext cx="8215200" cy="53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Пример 1.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Решить уравнение 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– 2х – 15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           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Реше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) найдем множители числа 15: 1 и 15; 3 и 5.   Выберем те, разность  которых  равна  2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Это числа 3 и 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2)перед меньшим числом ставим второй знак уравнения, т.е.  «минус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Таким образом, корни уравнения: х</a:t>
              </a:r>
              <a:r>
                <a:rPr b="0" lang="ru-RU" sz="2800" spc="-1" strike="noStrike" baseline="-30000">
                  <a:solidFill>
                    <a:srgbClr val="000000"/>
                  </a:solidFill>
                  <a:latin typeface="Franklin Gothic Medium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- 3, х</a:t>
              </a:r>
              <a:r>
                <a:rPr b="0" lang="ru-RU" sz="2800" spc="-1" strike="noStrike" baseline="-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=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Ответ: -3 и 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Rectangle 3"/>
          <p:cNvGrpSpPr/>
          <p:nvPr/>
        </p:nvGrpSpPr>
        <p:grpSpPr>
          <a:xfrm>
            <a:off x="249120" y="743040"/>
            <a:ext cx="8456760" cy="2676600"/>
            <a:chOff x="249120" y="743040"/>
            <a:chExt cx="8456760" cy="2676600"/>
          </a:xfrm>
        </p:grpSpPr>
        <p:pic>
          <p:nvPicPr>
            <p:cNvPr id="119" name="Rectangle 3" descr=""/>
            <p:cNvPicPr/>
            <p:nvPr/>
          </p:nvPicPr>
          <p:blipFill>
            <a:blip r:embed="rId1"/>
            <a:stretch/>
          </p:blipFill>
          <p:spPr>
            <a:xfrm>
              <a:off x="249120" y="743040"/>
              <a:ext cx="84567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8760" y="797040"/>
              <a:ext cx="82152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имер 2.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шить уравнение 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+ 10 х – 24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имер 3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Решить уравнение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– 5х – 14 =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Блок-схема: несколько документов 3"/>
          <p:cNvSpPr/>
          <p:nvPr/>
        </p:nvSpPr>
        <p:spPr>
          <a:xfrm>
            <a:off x="1857240" y="3929040"/>
            <a:ext cx="5572440" cy="1857240"/>
          </a:xfrm>
          <a:prstGeom prst="flowChartMultidocument">
            <a:avLst/>
          </a:prstGeom>
          <a:solidFill>
            <a:srgbClr val="f7d685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000160" y="428616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твет: - 12;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000160" y="492912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твет:  - 2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ученик"/>
          <p:cNvPicPr/>
          <p:nvPr/>
        </p:nvPicPr>
        <p:blipFill>
          <a:blip r:embed="rId2"/>
          <a:stretch/>
        </p:blipFill>
        <p:spPr>
          <a:xfrm>
            <a:off x="0" y="6058080"/>
            <a:ext cx="1071720" cy="799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ll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ectangle 3"/>
          <p:cNvGrpSpPr/>
          <p:nvPr/>
        </p:nvGrpSpPr>
        <p:grpSpPr>
          <a:xfrm>
            <a:off x="317520" y="311400"/>
            <a:ext cx="8461440" cy="5639760"/>
            <a:chOff x="317520" y="311400"/>
            <a:chExt cx="8461440" cy="5639760"/>
          </a:xfrm>
        </p:grpSpPr>
        <p:pic>
          <p:nvPicPr>
            <p:cNvPr id="126" name="Rectangle 3" descr=""/>
            <p:cNvPicPr/>
            <p:nvPr/>
          </p:nvPicPr>
          <p:blipFill>
            <a:blip r:embed="rId1"/>
            <a:stretch/>
          </p:blipFill>
          <p:spPr>
            <a:xfrm>
              <a:off x="317520" y="457200"/>
              <a:ext cx="846144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0040" y="311400"/>
              <a:ext cx="8215200" cy="56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Задания для самостоятельного реш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. Решите уравн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)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– 4х – 77 = 0               3)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+ х – 56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2)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+ 8х – 20 = 0              4)   х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Franklin Gothic Medium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– 7х – 8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2. Составьте уравнение, корнями котор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являются числа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1) 6  и  -  7                               3) - 1  и 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2) 13  и – 9                              4)  - 5  и 4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Franklin Gothic Medium"/>
                <a:buAutoNum type="arabicPeriod" startAt="3"/>
                <a:tabLst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Medium"/>
                  <a:ea typeface="Calibri"/>
                </a:rPr>
                <a:t>Составьте четыре произвольных уравнения с целыми корнями, имеющими разные 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2000"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8:58Z</dcterms:created>
  <dc:creator>c</dc:creator>
  <dc:description/>
  <dc:language>en-US</dc:language>
  <cp:lastModifiedBy>сергей</cp:lastModifiedBy>
  <dcterms:modified xsi:type="dcterms:W3CDTF">2015-02-08T20:36:05Z</dcterms:modified>
  <cp:revision>65</cp:revision>
  <dc:subject/>
  <dc:title>Приемы устного решения квадратного уравнения</dc:title>
</cp:coreProperties>
</file>