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7.jpeg" ContentType="image/jpeg"/>
  <Override PartName="/ppt/media/image20.gif" ContentType="image/gif"/>
  <Override PartName="/ppt/media/image18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6.png" ContentType="image/png"/>
  <Override PartName="/ppt/media/image13.gif" ContentType="image/gi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7A24-1C38-4423-A4B6-9EC0AC2CD9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3384-9DB0-4370-9158-E221572605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A59-B1C7-4557-8EA5-D85D761E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B63-FC36-477F-896D-17343B94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172-B200-4AF2-AE67-4BF876EE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D63-0EE4-4D4A-AF2B-58F5BDB4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8C70-5CCB-4A17-B59A-5588BE98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2810-ED68-4327-90C1-35F95D4C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4C79-4689-48F0-A82D-4AE58633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0DB1-5B7D-4CE7-9783-BD831333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D6E5-5377-4487-9B40-571DB611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A97F-BFF1-4DC6-8C74-77A7B5B6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BC2A-5A16-4B5A-AD50-9CB9BDEC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7E4-BDAE-48DE-9058-368A4DCF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DB37-526E-41B6-B474-7BB55EC3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64B4-ACC3-41C0-B18E-C1C0AA0D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B254-34C3-4EBE-A8D4-46940BDB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A52F-9F14-4628-8A13-5FC4B124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94FA-A975-43C5-96ED-539C04E7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1EA-AAFB-4E37-83A5-B3D3FA4E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F5C-067B-4EF9-A141-80B49334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F1E-F340-43E6-99D8-C3CB6A5E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05D-BFA0-4568-8936-C0B749B8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F0F2-B3E6-49C5-99A8-F8D6B0BE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72A-0CBF-4FF9-87EE-39ECA531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FD9-6797-4AC6-97C6-2F7634D3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41AD-0CE6-4DC8-9669-61943D8D4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98E8-3A7A-4C99-AB0C-61F0182E93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4" descr="C:\Users\Оля\Desktop\P1010479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70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12960" y="27720"/>
            <a:ext cx="9140040" cy="56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равила толерантно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общ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·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важай собеседни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арайся понять то, о чем говорят друг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стаивай свое мнение тактич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щи лучшие аргумен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удь справедливым, готовым принять правоту друго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ремись учитывать интересы други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2571480"/>
            <a:ext cx="77724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«ЛАДНАЯ СЕМЬЯ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8548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тайская притч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рука"/>
          <p:cNvPicPr/>
          <p:nvPr/>
        </p:nvPicPr>
        <p:blipFill>
          <a:blip r:embed="rId1"/>
          <a:stretch/>
        </p:blipFill>
        <p:spPr>
          <a:xfrm>
            <a:off x="3429000" y="4214880"/>
            <a:ext cx="278604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2138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 Black"/>
              </a:rPr>
              <a:t>Чем шире улыбка, тем больше уверенности в завтрашнем дне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 Black"/>
              </a:rPr>
              <a:t>и в свои силы!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85920" y="5000400"/>
            <a:ext cx="67816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е: нарисуйте  различные выражения л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45" descr="image019"/>
          <p:cNvPicPr/>
          <p:nvPr/>
        </p:nvPicPr>
        <p:blipFill>
          <a:blip r:embed="rId1"/>
          <a:stretch/>
        </p:blipFill>
        <p:spPr>
          <a:xfrm>
            <a:off x="2714760" y="1714680"/>
            <a:ext cx="435744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" dur="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3" dur="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4" descr="wallpapers_ru_020907_luana_alien_sun_moon_flowers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4" descr=""/>
          <p:cNvPicPr/>
          <p:nvPr/>
        </p:nvPicPr>
        <p:blipFill>
          <a:blip r:embed="rId2"/>
          <a:stretch/>
        </p:blipFill>
        <p:spPr>
          <a:xfrm>
            <a:off x="2152800" y="139680"/>
            <a:ext cx="5029200" cy="6639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Entertainment-02"/>
          <p:cNvPicPr/>
          <p:nvPr/>
        </p:nvPicPr>
        <p:blipFill>
          <a:blip r:embed="rId3"/>
          <a:stretch/>
        </p:blipFill>
        <p:spPr>
          <a:xfrm>
            <a:off x="214200" y="4643280"/>
            <a:ext cx="208764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олерантность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5" descr="75abbf2ae286"/>
          <p:cNvPicPr/>
          <p:nvPr/>
        </p:nvPicPr>
        <p:blipFill>
          <a:blip r:embed="rId1"/>
          <a:stretch/>
        </p:blipFill>
        <p:spPr>
          <a:xfrm>
            <a:off x="2784600" y="245736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G_53877_331446_53"/>
          <p:cNvPicPr/>
          <p:nvPr/>
        </p:nvPicPr>
        <p:blipFill>
          <a:blip r:embed="rId2"/>
          <a:stretch/>
        </p:blipFill>
        <p:spPr>
          <a:xfrm>
            <a:off x="2714760" y="2428920"/>
            <a:ext cx="4214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71760" y="428760"/>
            <a:ext cx="72864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 ДИСКУССИИ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428560" y="1856880"/>
            <a:ext cx="67150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e0387"/>
                </a:solidFill>
                <a:latin typeface="Times New Roman"/>
                <a:ea typeface="Times New Roman"/>
              </a:rPr>
              <a:t>УМЕТЬ СЛУШАТЬ ДРУГ ДРУГ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e0387"/>
                </a:solidFill>
                <a:latin typeface="Times New Roman"/>
                <a:ea typeface="Times New Roman"/>
              </a:rPr>
              <a:t>НЕ ПЕРЕБИВАТ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e0387"/>
                </a:solidFill>
                <a:latin typeface="Times New Roman"/>
                <a:ea typeface="Times New Roman"/>
              </a:rPr>
              <a:t>УВАЖАТЬ МНЕНИЕ ТОВАРИЩ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e0387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5e0387"/>
                </a:solidFill>
                <a:latin typeface="Times New Roman"/>
                <a:ea typeface="Times New Roman"/>
              </a:rPr>
              <a:t>ПОМОГИ ТОМУ, КОМУ ТРУДН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C:\Documents and Settings\Admin.MICROSOF-64E707\Мои документы\смешные рисунки\19.jpg"/>
          <p:cNvPicPr/>
          <p:nvPr/>
        </p:nvPicPr>
        <p:blipFill>
          <a:blip r:embed="rId1"/>
          <a:stretch/>
        </p:blipFill>
        <p:spPr>
          <a:xfrm>
            <a:off x="0" y="2143080"/>
            <a:ext cx="2286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22160" y="50004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ределение слова «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лерантность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испанском языке оно означает способность признавать отличные от своих собственных идеи и мнения;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 французском – отношение при котором допускается, что другие могут думать или действовать иначе, нежели ты сам;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английском – готовность быть терпимым, снисходительным;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китайском – позволять, принимать, быть по отношению к другим великодушным;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арабском – прощение, снисходительность, мягкость, милосердие, сострадание, благосклонность, терпение, расположенность к другим;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русском – способность терпеть что-то или кого-то (быть выдержанным, выносливым, стойким, уметь мириться с существованием чего-либо, кого-либо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C:\Documents and Settings\Admin\Рабочий стол\уч.jpeg"/>
          <p:cNvPicPr/>
          <p:nvPr/>
        </p:nvPicPr>
        <p:blipFill>
          <a:blip r:embed="rId1"/>
          <a:stretch/>
        </p:blipFill>
        <p:spPr>
          <a:xfrm>
            <a:off x="6500880" y="492912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Documents and Settings\Admin\Рабочий стол\уче.jpeg"/>
          <p:cNvPicPr/>
          <p:nvPr/>
        </p:nvPicPr>
        <p:blipFill>
          <a:blip r:embed="rId2"/>
          <a:stretch/>
        </p:blipFill>
        <p:spPr>
          <a:xfrm>
            <a:off x="642960" y="4572000"/>
            <a:ext cx="1785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1" lang="ru-RU" sz="9600" spc="-1" strike="noStrike">
                <a:solidFill>
                  <a:srgbClr val="c00000"/>
                </a:solidFill>
                <a:latin typeface="Arial Black"/>
              </a:rPr>
              <a:t>Притча</a:t>
            </a:r>
            <a:br>
              <a:rPr sz="9600"/>
            </a:b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«Перед вами две дороги, выбирайте».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strips dir="l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океан 3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океан 2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море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d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в группе"/>
          <p:cNvPicPr/>
          <p:nvPr/>
        </p:nvPicPr>
        <p:blipFill>
          <a:blip r:embed="rId1"/>
          <a:stretch/>
        </p:blipFill>
        <p:spPr>
          <a:xfrm>
            <a:off x="2214720" y="1628640"/>
            <a:ext cx="4643280" cy="3515040"/>
          </a:xfrm>
          <a:prstGeom prst="rect">
            <a:avLst/>
          </a:prstGeom>
          <a:ln w="0">
            <a:noFill/>
          </a:ln>
        </p:spPr>
      </p:pic>
      <p:sp>
        <p:nvSpPr>
          <p:cNvPr id="121" name="WordArt 5"/>
          <p:cNvSpPr txBox="1"/>
          <p:nvPr/>
        </p:nvSpPr>
        <p:spPr>
          <a:xfrm>
            <a:off x="1957320" y="836640"/>
            <a:ext cx="540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b2b2b2"/>
                  </a:outerShdw>
                </a:effectLst>
                <a:latin typeface="Impact"/>
              </a:rPr>
              <a:t>Работа в группах.</a:t>
            </a:r>
            <a:endParaRPr b="0" lang="en-US" sz="1800" spc="1" strike="noStrike">
              <a:ln w="2844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b2b2b2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6"/>
          <p:cNvSpPr/>
          <p:nvPr/>
        </p:nvSpPr>
        <p:spPr>
          <a:xfrm>
            <a:off x="285840" y="2928960"/>
            <a:ext cx="8643960" cy="1785960"/>
          </a:xfrm>
          <a:prstGeom prst="rect">
            <a:avLst/>
          </a:prstGeom>
          <a:solidFill>
            <a:srgbClr val="ff99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казочка о счастье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E:\Мои рисунки\Движущиеся\008.gif"/>
          <p:cNvPicPr/>
          <p:nvPr/>
        </p:nvPicPr>
        <p:blipFill>
          <a:blip r:embed="rId2"/>
          <a:stretch/>
        </p:blipFill>
        <p:spPr>
          <a:xfrm>
            <a:off x="285840" y="428760"/>
            <a:ext cx="2857320" cy="2260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Оля\Desktop\P1010483.JPG"/>
          <p:cNvPicPr/>
          <p:nvPr/>
        </p:nvPicPr>
        <p:blipFill>
          <a:blip r:embed="rId1"/>
          <a:stretch/>
        </p:blipFill>
        <p:spPr>
          <a:xfrm>
            <a:off x="0" y="0"/>
            <a:ext cx="971568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Оля\Desktop\P1010560.JPG"/>
          <p:cNvPicPr/>
          <p:nvPr/>
        </p:nvPicPr>
        <p:blipFill>
          <a:blip r:embed="rId2"/>
          <a:stretch/>
        </p:blipFill>
        <p:spPr>
          <a:xfrm>
            <a:off x="-285840" y="0"/>
            <a:ext cx="985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5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7:43:48Z</dcterms:created>
  <dc:creator>test</dc:creator>
  <dc:description/>
  <dc:language>en-US</dc:language>
  <cp:lastModifiedBy>pk1</cp:lastModifiedBy>
  <dcterms:modified xsi:type="dcterms:W3CDTF">2013-11-20T10:37:57Z</dcterms:modified>
  <cp:revision>226</cp:revision>
  <dc:subject/>
  <dc:title>Ваше здоровье в ваших руках! </dc:title>
</cp:coreProperties>
</file>