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227-F2EC-4237-B1AA-C04F82EC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8F2-A4B8-4D39-BA4D-60A6790C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843D-AB50-4FEC-B8DB-F4D4B52C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780-616F-4216-A3D0-5D494574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6F15-11ED-49A2-8C1C-D9BB4170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5681-7550-46AD-99CE-ADEA951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CDE9-7F8D-44DE-95D3-1745409B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02F3-55F7-466F-BF56-ABBD07FA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51E-99CA-47D9-BF72-CA660E78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4E47-5C54-4F4F-A783-3CF7865C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E479-AD7C-4095-83E0-B369A32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F93E-4592-411E-843F-DBF1A603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3CEA-7308-4EE3-A230-85C19DA3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3861-F37B-4915-AA0C-1DB57C0C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DD65-5A60-4BFE-A969-340DA544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426-6E30-491B-A993-1DC60353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C2CD-DB3A-4AC4-B3EC-5FD936C2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E0C-6FAA-4363-89F9-BF6DFB6A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C30-E371-48A0-9F66-E056021C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811-4B17-4BA7-AFFC-97F04637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EFA-F6D4-41AE-88C7-347B042E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EA6-EC92-48C2-909B-F1C5ECE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73F-1FE8-4B3C-93C7-BD529D5D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863-F203-4F40-9BBE-B063ACC9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FA3F-EA94-47EE-8E23-FDFAA564203F}" type="datetime3">
              <a:rPr b="0" lang="ru-RU" sz="1200" spc="-1" strike="noStrike">
                <a:solidFill>
                  <a:srgbClr val="000000"/>
                </a:solidFill>
                <a:latin typeface="Verdana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5EEA-8948-42BC-BAF2-E5461C626C2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8666-190B-488A-BAA9-6F1B1A386DD4}" type="datetime3">
              <a:rPr b="0" lang="ru-RU" sz="1200" spc="-1" strike="noStrike">
                <a:solidFill>
                  <a:srgbClr val="eaeaea"/>
                </a:solidFill>
                <a:latin typeface="Verdana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8CB4-7B51-470D-BAB3-096807A128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E9E-9752-43BD-A773-CD569504884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WordArt 6"/>
          <p:cNvSpPr txBox="1"/>
          <p:nvPr/>
        </p:nvSpPr>
        <p:spPr>
          <a:xfrm>
            <a:off x="755640" y="404640"/>
            <a:ext cx="705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лосемен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6" name="Picture 8" descr="11"/>
          <p:cNvPicPr/>
          <p:nvPr/>
        </p:nvPicPr>
        <p:blipFill>
          <a:blip r:embed="rId1"/>
          <a:stretch/>
        </p:blipFill>
        <p:spPr>
          <a:xfrm>
            <a:off x="2124000" y="2708280"/>
            <a:ext cx="40323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748B-0D80-479B-A9E7-C0AD7F0E880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4EC0-FE82-4285-9A2F-E8C7D2A52CA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ипарис – дерево Средиземноморь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Picture 5" descr="Кипарис"/>
          <p:cNvPicPr/>
          <p:nvPr/>
        </p:nvPicPr>
        <p:blipFill>
          <a:blip r:embed="rId1"/>
          <a:stretch/>
        </p:blipFill>
        <p:spPr>
          <a:xfrm>
            <a:off x="3013200" y="1628640"/>
            <a:ext cx="331632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6510-D43E-4C30-982A-2834896740D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Там же растёт ту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74532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747F-2DBC-40DB-9684-F2156DD8A364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Можжевель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672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8847-C57A-4F2B-8C8F-F7E4D62496A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еквой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88824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B96E-4197-47F8-B785-DABB3825E04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риптомерия любима китайцами и японцам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5" descr="Криптомерия"/>
          <p:cNvPicPr/>
          <p:nvPr/>
        </p:nvPicPr>
        <p:blipFill>
          <a:blip r:embed="rId1"/>
          <a:stretch/>
        </p:blipFill>
        <p:spPr>
          <a:xfrm>
            <a:off x="1187280" y="1413000"/>
            <a:ext cx="67993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2848-3D17-4CE0-B70B-482BBED3C2B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Хвойные южного полушария. Араукар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Picture 5" descr="Араукария"/>
          <p:cNvPicPr/>
          <p:nvPr/>
        </p:nvPicPr>
        <p:blipFill>
          <a:blip r:embed="rId1"/>
          <a:stretch/>
        </p:blipFill>
        <p:spPr>
          <a:xfrm>
            <a:off x="2627280" y="1557360"/>
            <a:ext cx="38718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80E-E33D-4219-B8CA-F388E782EFF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ельвичия удивительная из пустыни Намиб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1" name="Picture 5" descr="Вельвичия"/>
          <p:cNvPicPr/>
          <p:nvPr/>
        </p:nvPicPr>
        <p:blipFill>
          <a:blip r:embed="rId1"/>
          <a:stretch/>
        </p:blipFill>
        <p:spPr>
          <a:xfrm>
            <a:off x="684360" y="1617840"/>
            <a:ext cx="752472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119A-82C3-4638-8610-35D512F9EA55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ана гнету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4" name="Picture 5" descr="Гнетум"/>
          <p:cNvPicPr/>
          <p:nvPr/>
        </p:nvPicPr>
        <p:blipFill>
          <a:blip r:embed="rId1"/>
          <a:stretch/>
        </p:blipFill>
        <p:spPr>
          <a:xfrm>
            <a:off x="1187280" y="1484280"/>
            <a:ext cx="66913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C82-7772-4703-AD7A-90E591B4A69E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аговни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Picture 5" descr="Саговник"/>
          <p:cNvPicPr/>
          <p:nvPr/>
        </p:nvPicPr>
        <p:blipFill>
          <a:blip r:embed="rId1"/>
          <a:stretch/>
        </p:blipFill>
        <p:spPr>
          <a:xfrm>
            <a:off x="755640" y="1341360"/>
            <a:ext cx="7543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BB5-08DB-47E0-83DA-355FE5632FB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275px-Med_Cypress"/>
          <p:cNvPicPr/>
          <p:nvPr/>
        </p:nvPicPr>
        <p:blipFill>
          <a:blip r:embed="rId1"/>
          <a:stretch/>
        </p:blipFill>
        <p:spPr>
          <a:xfrm>
            <a:off x="6588000" y="0"/>
            <a:ext cx="2792520" cy="387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82311"/>
          <p:cNvPicPr/>
          <p:nvPr/>
        </p:nvPicPr>
        <p:blipFill>
          <a:blip r:embed="rId2"/>
          <a:stretch/>
        </p:blipFill>
        <p:spPr>
          <a:xfrm>
            <a:off x="0" y="907920"/>
            <a:ext cx="6588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2D1-89E6-4E3E-85B1-55581863594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инкго двулопастной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5" descr="Гинкго"/>
          <p:cNvPicPr/>
          <p:nvPr/>
        </p:nvPicPr>
        <p:blipFill>
          <a:blip r:embed="rId1"/>
          <a:stretch/>
        </p:blipFill>
        <p:spPr>
          <a:xfrm>
            <a:off x="2700360" y="1268280"/>
            <a:ext cx="401940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F3D-15F2-4937-9FE7-38CE1796542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Лабораторная работа № 9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троение мужских и женских шишек, пыльцы, семян сосны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4" descr="сх строения шишки"/>
          <p:cNvPicPr/>
          <p:nvPr/>
        </p:nvPicPr>
        <p:blipFill>
          <a:blip r:embed="rId1"/>
          <a:stretch/>
        </p:blipFill>
        <p:spPr>
          <a:xfrm>
            <a:off x="2340000" y="2060640"/>
            <a:ext cx="53276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F0F-C64F-41D8-A1EF-29BB28155E2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651280" y="259920"/>
            <a:ext cx="3492360" cy="6597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осна обыкновенная: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1 — охвоенная ветвь с женской шишечкой, мужскими колосками, двумя шишечкам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прошлого года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и раскрытой шишкой; 2 — мужской колосок; 3 — пыльца; 4 — женская шишечка; 8 — семенная чешуя с двумя семяпочками; 6 — семенная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кроющая чешуи сверху; 7 — две хвоинки и их разрез; 8 — всход; 9 — семя с крылышком и без него; 10 — семенная чешуя с двумя семенами и она же сверху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BC6E-6A02-4EA9-9743-5BA8A463D71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4" descr="цикл голосем"/>
          <p:cNvPicPr/>
          <p:nvPr/>
        </p:nvPicPr>
        <p:blipFill>
          <a:blip r:embed="rId1"/>
          <a:stretch/>
        </p:blipFill>
        <p:spPr>
          <a:xfrm>
            <a:off x="0" y="0"/>
            <a:ext cx="91440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32AA-3468-4B75-A3B7-1160A26144F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1912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оссворд "Названия хвойных растений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писать названия хвойных растений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.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ерево с вечнозеленой хвое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2. Дерево с твердой древесино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3. Дерево семейства сосновых, распространенное в Сибир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4. Распространенное хвойное дерево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5. Крупное дерево семейства сосновых, распространенное в тайг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6. Дерево с густой пирамидальной кроной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7. Исполин растительного мира, сохранился только в Калифорнии. Высота некоторых деревьев достигает 150 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8. Дерево семейства араукариевы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9. Род древесных растений семейства кипарисовых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0. Кустарник семейства кипарисовы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2D4A-2FB1-4FAB-8872-85DAD00E18D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6" name="Picture 4" descr="хвойны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0D2E-4E37-4217-B72C-91D005405B4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Picture 4" descr="гол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86E6-76B7-4D6E-B973-26275A0A017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043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Жизненные формы голосеменных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Хвойные широко распространены на Земле. Среди хвойных нет травянистых растений, а только кустарники и деревья и лианы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5" descr="Tablitsa голос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4FAF-0C81-47CD-BE50-750CA18208E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пространение хвойных растений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Известно более 700 видов хвойных растений, они объединяются в 68 родов, 12 семейств, 10 порядков, 4 класс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ибольшие площади заняты сосновыми борами и еловыми лесами (25% и 17% соответственно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ространены по всему земному шар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3FE5-FBA4-43AE-B0D8-3D4298AEA70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федра – низкорослый кустарниче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5" descr="Эфедра"/>
          <p:cNvPicPr/>
          <p:nvPr/>
        </p:nvPicPr>
        <p:blipFill>
          <a:blip r:embed="rId1"/>
          <a:stretch/>
        </p:blipFill>
        <p:spPr>
          <a:xfrm>
            <a:off x="1187280" y="1484280"/>
            <a:ext cx="65977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128B-69F2-447C-B6DA-0491CCB447EA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аиболее распространены в Росси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6" descr="Ель"/>
          <p:cNvPicPr/>
          <p:nvPr/>
        </p:nvPicPr>
        <p:blipFill>
          <a:blip r:embed="rId1"/>
          <a:stretch/>
        </p:blipFill>
        <p:spPr>
          <a:xfrm>
            <a:off x="755640" y="1557360"/>
            <a:ext cx="3535200" cy="44784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2207880" y="61657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л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10" descr="Сосна №2"/>
          <p:cNvPicPr/>
          <p:nvPr/>
        </p:nvPicPr>
        <p:blipFill>
          <a:blip r:embed="rId2"/>
          <a:stretch/>
        </p:blipFill>
        <p:spPr>
          <a:xfrm>
            <a:off x="5076720" y="1557360"/>
            <a:ext cx="3089520" cy="45306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1"/>
          <p:cNvSpPr/>
          <p:nvPr/>
        </p:nvSpPr>
        <p:spPr>
          <a:xfrm>
            <a:off x="6247080" y="61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н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F7DA-33B7-47A1-936B-F3EE0021C84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ихта и сосна сибирска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Picture 6" descr="Пихта"/>
          <p:cNvPicPr/>
          <p:nvPr/>
        </p:nvPicPr>
        <p:blipFill>
          <a:blip r:embed="rId1"/>
          <a:stretch/>
        </p:blipFill>
        <p:spPr>
          <a:xfrm>
            <a:off x="468360" y="1268280"/>
            <a:ext cx="3562200" cy="5222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33080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F92-892C-4728-A51D-B93E0D6AA87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Лиственница сибирская и даурска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8" descr="Лиственница даурская"/>
          <p:cNvPicPr/>
          <p:nvPr/>
        </p:nvPicPr>
        <p:blipFill>
          <a:blip r:embed="rId1"/>
          <a:stretch/>
        </p:blipFill>
        <p:spPr>
          <a:xfrm>
            <a:off x="5508720" y="1700280"/>
            <a:ext cx="3209760" cy="4340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Сибирская лиственница"/>
          <p:cNvPicPr/>
          <p:nvPr/>
        </p:nvPicPr>
        <p:blipFill>
          <a:blip r:embed="rId2"/>
          <a:stretch/>
        </p:blipFill>
        <p:spPr>
          <a:xfrm>
            <a:off x="468360" y="2205000"/>
            <a:ext cx="4722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1:34:38Z</dcterms:created>
  <dc:creator>user</dc:creator>
  <dc:description/>
  <dc:language>en-US</dc:language>
  <cp:lastModifiedBy>Сергей</cp:lastModifiedBy>
  <dcterms:modified xsi:type="dcterms:W3CDTF">2014-03-30T15:38:14Z</dcterms:modified>
  <cp:revision>14</cp:revision>
  <dc:subject/>
  <dc:title>Голосеменные</dc:title>
</cp:coreProperties>
</file>