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image8.jpeg" ContentType="image/jpeg"/>
  <Override PartName="/ppt/media/image4.png" ContentType="image/png"/>
  <Override PartName="/ppt/media/image24.png" ContentType="image/png"/>
  <Override PartName="/ppt/media/image23.png" ContentType="image/png"/>
  <Override PartName="/ppt/media/image18.jpeg" ContentType="image/jpeg"/>
  <Override PartName="/ppt/media/image21.wmf" ContentType="image/x-wmf"/>
  <Override PartName="/ppt/media/image17.wmf" ContentType="image/x-wmf"/>
  <Override PartName="/ppt/media/image16.wmf" ContentType="image/x-wmf"/>
  <Override PartName="/ppt/media/image14.jpeg" ContentType="image/jpeg"/>
  <Override PartName="/ppt/media/image3.png" ContentType="image/png"/>
  <Override PartName="/ppt/media/image26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2.png" ContentType="image/pn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882F-45A4-4B21-A860-10F6470C2C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13D8-36B1-4AD7-9265-86F601FDA2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AFB8-257F-460A-878E-2B248E8914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7446-2E6E-4D8B-9D8C-3462245759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1E5E-D59B-433B-9161-541E6C51DA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F447-D19D-45F5-957E-D88DE0B0C25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64F4-C2CC-44E5-A72D-6B99DE57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551-E710-421F-B745-94EEB80D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ED9-CB5D-481F-B36C-1DC08908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8210-E517-4B01-8515-F62A4CB4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FA0F-CA2D-40A3-9B7F-959F9895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F3A3-999C-4A30-BAF0-AB4E4AFD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E2B4-486D-4FB5-B696-D7D79D8D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0513-0517-4BD2-8481-57FAF148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C1F1-A7C0-48E6-8C77-B47471FB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356E-2B83-43FD-93F1-1C0E723E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24CE-35F7-4B6E-8FBB-86BD129A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C91F-D202-4318-A386-849F987C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228C-43B9-4FA0-A956-7F5C8160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AE1A-23B0-4C10-8F29-8B7C7DEF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6704-BFA8-4517-BA11-C68A90A0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9E66-CED1-4940-8106-086EC880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4E60-28B6-4C90-B43C-7EA53732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8C01E-4150-45EB-B83A-C65D0E43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B807A-2704-41F8-AE8D-170CB0FD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B25EF-6610-41F0-8BD4-96EAC3B9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9F099-3ACE-4FE2-A36A-87E133DB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18EE9-27D1-44AD-A916-16B4758E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6DE7-3493-4255-B657-6784F029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80E86-F5AF-46F6-999B-437384CB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956D4-49C4-4B0B-B029-4CFE112F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D7C3F-8BED-41DD-9C86-21102626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61FF1-8807-40AF-B139-4FD859C6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E290D-B0A4-4B2A-9CA3-0010402E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647CC-CAC1-46BD-AA6E-56D576E1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3D0B4-BE96-498F-A9DF-DC5ECE67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E2747-48AA-4212-8A8D-0811CD02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AC520-D063-4205-AD1E-5B34E357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C11B6-EACE-4102-973C-7C92E42F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17D-A1B1-4ADF-B3BB-D9A7518D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EC103-C8E3-4D4E-BAFF-8FFCAF4E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EB01B-A7EE-4BD3-85CD-F9830621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4B658-8078-48E3-8531-A669CE5F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7EFE6-5830-4B3F-8FF0-9B553FD0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B11F7-7DD9-4EFD-ABC0-8F63BA02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884CD-C992-4945-BCEB-E59DE4BB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0C77B-F322-4928-A18E-23E60B35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B6B9D-1C49-47FB-976D-36B7F360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19DC6-889F-43C0-AB19-9F61C868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E1EA0-4A6B-4BFD-BC2E-3B032BC6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44E-C7F0-4058-979B-B1C1C8C8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335DC-4964-4777-B458-BF4F875B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BD04B-0B04-4A3B-A0E0-C604E888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4EF40-0B30-4A13-8428-6A9D7758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AB5B7-2B7A-473F-86F5-AB9C5CF9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D8FFC-47B9-4423-B3B0-E44FDC93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217C0-26B5-4D6A-953C-E7557E16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2E6F2-2815-4D58-A707-59FD23A3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9E351-5AB9-48AC-95BF-173A419E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2A89F-7610-4715-8518-5C0E09D5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5EDCC-6BAC-4C83-9380-BF07D85C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3695-9BE9-47FA-B3CB-6D76F1D7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669BA-3C29-4806-BDDD-E9551488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CC16D-2911-4BAD-B491-A3DD7BA2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F431E-1732-4D1B-8AB4-5EFFF926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C5F4C-2960-4710-B694-A315BC4A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292F9-DD16-41FA-ABE5-53AEEC01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4848A-E141-46CE-9C2F-608FFA0E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982A5-51B8-44A8-98D3-AD45C6F7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AF8D3-86F6-4B4D-9453-3340F82A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9A8EB-CDAE-4B62-9B21-70D3F7AF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4237F-E256-4A0D-A85D-173B88F1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404-B1D1-43F6-A917-BA49CFA0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540BC-0168-40BA-830F-2A89C6F2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4EFC6-FFE0-4201-B3C6-6767FF2D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AEAA3-540F-4C82-8465-BBC6376F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412B8-E8F8-49CE-BD2A-93CC0C9D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767C1-F8E9-4334-981F-D240341F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BCCD3-A143-4DF3-AF91-6FF9182F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E30CC-5F4B-43E0-9565-697FFB49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8C638-7C65-472B-A684-ACB7F543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9AE54-F688-48A9-BA53-4DB5E5CF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7DA1E-909F-400D-BCA2-0976CABB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F66-F783-4AFC-932A-BABB1019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E2FB2-61FB-4243-A2EA-987AFAD3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6E2AD-968D-40C7-9D95-9D045ECE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226EA-0403-41F9-A217-4502BE61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C497A-1A99-437F-A3CD-00B8E42E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B8D07-21C7-4726-B250-9A9E0014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F28B-126E-4311-B66F-ADB33240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F061-B051-41D8-9DE8-62973142D81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E8B2-E50A-41D8-9D72-400ADFDDA3C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D4D0-89FD-4D60-AD01-FA2FC2A0991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260A-4CF9-4BA4-92CF-9232CDD1BD1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04FD-D2CF-4184-80CC-A893AF24DE0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CD57-65F3-4FBF-8D9C-ECCDCBBF307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C312-DCD6-4202-8EC5-DC89BA8FCAD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1"/>
          <p:cNvSpPr/>
          <p:nvPr/>
        </p:nvSpPr>
        <p:spPr>
          <a:xfrm>
            <a:off x="1692360" y="378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ная работа.                   </a:t>
            </a:r>
            <a:fld id="{296B29BF-1AF3-45D4-B71B-845A34F11852}" type="datetime">
              <a:rPr b="1" lang="ru-RU" sz="2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3" descr="C:\Users\Наталья\AppData\Local\Microsoft\Windows\Temporary Internet Files\Content.IE5\JSIFA0ZQ\MP900390099[1].jpg"/>
          <p:cNvPicPr/>
          <p:nvPr/>
        </p:nvPicPr>
        <p:blipFill>
          <a:blip r:embed="rId1"/>
          <a:stretch/>
        </p:blipFill>
        <p:spPr>
          <a:xfrm>
            <a:off x="-469800" y="0"/>
            <a:ext cx="96138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68320" y="476280"/>
            <a:ext cx="7407360" cy="20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и </a:t>
            </a:r>
            <a:r>
              <a:rPr b="1" lang="ru-RU" sz="3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= х</a:t>
            </a:r>
            <a:r>
              <a:rPr b="1" lang="ru-RU" sz="39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 </a:t>
            </a:r>
            <a:r>
              <a:rPr b="1" i="1" lang="ru-RU" sz="3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 є N), их свойства и графики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0" y="1916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mic Sans MS"/>
              </a:rPr>
              <a:t>ОПРЕДЕЛ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Функцию вида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 = х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, где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n = 1, 2, 3, 4, 5, .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, называют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степенной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функцией с натуральным показателем.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3" name="Picture 5" descr="C:\Users\Наталья\AppData\Local\Microsoft\Windows\Temporary Internet Files\Content.IE5\BP2O38FR\MC900233295[2].wmf"/>
          <p:cNvPicPr/>
          <p:nvPr/>
        </p:nvPicPr>
        <p:blipFill>
          <a:blip r:embed="rId1"/>
          <a:stretch/>
        </p:blipFill>
        <p:spPr>
          <a:xfrm>
            <a:off x="6316560" y="4292640"/>
            <a:ext cx="25686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речислите свойства данных функций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х</a:t>
            </a:r>
            <a:r>
              <a:rPr b="0" lang="ru-RU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х</a:t>
            </a:r>
            <a:r>
              <a:rPr b="0" lang="ru-RU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6" name="Picture 4" descr="C:\Users\Наталья\AppData\Local\Microsoft\Windows\Temporary Internet Files\Content.IE5\54H8SHBE\MC900290652[1].wmf"/>
          <p:cNvPicPr/>
          <p:nvPr/>
        </p:nvPicPr>
        <p:blipFill>
          <a:blip r:embed="rId1"/>
          <a:stretch/>
        </p:blipFill>
        <p:spPr>
          <a:xfrm>
            <a:off x="6408720" y="4292640"/>
            <a:ext cx="24703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 = х</a:t>
            </a:r>
            <a:r>
              <a:rPr b="1" lang="ru-RU" sz="6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м таблицу значений для этой функци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971640" y="2852640"/>
          <a:ext cx="7920000" cy="1524240"/>
        </p:xfrm>
        <a:graphic>
          <a:graphicData uri="http://schemas.openxmlformats.org/drawingml/2006/table">
            <a:tbl>
              <a:tblPr/>
              <a:tblGrid>
                <a:gridCol w="1319040"/>
                <a:gridCol w="768600"/>
                <a:gridCol w="1223640"/>
                <a:gridCol w="1656000"/>
                <a:gridCol w="1008000"/>
                <a:gridCol w="1944720"/>
              </a:tblGrid>
              <a:tr h="764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/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0" name="Picture 27" descr="C:\Users\Наталья\AppData\Local\Microsoft\Windows\Temporary Internet Files\Content.IE5\BP2O38FR\MC900213231[1].wmf"/>
          <p:cNvPicPr/>
          <p:nvPr/>
        </p:nvPicPr>
        <p:blipFill>
          <a:blip r:embed="rId1"/>
          <a:stretch/>
        </p:blipFill>
        <p:spPr>
          <a:xfrm>
            <a:off x="7020000" y="4869000"/>
            <a:ext cx="18223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 = х</a:t>
            </a:r>
            <a:r>
              <a:rPr b="1" lang="ru-RU" sz="6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м точки  на координатной плоск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намечают некоторую линию, проведем е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3" name="Рисунок 4" descr="Al9124.jpg"/>
          <p:cNvPicPr/>
          <p:nvPr/>
        </p:nvPicPr>
        <p:blipFill>
          <a:blip r:embed="rId1"/>
          <a:stretch/>
        </p:blipFill>
        <p:spPr>
          <a:xfrm>
            <a:off x="1476360" y="2708280"/>
            <a:ext cx="50799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 = х</a:t>
            </a:r>
            <a:r>
              <a:rPr b="1" lang="ru-RU" sz="43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5" name="Рисунок 5" descr="Al9125.jpg"/>
          <p:cNvPicPr/>
          <p:nvPr/>
        </p:nvPicPr>
        <p:blipFill>
          <a:blip r:embed="rId1"/>
          <a:stretch/>
        </p:blipFill>
        <p:spPr>
          <a:xfrm>
            <a:off x="1116000" y="1557360"/>
            <a:ext cx="68738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46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войства функции у = х</a:t>
            </a:r>
            <a:r>
              <a:rPr b="0" lang="ru-RU" sz="5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(у) = (-∞,+∞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ная функц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ывает(-∞, 0], возрастает [0; +∞) 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а снизу, не ограничена сверх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им.= 0, У наиб. нет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(у) = [0, +∞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кла вниз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 = х</a:t>
            </a:r>
            <a:r>
              <a:rPr b="1" lang="ru-RU" sz="5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м таблицу значений для этой функци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971640" y="2852640"/>
          <a:ext cx="7920000" cy="1524240"/>
        </p:xfrm>
        <a:graphic>
          <a:graphicData uri="http://schemas.openxmlformats.org/drawingml/2006/table">
            <a:tbl>
              <a:tblPr/>
              <a:tblGrid>
                <a:gridCol w="1319040"/>
                <a:gridCol w="768600"/>
                <a:gridCol w="1223640"/>
                <a:gridCol w="1656000"/>
                <a:gridCol w="1008000"/>
                <a:gridCol w="1944720"/>
              </a:tblGrid>
              <a:tr h="764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/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1" name="Picture 27" descr="C:\Users\Наталья\AppData\Local\Microsoft\Windows\Temporary Internet Files\Content.IE5\BP2O38FR\MC900213231[1].wmf"/>
          <p:cNvPicPr/>
          <p:nvPr/>
        </p:nvPicPr>
        <p:blipFill>
          <a:blip r:embed="rId1"/>
          <a:stretch/>
        </p:blipFill>
        <p:spPr>
          <a:xfrm>
            <a:off x="7020000" y="4869000"/>
            <a:ext cx="18223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 = х</a:t>
            </a:r>
            <a:r>
              <a:rPr b="1" lang="ru-RU" sz="5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3" name="Рисунок 14" descr="Al91214.jpg"/>
          <p:cNvPicPr/>
          <p:nvPr/>
        </p:nvPicPr>
        <p:blipFill>
          <a:blip r:embed="rId1"/>
          <a:stretch/>
        </p:blipFill>
        <p:spPr>
          <a:xfrm>
            <a:off x="2627280" y="1341360"/>
            <a:ext cx="36752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войства функции у = х</a:t>
            </a:r>
            <a:r>
              <a:rPr b="1" lang="ru-RU" sz="49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ru-RU" sz="4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4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(у) = (-∞,+∞)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четная функция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ет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граничена ни снизу, ни сверху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ни наименьшего, ни наибольшего значений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(у) = (-∞, +∞)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кла вверх при х &lt; 0, выпукла вниз при х &gt; 0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285840" y="39816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становите соответствие между графиками функций и формулами, задающими эти фун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Рисунок 3" descr="Изображение 050"/>
          <p:cNvPicPr/>
          <p:nvPr/>
        </p:nvPicPr>
        <p:blipFill>
          <a:blip r:embed="rId1"/>
          <a:stretch/>
        </p:blipFill>
        <p:spPr>
          <a:xfrm>
            <a:off x="214200" y="1714680"/>
            <a:ext cx="8469360" cy="271440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>
            <a:off x="357120" y="57150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 у = 2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2143080" y="578628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-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-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7"/>
          <p:cNvSpPr/>
          <p:nvPr/>
        </p:nvSpPr>
        <p:spPr>
          <a:xfrm>
            <a:off x="4357800" y="57150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у = -2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9"/>
          <p:cNvSpPr/>
          <p:nvPr/>
        </p:nvSpPr>
        <p:spPr>
          <a:xfrm>
            <a:off x="6429240" y="5715000"/>
            <a:ext cx="21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 у = 2х -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8"/>
          <p:cNvSpPr/>
          <p:nvPr/>
        </p:nvSpPr>
        <p:spPr>
          <a:xfrm>
            <a:off x="2070000" y="5544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шение упражн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46 -0.01434 L 0.46962 -0.26619 E">
                                      <p:cBhvr>
                                        <p:cTn id="6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82 -0.03539 L 0.47899 -0.26619 E">
                                      <p:cBhvr>
                                        <p:cTn id="10" dur="1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-0.03538 L -0.2158 -0.26619 E">
                                      <p:cBhvr>
                                        <p:cTn id="14" dur="1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90379E-006 L -0.67726 -0.26226 E">
                                      <p:cBhvr>
                                        <p:cTn id="18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мер 1.</a:t>
            </a:r>
            <a:r>
              <a:rPr b="0" lang="ru-RU" sz="3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Решить уравнение:  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3 - 2х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8" name="Picture 5" descr="C:\Users\Наталья\AppData\Local\Microsoft\Windows\Temporary Internet Files\Content.IE5\BP2O38FR\MC900233964[1].wmf"/>
          <p:cNvPicPr/>
          <p:nvPr/>
        </p:nvPicPr>
        <p:blipFill>
          <a:blip r:embed="rId1"/>
          <a:stretch/>
        </p:blipFill>
        <p:spPr>
          <a:xfrm>
            <a:off x="4067280" y="3500280"/>
            <a:ext cx="25365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15" descr="Al91215.jpg"/>
          <p:cNvPicPr/>
          <p:nvPr/>
        </p:nvPicPr>
        <p:blipFill>
          <a:blip r:embed="rId1"/>
          <a:stretch/>
        </p:blipFill>
        <p:spPr>
          <a:xfrm>
            <a:off x="1835280" y="284040"/>
            <a:ext cx="59054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1476360" y="18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rcRect l="60192" t="12811" r="19958" b="73490"/>
          <a:stretch/>
        </p:blipFill>
        <p:spPr>
          <a:xfrm>
            <a:off x="1619280" y="981000"/>
            <a:ext cx="6791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"/>
          <p:cNvPicPr/>
          <p:nvPr/>
        </p:nvPicPr>
        <p:blipFill>
          <a:blip r:embed="rId1"/>
          <a:srcRect l="17454" t="12903" r="2027" b="6162"/>
          <a:stretch/>
        </p:blipFill>
        <p:spPr>
          <a:xfrm>
            <a:off x="539640" y="1484280"/>
            <a:ext cx="8496360" cy="51386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2"/>
          <a:srcRect l="60192" t="15549" r="33957" b="78971"/>
          <a:stretch/>
        </p:blipFill>
        <p:spPr>
          <a:xfrm>
            <a:off x="1403280" y="422280"/>
            <a:ext cx="20019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"/>
          <p:cNvPicPr/>
          <p:nvPr/>
        </p:nvPicPr>
        <p:blipFill>
          <a:blip r:embed="rId1"/>
          <a:srcRect l="60192" t="21038" r="33681" b="73490"/>
          <a:stretch/>
        </p:blipFill>
        <p:spPr>
          <a:xfrm>
            <a:off x="890640" y="260280"/>
            <a:ext cx="2097000" cy="1008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"/>
          <p:cNvPicPr/>
          <p:nvPr/>
        </p:nvPicPr>
        <p:blipFill>
          <a:blip r:embed="rId2"/>
          <a:srcRect l="17183" t="14424" r="1791" b="4830"/>
          <a:stretch/>
        </p:blipFill>
        <p:spPr>
          <a:xfrm>
            <a:off x="890640" y="1268280"/>
            <a:ext cx="799128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"/>
          <p:cNvPicPr/>
          <p:nvPr/>
        </p:nvPicPr>
        <p:blipFill>
          <a:blip r:embed="rId1"/>
          <a:srcRect l="68993" t="14837" r="19958" b="79327"/>
          <a:stretch/>
        </p:blipFill>
        <p:spPr>
          <a:xfrm>
            <a:off x="971640" y="1557360"/>
            <a:ext cx="3779640" cy="10731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"/>
          <p:cNvPicPr/>
          <p:nvPr/>
        </p:nvPicPr>
        <p:blipFill>
          <a:blip r:embed="rId2"/>
          <a:srcRect l="68993" t="20673" r="19958" b="73490"/>
          <a:stretch/>
        </p:blipFill>
        <p:spPr>
          <a:xfrm>
            <a:off x="5219640" y="1633680"/>
            <a:ext cx="3780000" cy="1073160"/>
          </a:xfrm>
          <a:prstGeom prst="rect">
            <a:avLst/>
          </a:prstGeom>
          <a:ln w="0">
            <a:noFill/>
          </a:ln>
        </p:spPr>
      </p:pic>
      <p:sp>
        <p:nvSpPr>
          <p:cNvPr id="418" name="TextBox 4"/>
          <p:cNvSpPr/>
          <p:nvPr/>
        </p:nvSpPr>
        <p:spPr>
          <a:xfrm>
            <a:off x="971640" y="98100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вариант                                                        2 вариа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1"/>
          <a:srcRect l="32601" t="48053" r="32143" b="9475"/>
          <a:stretch/>
        </p:blipFill>
        <p:spPr>
          <a:xfrm>
            <a:off x="1547640" y="2133720"/>
            <a:ext cx="6193080" cy="4010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"/>
          <p:cNvPicPr/>
          <p:nvPr/>
        </p:nvPicPr>
        <p:blipFill>
          <a:blip r:embed="rId2"/>
          <a:srcRect l="32601" t="21772" r="17804" b="68744"/>
          <a:stretch/>
        </p:blipFill>
        <p:spPr>
          <a:xfrm>
            <a:off x="395280" y="631800"/>
            <a:ext cx="84027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214200" y="45360"/>
            <a:ext cx="892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а рисунке изображены графики функций в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е соответствие между графиками и знаками коэффициента k и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6" descr="Изображение 049"/>
          <p:cNvPicPr/>
          <p:nvPr/>
        </p:nvPicPr>
        <p:blipFill>
          <a:blip r:embed="rId1"/>
          <a:stretch/>
        </p:blipFill>
        <p:spPr>
          <a:xfrm>
            <a:off x="0" y="2082960"/>
            <a:ext cx="9144000" cy="2846160"/>
          </a:xfrm>
          <a:prstGeom prst="rect">
            <a:avLst/>
          </a:prstGeom>
          <a:ln w="0">
            <a:noFill/>
          </a:ln>
        </p:spPr>
      </p:pic>
      <p:sp>
        <p:nvSpPr>
          <p:cNvPr id="335" name="TextBox 4"/>
          <p:cNvSpPr/>
          <p:nvPr/>
        </p:nvSpPr>
        <p:spPr>
          <a:xfrm>
            <a:off x="214200" y="5715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5"/>
          <p:cNvSpPr/>
          <p:nvPr/>
        </p:nvSpPr>
        <p:spPr>
          <a:xfrm>
            <a:off x="3071880" y="571500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7"/>
          <p:cNvSpPr/>
          <p:nvPr/>
        </p:nvSpPr>
        <p:spPr>
          <a:xfrm>
            <a:off x="6513480" y="5715000"/>
            <a:ext cx="200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0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44 -0.02498 L 0.67448 -0.19288 E">
                                      <p:cBhvr>
                                        <p:cTn id="24" dur="1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-0.01434 L -0.32708 -0.20328 E">
                                      <p:cBhvr>
                                        <p:cTn id="28" dur="1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1041 L -0.26667 -0.19288 E">
                                      <p:cBhvr>
                                        <p:cTn id="32" dur="1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14200" y="442440"/>
            <a:ext cx="8643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График, какой функции изображён 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Рисунок 9" descr="Изображение 049"/>
          <p:cNvPicPr/>
          <p:nvPr/>
        </p:nvPicPr>
        <p:blipFill>
          <a:blip r:embed="rId1"/>
          <a:stretch/>
        </p:blipFill>
        <p:spPr>
          <a:xfrm>
            <a:off x="2297160" y="1714680"/>
            <a:ext cx="3632040" cy="331452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5"/>
          <p:cNvSpPr/>
          <p:nvPr/>
        </p:nvSpPr>
        <p:spPr>
          <a:xfrm>
            <a:off x="156600" y="571500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y = 2x +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6"/>
          <p:cNvSpPr/>
          <p:nvPr/>
        </p:nvSpPr>
        <p:spPr>
          <a:xfrm>
            <a:off x="2228040" y="5715000"/>
            <a:ext cx="22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y = -2x +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7"/>
          <p:cNvSpPr/>
          <p:nvPr/>
        </p:nvSpPr>
        <p:spPr>
          <a:xfrm>
            <a:off x="4377960" y="5715000"/>
            <a:ext cx="20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y =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8"/>
          <p:cNvSpPr/>
          <p:nvPr/>
        </p:nvSpPr>
        <p:spPr>
          <a:xfrm>
            <a:off x="6275160" y="5715000"/>
            <a:ext cx="21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Y = -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33 -0.04579 L 0.26944 -0.20328 E">
                                      <p:cBhvr>
                                        <p:cTn id="38" dur="1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214200" y="331560"/>
            <a:ext cx="87868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ая из следующих прямых отсутствует на рису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Рисунок 12" descr="Изображение 050"/>
          <p:cNvPicPr/>
          <p:nvPr/>
        </p:nvPicPr>
        <p:blipFill>
          <a:blip r:embed="rId1"/>
          <a:stretch/>
        </p:blipFill>
        <p:spPr>
          <a:xfrm>
            <a:off x="2214720" y="1511280"/>
            <a:ext cx="4214520" cy="342108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4"/>
          <p:cNvSpPr/>
          <p:nvPr/>
        </p:nvSpPr>
        <p:spPr>
          <a:xfrm>
            <a:off x="720" y="521496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y = 2x + 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5"/>
          <p:cNvSpPr/>
          <p:nvPr/>
        </p:nvSpPr>
        <p:spPr>
          <a:xfrm>
            <a:off x="2226600" y="5143680"/>
            <a:ext cx="21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y = 2x –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6"/>
          <p:cNvSpPr/>
          <p:nvPr/>
        </p:nvSpPr>
        <p:spPr>
          <a:xfrm>
            <a:off x="4371120" y="5143680"/>
            <a:ext cx="22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y = -2x +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7"/>
          <p:cNvSpPr/>
          <p:nvPr/>
        </p:nvSpPr>
        <p:spPr>
          <a:xfrm>
            <a:off x="6636600" y="5143680"/>
            <a:ext cx="21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y = -2x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55008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75a8d"/>
                </a:solidFill>
                <a:latin typeface="Corbel"/>
              </a:rPr>
              <a:t>Найди ошибк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Picture 2" descr="H:\Documents and Settings\Пользователь\Рабочий стол\Анимашки\Коллекция картинок (Microsoft)\j0232133.wmf"/>
          <p:cNvPicPr/>
          <p:nvPr/>
        </p:nvPicPr>
        <p:blipFill>
          <a:blip r:embed="rId1"/>
          <a:stretch/>
        </p:blipFill>
        <p:spPr>
          <a:xfrm>
            <a:off x="7072200" y="65160"/>
            <a:ext cx="1857600" cy="19047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8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7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9"/>
          <p:cNvSpPr/>
          <p:nvPr/>
        </p:nvSpPr>
        <p:spPr>
          <a:xfrm>
            <a:off x="0" y="0"/>
            <a:ext cx="9144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0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35"/>
          <p:cNvSpPr/>
          <p:nvPr/>
        </p:nvSpPr>
        <p:spPr>
          <a:xfrm>
            <a:off x="0" y="64296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Функция, заданная формулой у = 2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линей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37"/>
          <p:cNvSpPr/>
          <p:nvPr/>
        </p:nvSpPr>
        <p:spPr>
          <a:xfrm>
            <a:off x="142920" y="157176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очка А(2;6) принадлежит графику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5х -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38"/>
          <p:cNvSpPr/>
          <p:nvPr/>
        </p:nvSpPr>
        <p:spPr>
          <a:xfrm>
            <a:off x="0" y="2357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Линейная функция задана формулой у = -3х -2  и если х = 4, то у = 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39"/>
          <p:cNvSpPr/>
          <p:nvPr/>
        </p:nvSpPr>
        <p:spPr>
          <a:xfrm>
            <a:off x="0" y="3357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График функции  у = 1,2х – 7 проходит через точку А(0;-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41"/>
          <p:cNvSpPr/>
          <p:nvPr/>
        </p:nvSpPr>
        <p:spPr>
          <a:xfrm>
            <a:off x="0" y="4143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График функции у = 6х проходит через начало отсчё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43"/>
          <p:cNvSpPr/>
          <p:nvPr/>
        </p:nvSpPr>
        <p:spPr>
          <a:xfrm>
            <a:off x="71280" y="5013360"/>
            <a:ext cx="900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бласть определения функции у=2х + 4 все числа, кроме -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"/>
          <p:cNvPicPr/>
          <p:nvPr/>
        </p:nvPicPr>
        <p:blipFill>
          <a:blip r:embed="rId2"/>
          <a:srcRect l="31170" t="38903" r="27966" b="13176"/>
          <a:stretch/>
        </p:blipFill>
        <p:spPr>
          <a:xfrm>
            <a:off x="324000" y="404640"/>
            <a:ext cx="86817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"/>
          <p:cNvPicPr/>
          <p:nvPr/>
        </p:nvPicPr>
        <p:blipFill>
          <a:blip r:embed="rId2"/>
          <a:srcRect l="31349" t="38868" r="26575" b="22031"/>
          <a:stretch/>
        </p:blipFill>
        <p:spPr>
          <a:xfrm>
            <a:off x="108000" y="981000"/>
            <a:ext cx="8937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Опишите по графику свойства функци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rcRect l="50001" t="40846" r="34222" b="27551"/>
          <a:stretch/>
        </p:blipFill>
        <p:spPr>
          <a:xfrm>
            <a:off x="2411280" y="1268280"/>
            <a:ext cx="48247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2:14:22Z</dcterms:created>
  <dc:creator>Наталья</dc:creator>
  <dc:description/>
  <dc:language>en-US</dc:language>
  <cp:lastModifiedBy>Admin</cp:lastModifiedBy>
  <dcterms:modified xsi:type="dcterms:W3CDTF">2015-01-15T17:34:40Z</dcterms:modified>
  <cp:revision>28</cp:revision>
  <dc:subject/>
  <dc:title>Функции у = хn (n є N), их свойства и графики </dc:title>
</cp:coreProperties>
</file>