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3.jpeg" ContentType="image/jpeg"/>
  <Override PartName="/ppt/media/image30.jpeg" ContentType="image/jpeg"/>
  <Override PartName="/ppt/media/image24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355-1FD8-48D5-AE76-4CABD9918E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E50-9453-4121-8A95-F879990C785F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46E-1CBD-468F-8822-315C924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09B-8797-4C0A-BB64-07AE1ED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2DC-F12E-4D16-9AEF-D4CB976F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10B-52D6-49AD-9474-884C5CF4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D01-8199-41A4-85F7-5AE129A8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B199-5A30-404D-BF7B-71E957A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0859-5DDE-4DF5-A65B-7B6E99D0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C253-4D56-4B95-8144-A72AA103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80DF-FA20-40DA-995B-F9C785B1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4FA6-7AF7-42C9-8347-47A6F56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2E9-2FF8-4FCA-AF7F-7C629C1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914-77F6-4DB2-9A4E-427A4BF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CD84-FBD2-4DC7-B935-740FC64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ABA0-8024-418D-BEA7-19C2E37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5526-E7EC-4C44-B5DF-EDDD55DF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9049-F613-438F-8668-88B6EE9C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6D0E-8302-4387-9F35-D195AF19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2B0-6F6B-4B4E-AA06-A033CB2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644-08C6-4FD0-9AFA-8383CD9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A8F-04D4-4A35-80CE-2AD868F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B94-7D50-451E-B120-801DF11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FD3-19A1-491E-B515-138B6FD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8E9-1719-484B-8E73-01A33BC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A49-8D7C-4DBF-BD5A-814FA66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879C-2209-4F55-9ED4-80FC56A561E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3C1-79A6-4B59-AA6A-62F61560380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00080" y="428760"/>
            <a:ext cx="7561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Century Gothic"/>
              </a:rPr>
              <a:t>Районный конкурс уроков биологии, химии, географи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Основные закономерности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существования живого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0200" y="4666680"/>
            <a:ext cx="610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Автора: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олосач Татьяна Николаевна,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биологи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Белореченский лицей» 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2008 год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Picture 4" descr="j0305257"/>
          <p:cNvPicPr/>
          <p:nvPr/>
        </p:nvPicPr>
        <p:blipFill>
          <a:blip r:embed="rId1"/>
          <a:stretch/>
        </p:blipFill>
        <p:spPr>
          <a:xfrm>
            <a:off x="928800" y="4143240"/>
            <a:ext cx="1344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ahoma"/>
              </a:rPr>
              <a:t>Строение клет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э клет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  <p:transition advTm="16000">
    <p:pull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1.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Клетка как единое целое состоит из основных част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ТРОЕНИЕ  КЛЕТКИ</a:t>
            </a:r>
            <a:br>
              <a:rPr sz="3200"/>
            </a:b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мембрана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цитоплазма                              ядро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1547280" y="2492280"/>
            <a:ext cx="2519640" cy="22338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5435640" y="2421000"/>
            <a:ext cx="2376360" cy="2305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716360" y="2492280"/>
            <a:ext cx="0" cy="1079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1" name="Picture 7" descr="2"/>
          <p:cNvPicPr/>
          <p:nvPr/>
        </p:nvPicPr>
        <p:blipFill>
          <a:blip r:embed="rId1"/>
          <a:srcRect l="7101" t="3307" r="7021" b="13373"/>
          <a:stretch/>
        </p:blipFill>
        <p:spPr>
          <a:xfrm>
            <a:off x="3780000" y="4295880"/>
            <a:ext cx="2665080" cy="256212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</p:spTree>
  </p:cSld>
  <p:transition advTm="16000">
    <p:pull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95280" y="3789360"/>
          <a:ext cx="7772400" cy="2585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ункция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СТРУКТУРА — строение расположение, порядок, совокупность устойчивых связей объекта, обеспечивающих его целостность        ФУНКЦИЯ— исполнение, осуществление, деятельность, работа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ФУНКЦИЯ— исполнение, осуществление, деятельность, работа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Line 20"/>
          <p:cNvSpPr/>
          <p:nvPr/>
        </p:nvSpPr>
        <p:spPr>
          <a:xfrm>
            <a:off x="3203640" y="4076640"/>
            <a:ext cx="2303280" cy="0"/>
          </a:xfrm>
          <a:prstGeom prst="line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5" name="Picture 21" descr="3"/>
          <p:cNvPicPr/>
          <p:nvPr/>
        </p:nvPicPr>
        <p:blipFill>
          <a:blip r:embed="rId1"/>
          <a:srcRect l="7153" t="0" r="6279" b="6753"/>
          <a:stretch/>
        </p:blipFill>
        <p:spPr>
          <a:xfrm>
            <a:off x="6203880" y="0"/>
            <a:ext cx="2940120" cy="34290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</p:spTree>
  </p:cSld>
  <p:transition advTm="16000">
    <p:pull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76360" y="2781360"/>
            <a:ext cx="100800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ahoma"/>
              </a:rPr>
              <a:t>ЯДРО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755640" y="5157720"/>
            <a:ext cx="208764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КОДИРОВАНА рРНК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11280" y="907920"/>
            <a:ext cx="129672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ahoma"/>
              </a:rPr>
              <a:t>ЯДРЫШКО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93080" y="3789360"/>
            <a:ext cx="136656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ahoma"/>
              </a:rPr>
              <a:t>СВОЙСТВА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6804000" y="1557360"/>
            <a:ext cx="1297080" cy="2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ahoma"/>
              </a:rPr>
              <a:t>ФУНКЦИИ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5364000" y="2421000"/>
            <a:ext cx="1440000" cy="28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Tahoma"/>
              </a:rPr>
              <a:t>СТРУКТУРА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13" descr="Безымянный"/>
          <p:cNvPicPr/>
          <p:nvPr/>
        </p:nvPicPr>
        <p:blipFill>
          <a:blip r:embed="rId1"/>
          <a:srcRect l="27615" t="29889" r="34728" b="28994"/>
          <a:stretch/>
        </p:blipFill>
        <p:spPr>
          <a:xfrm>
            <a:off x="3348000" y="2924280"/>
            <a:ext cx="1511280" cy="1217520"/>
          </a:xfrm>
          <a:prstGeom prst="rect">
            <a:avLst/>
          </a:prstGeom>
          <a:ln w="0">
            <a:noFill/>
          </a:ln>
        </p:spPr>
      </p:pic>
      <p:sp>
        <p:nvSpPr>
          <p:cNvPr id="183" name="Line 14"/>
          <p:cNvSpPr/>
          <p:nvPr/>
        </p:nvSpPr>
        <p:spPr>
          <a:xfrm flipV="1">
            <a:off x="4859280" y="2708280"/>
            <a:ext cx="504720" cy="216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 flipV="1">
            <a:off x="6156360" y="1844280"/>
            <a:ext cx="647640" cy="576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7811640" y="1844640"/>
            <a:ext cx="289080" cy="1944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 flipH="1" flipV="1">
            <a:off x="2484000" y="3068280"/>
            <a:ext cx="863640" cy="431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H="1" flipV="1">
            <a:off x="1258920" y="1197000"/>
            <a:ext cx="217440" cy="1512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1042920" y="1413000"/>
            <a:ext cx="216000" cy="3744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16000"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2. Характеристика каждой части структуры (клетки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НАРУЖНАЯ ЦИТОПЛАЗМАТИЧЕСКАЯ МЕМБРАНА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ЦИТОПЛАЗМАТИЧЕСКИЙ МАТРИКСПЛАСТИДЫ(ЛЕЙКОПЛАСТЫ, ХРОМОПЛАСТЫ, ХЛОРОПЛАСТЫ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ЭНДОПЛАЗМАТИЧЕСКАЯ СЕТЬ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ЛИЗОСОМЫ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КЛЕТОЧНЫЙ ЦЕНТР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КОМПЛЕКС ГОЛЬДЖИ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ЯДРЫШКО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МИТОХОНДРИИ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ВАКУОЛИ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РИБОСОМЫ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ЦИТОСКЕЛЕТ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522720" indent="-522720">
              <a:spcBef>
                <a:spcPts val="45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ЖГУТИКИ И РЕСНИЧКИ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Клеточная ст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Строение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состоит из первого наружного слоя углеводов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плазматической мембраны: грибы, бактерии, сине-зеленые водоросли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ружный слой в растительной клетке очень толстый и плотный, образованный главным образом клетчаткой. Оболочка имеет поры.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Функции клеточной стенки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аркас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Защитная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порная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беспечивает тургор растительных клеток (тургор –упругость клеток тканей и органов вследствие давления содержимого клеток, на их эластичные клетки)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Придает клетке прочность, поддерживает определенную форму, является скелетом растений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Через клеточную стенку проходит вода, соли, молекулы органических веществ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Цитоплазм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Строение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олу вязкая жидкост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стоит из гиалоплазмы (гиалоплазма – водный раствор неорганических и органических соединений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цитоплазмы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бмен вещест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еремещение клеточных структур, их объединение в систему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язь органоид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еремещение питательных вещест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реда для химических реакци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Плазматическая мемб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484280"/>
          <a:ext cx="8280360" cy="4978440"/>
        </p:xfrm>
        <a:graphic>
          <a:graphicData uri="http://schemas.openxmlformats.org/drawingml/2006/table">
            <a:tbl>
              <a:tblPr/>
              <a:tblGrid>
                <a:gridCol w="3816360"/>
                <a:gridCol w="446400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троение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труктура         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4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Двумембранная клеточная структура. Состоит из билипидного слоя и мозаично вкрапленных  белков. Снаружи располагаются углеводы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15"/>
          <p:cNvSpPr/>
          <p:nvPr/>
        </p:nvSpPr>
        <p:spPr>
          <a:xfrm>
            <a:off x="2411280" y="1413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9" name="Picture 16" descr="мембрана12"/>
          <p:cNvPicPr/>
          <p:nvPr/>
        </p:nvPicPr>
        <p:blipFill>
          <a:blip r:embed="rId1"/>
          <a:stretch/>
        </p:blipFill>
        <p:spPr>
          <a:xfrm>
            <a:off x="5076720" y="2279520"/>
            <a:ext cx="3024360" cy="244188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</p:spTree>
  </p:cSld>
  <p:transition advTm="16000">
    <p:pull dir="rd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клеточная мембрана"/>
          <p:cNvPicPr/>
          <p:nvPr/>
        </p:nvPicPr>
        <p:blipFill>
          <a:blip r:embed="rId1"/>
          <a:stretch/>
        </p:blipFill>
        <p:spPr>
          <a:xfrm>
            <a:off x="5003640" y="2276640"/>
            <a:ext cx="3463920" cy="33843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01" name="Picture 3" descr="мембрана1"/>
          <p:cNvPicPr/>
          <p:nvPr/>
        </p:nvPicPr>
        <p:blipFill>
          <a:blip r:embed="rId2"/>
          <a:stretch/>
        </p:blipFill>
        <p:spPr>
          <a:xfrm>
            <a:off x="324000" y="2276640"/>
            <a:ext cx="3887640" cy="360036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Клеточная мембр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Функции плазматической мембра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.Защитна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2.Обеспечивает избирательную проницаемость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3.Регулирует обмен веществ между клеткой и окружающей средой, водно-солевой баланс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4. Осуществляет транспорт веществ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5.Способствует соединению клеток между  собой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6. Ограничивает содержимое клетки от внешней среды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7. Воспринимает физические и химические воздействи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Тип урока: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вводный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Вид урока: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лекция - информация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Образовательная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–  продолжить формирование представления о клетке как элементарной единице живого и об организации живой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системы на разных уровнях становления. Углубить знания об органоидах клетки, ввести понятия об их строении и     функциях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Развивающая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– развивать умения синтезировать новые знания о закономерностях существования через анализ нового материала об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особенностях строения и жизнедеятельности клетки, развивать системность мышления на основе сочетания системы повторения и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опережающей подачи материала о клетке (затрагивается материал в эволюционном аспекте на молекулярном и клеточном уровне)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Воспитательная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– мотивация к изучению темы  «Клетка» с использованием интегративных знаний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Методы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: по  источнику знаний – словесные, наглядные;  по этапам обучения –  подготовка к изучению нового материала, изучение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нового материала; по логике обучение – индуктивные, дедуктивные; по характеру познавательной деятельности –  объяснительно-иллюстративный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Оборудование: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ноутбук, проектор, экран, дидактический материал (схемы, рисунки), демонстрационные таблицы: «Строение клетки», «Химический состав клетки», инструктивные карты для заполнения на уроке, печатный вариант материалов лекци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95280" y="260280"/>
            <a:ext cx="81360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.  В мембранах находятся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мультиферментные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цепи (цепи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переноса электронов при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дыхании в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при фотосинтезе в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хлоропластах);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9.  Поступление любого вещества в клетку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контролируется мембраной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10. Регулирует скорость отдельных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процессов и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сего метаболизма клетки;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12. Активный перенос веществ в клетку с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помощью специальных молекул,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ходящих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 состав плазматической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мембраны он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осуществляется на основе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двух процессов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это  фагоцитоз и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пиноцитоз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16000">
    <p:pull dir="r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Фагоцитоз у трихомона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а)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Фагоцитоз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захват плазматической мембраной крупных, твердых частиц и впячивание  их внутрь клетки. (Иглокожие, кишечно-полостные, лейкоциты)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8" name="Picture 4" descr="iРисунок 3 Амебоидные безжгутиковые формы Trichomonas vaginalis Начало фагоцитоза и фагоцитированная клекта в цитоплазме трихомонады"/>
          <p:cNvPicPr/>
          <p:nvPr/>
        </p:nvPicPr>
        <p:blipFill>
          <a:blip r:embed="rId1"/>
          <a:stretch/>
        </p:blipFill>
        <p:spPr>
          <a:xfrm>
            <a:off x="5219640" y="1955880"/>
            <a:ext cx="2881440" cy="252072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</p:spTree>
  </p:cSld>
  <p:transition advTm="16000">
    <p:pull dir="rd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Пиноцито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б) Пиноцитоз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поглощение жидкости в виде мелких капел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672000" cy="227304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</p:spTree>
  </p:cSld>
  <p:transition advTm="16000">
    <p:pull dir="rd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Митохондр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Бобовидные образования, образованные двумя мембранами. Наружная мембрана гладкая, внутренняя – образует кристы. Имеются митохондриальные ДНК, РНК, рибосомы.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4" name="Picture 4" descr="митохондрии"/>
          <p:cNvPicPr/>
          <p:nvPr/>
        </p:nvPicPr>
        <p:blipFill>
          <a:blip r:embed="rId1"/>
          <a:stretch/>
        </p:blipFill>
        <p:spPr>
          <a:xfrm>
            <a:off x="5003640" y="1547640"/>
            <a:ext cx="2953080" cy="154800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215" name="Picture 5" descr="митохондрии в разрезе WWW Wadsworth"/>
          <p:cNvPicPr/>
          <p:nvPr/>
        </p:nvPicPr>
        <p:blipFill>
          <a:blip r:embed="rId2"/>
          <a:stretch/>
        </p:blipFill>
        <p:spPr>
          <a:xfrm>
            <a:off x="5364000" y="3662280"/>
            <a:ext cx="2337120" cy="19512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</p:spTree>
  </p:cSld>
  <p:transition advTm="16000">
    <p:pull dir="rd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Функции митохондр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разование и накопление энерг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Являются энергетическими станциями клеток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еспечивает дыхательный процесс – кислородное окисление органических веществ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Синтез АТФ (содержит богатые энергией, фосфатные связи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Синтез стероидных гормонов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Ядр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Строение ядра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Ядерная оболочка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Хроматин (хромосомы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Нуклеоплазма (ядерный сок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т одного до много ядрышек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20" name="Picture 4" descr="ядро1"/>
          <p:cNvPicPr/>
          <p:nvPr/>
        </p:nvPicPr>
        <p:blipFill>
          <a:blip r:embed="rId1"/>
          <a:stretch/>
        </p:blipFill>
        <p:spPr>
          <a:xfrm>
            <a:off x="5796000" y="1547640"/>
            <a:ext cx="2016000" cy="137808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pic>
        <p:nvPicPr>
          <p:cNvPr id="221" name="Picture 5" descr="ядро"/>
          <p:cNvPicPr/>
          <p:nvPr/>
        </p:nvPicPr>
        <p:blipFill>
          <a:blip r:embed="rId2"/>
          <a:stretch/>
        </p:blipFill>
        <p:spPr>
          <a:xfrm>
            <a:off x="5724360" y="3581280"/>
            <a:ext cx="2324160" cy="18795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advTm="16000">
    <p:pull dir="rd"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Ядерная обол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670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бразована двумя мембранами (наружная и внутренняя),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жду ними околоядерное пространство, оно сообщается с каналами эндоплазматической сети,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меются пор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3280" y="404640"/>
            <a:ext cx="41738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8f8f8"/>
                </a:solidFill>
                <a:latin typeface="Tahoma"/>
              </a:rPr>
              <a:t>Ограничивает внутреннюю среду ядра от цитоплазмы;</a:t>
            </a:r>
            <a:endParaRPr b="0" lang="en-US" sz="23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8f8f8"/>
                </a:solidFill>
                <a:latin typeface="Tahoma"/>
              </a:rPr>
              <a:t>Регулирует поступление веществ из цитоплазмы в ядро и наоборот;</a:t>
            </a:r>
            <a:endParaRPr b="0" lang="en-US" sz="23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8f8f8"/>
                </a:solidFill>
                <a:latin typeface="Tahoma"/>
              </a:rPr>
              <a:t>Контролирует обмен веществ между ядром и цитоплазмой;</a:t>
            </a:r>
            <a:endParaRPr b="0" lang="en-US" sz="23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8f8f8"/>
                </a:solidFill>
                <a:latin typeface="Tahoma"/>
              </a:rPr>
              <a:t>Синтез липидов и белков, которые временно накапливаются в околоядерном пространстве;</a:t>
            </a:r>
            <a:endParaRPr b="0" lang="en-US" sz="23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8f8f8"/>
                </a:solidFill>
                <a:latin typeface="Tahoma"/>
              </a:rPr>
              <a:t>Через поры избирательно пропускаются различные макромолекулы.</a:t>
            </a:r>
            <a:endParaRPr b="0" lang="en-US" sz="23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Хромат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новной, структурно-функциональный компонент ядра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нова хроматина - тонкие 10 моно метров  фибриллы скрученные в спирал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я хроматина: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ледственное делени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Начало деления : слияние двух половых клеток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28" name="Picture 5" descr="слияние ядер мужской и женской клетки"/>
          <p:cNvPicPr/>
          <p:nvPr/>
        </p:nvPicPr>
        <p:blipFill>
          <a:blip r:embed="rId1"/>
          <a:stretch/>
        </p:blipFill>
        <p:spPr>
          <a:xfrm>
            <a:off x="5219640" y="3338640"/>
            <a:ext cx="2303640" cy="243972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advTm="16000">
    <p:pull dir="rd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Хромосо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Форма - прямые или изогнутые палочк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и делении клетки - первая перетяжка делит каждую хромосому на два плеча - центромера равноплечие (метацентрические), неравноплечие (субметоцентрические), с одним длинным другим очень коротким плечом (акроцентрические)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екоторые хромосомы имеют вторичную перетяжку (ядрышковый организатор). В этом участке хромосомы в интерфазном ядре образуется ядрышко, хромосома состоит из двух хромотид, спирально закрученных нитей, связанных собой в области первичной перетяжки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Рисунок хромосомы"/>
          <p:cNvPicPr/>
          <p:nvPr/>
        </p:nvPicPr>
        <p:blipFill>
          <a:blip r:embed="rId1"/>
          <a:stretch/>
        </p:blipFill>
        <p:spPr>
          <a:xfrm>
            <a:off x="2111400" y="333360"/>
            <a:ext cx="4405320" cy="6048360"/>
          </a:xfrm>
          <a:prstGeom prst="rect">
            <a:avLst/>
          </a:prstGeom>
          <a:ln w="12600">
            <a:solidFill>
              <a:srgbClr val="66ffff"/>
            </a:solidFill>
            <a:miter/>
          </a:ln>
        </p:spPr>
      </p:pic>
    </p:spTree>
  </p:cSld>
  <p:transition advTm="16000">
    <p:pull dir="rd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 Sans MS"/>
              </a:rPr>
              <a:t>План лекции: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пределение понятия «жизн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сновные параметры, характеризующие живое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ровни организации жизни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Клетка – как элементарная единица живого, ее целостность и       дискретность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деление клетки завершается, хроматиды каждой хромосомы попадают в разные клетки, преобразуются в самостоятельные хромосомы. Главными химическими элементами хромосом являются: 40%ДНК, 60белки, РНК, липиды, углеводы, ионы металл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бор хромосом в половых клетках называется – гаплоиднным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Набор парных хромосом в клетках тела (соматических) называется –диплоидны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n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бор хромосом в клетках организма принадлежащих к одному виду характеризуется определенными размерами, формой числом и названием кариотип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6000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уклеоплаз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Ядерный сок - полужидкое вещество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Основа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Белки, нуклеопротеиды,   гликопротеиды, ферменты ядра, ферменты анаэробного дыхания, ферменты белкового аминокислотного обмена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Функции нуклеоплазмы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Образование АТФ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Белковый и аминокислотный обмен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Осуществление взаимосвязи ядерных структур (хроматина, ядрышка)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Транспортируют вещества проходящие через нуклеоплазму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Ядрыш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остоянный компонент ядра. Форма шаровидная, не окружены мембраной и контактируют с ядерным соко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Химический состав ядрышка: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ибонуклеопротеиды; липопротеиды; фосфопротеиды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НК (выше, чем в ядре и цитоплазме); ДНК (немного)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Состоит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из гомогенной стромы, в которой видны вакуоли иногда и гранулы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Ядрышко состоит из двух фибрилл (представлены плоскостями упакованными фибриллами), рибонуклеопротеидов толщиной 4-10 моно метров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Состав фибрилл: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90%дизоксирибонуклиопротеиды;  10%  рибонуклиопротеиды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Функции: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1) генетическая, связанная синтезом рибосомой рибонуклеиновой кислоты; 2)Синтез рибосомной РНК (р – РНК) в ядрышке р – РНК формируются рибосомы и образуется комплекс с белком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Эндоплазматическая се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38098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Гладка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00ff00"/>
                </a:solidFill>
                <a:latin typeface="Tahoma"/>
              </a:rPr>
              <a:t>(агранулярная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Синтез липидов и углеводов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Центр образования клеточных мембран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Транспорт веществ в клетке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55700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Шероховатая </a:t>
            </a:r>
            <a:r>
              <a:rPr b="0" i="1" lang="ru-RU" sz="2400" spc="-1" strike="noStrike">
                <a:solidFill>
                  <a:srgbClr val="00ff00"/>
                </a:solidFill>
                <a:latin typeface="Tahoma"/>
              </a:rPr>
              <a:t> (гранулярная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биосинтез белка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Осуществляет транспорт веществ (синтезированных белков, ионов и молекул внутри клетки и между клетками)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Центр образования клеточных мембран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Образование -(лизосом, сферосом, микротел)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1" name="Picture 5" descr="энд"/>
          <p:cNvPicPr/>
          <p:nvPr/>
        </p:nvPicPr>
        <p:blipFill>
          <a:blip r:embed="rId1"/>
          <a:stretch/>
        </p:blipFill>
        <p:spPr>
          <a:xfrm>
            <a:off x="1403280" y="4365720"/>
            <a:ext cx="1727280" cy="172728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ransition advTm="16000">
    <p:pull dir="rd"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Рибосо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е мембранная структура, грибовидной формы, состоящей из большой и малой субъединиц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остоят из ДНК и белк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я  рибосом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иосинтез белка (образование белка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4" name="Picture 4" descr="рибосома1"/>
          <p:cNvPicPr/>
          <p:nvPr/>
        </p:nvPicPr>
        <p:blipFill>
          <a:blip r:embed="rId1"/>
          <a:stretch/>
        </p:blipFill>
        <p:spPr>
          <a:xfrm>
            <a:off x="5148360" y="1711440"/>
            <a:ext cx="2952720" cy="341604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</p:spTree>
  </p:cSld>
  <p:transition advTm="16000">
    <p:pull dir="rd"/>
  </p:transition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ппарат Гольдж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истема трубочек и пузырьков, несколько уплощенные дисковидные пластинк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Аппарата Гольджи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Животная клетка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Транспорт вещест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копление, преобразование, сортировка и упаковка белков и липид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копление жиров и углевод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Удаление веществ из клетк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Растительная клетк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центр синтеза, накопления и секреции полисахаридов, осуществляется с помощью фермент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ембрана пузырька Гольджи идет на пополнение строительного материала (плазмалеммы - рост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ырабатывает гидролические ферменты и участвует в образовании вакуолей,  лизосом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интез полисахаридо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Гольджи К"/>
          <p:cNvPicPr/>
          <p:nvPr/>
        </p:nvPicPr>
        <p:blipFill>
          <a:blip r:embed="rId1"/>
          <a:stretch/>
        </p:blipFill>
        <p:spPr>
          <a:xfrm>
            <a:off x="611280" y="1628640"/>
            <a:ext cx="2754360" cy="388800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48" name="Picture 3" descr="комплекс гольджи"/>
          <p:cNvPicPr/>
          <p:nvPr/>
        </p:nvPicPr>
        <p:blipFill>
          <a:blip r:embed="rId2"/>
          <a:stretch/>
        </p:blipFill>
        <p:spPr>
          <a:xfrm>
            <a:off x="4211640" y="3429000"/>
            <a:ext cx="4321080" cy="229248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  <p:pic>
        <p:nvPicPr>
          <p:cNvPr id="249" name="Picture 4" descr="комплекс гольджи1"/>
          <p:cNvPicPr/>
          <p:nvPr/>
        </p:nvPicPr>
        <p:blipFill>
          <a:blip r:embed="rId3"/>
          <a:stretch/>
        </p:blipFill>
        <p:spPr>
          <a:xfrm>
            <a:off x="5435640" y="836640"/>
            <a:ext cx="1571760" cy="23814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250" name="Rectangle 5"/>
          <p:cNvSpPr/>
          <p:nvPr/>
        </p:nvSpPr>
        <p:spPr>
          <a:xfrm flipV="1" rot="10818000">
            <a:off x="394920" y="580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милло Гольджи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16000">
    <p:pull dir="rd"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Лизосо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40305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дномембранные структуры, напоминающие пузырьки и содержащие концентрированные гидролитические  ферменты.  Содержатся в лейкоцитах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лизосом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нутриклеточное переваривани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асщепление высокомолекулярных вещест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53" name="Picture 4" descr="лизосомы"/>
          <p:cNvPicPr/>
          <p:nvPr/>
        </p:nvPicPr>
        <p:blipFill>
          <a:blip r:embed="rId1"/>
          <a:stretch/>
        </p:blipFill>
        <p:spPr>
          <a:xfrm>
            <a:off x="5364000" y="1955880"/>
            <a:ext cx="2808360" cy="308916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ransition advTm="16000">
    <p:pull dir="rd"/>
  </p:transition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Вакуол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8f8f8"/>
                </a:solidFill>
                <a:uFillTx/>
                <a:latin typeface="Tahoma"/>
              </a:rPr>
              <a:t>Вакуоль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заполнена клеточным соком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остоит из мембран, хлорофилла, ксантофилла, каротиноидов и ДНК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Функции вакуоли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Регулирует астматическое давление клетк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Накопление питательных веществ и продуктов жизнедеятельности (воды и сахара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Клеточный центр (центрио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71960" y="1295280"/>
            <a:ext cx="4386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8f8f8"/>
                </a:solidFill>
                <a:uFillTx/>
                <a:latin typeface="Tahoma"/>
              </a:rPr>
              <a:t>Центриоли</a:t>
            </a: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 – главная часть клеточного центра, каждая центриоль образована девятью тройными микро трубочками, формирующийся полый цилиндр…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(расположен внутри ядра)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Функции клеточного центра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Деление клетки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Центриоли в клетке определяют и формируют полюса деления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Клеточного центра у большинства растений нет.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258920" y="1873080"/>
            <a:ext cx="2160720" cy="349740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</p:spTree>
  </p:cSld>
  <p:transition advTm="16000">
    <p:pull dir="rd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. Жизнь – это ….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ЖИЗНЬ -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8f8f8"/>
                </a:solidFill>
                <a:latin typeface="Tahoma"/>
              </a:rPr>
              <a:t>одна из форм существования материи, закономерно возникающая при определенных условиях в процессе ее развития. Организмы отличаются от неживых объектов обменом веществ, раздражимостью, способностью к размножению, росту, развитию, активной регуляции своего состава и функций, к различным формам  движения, приспособляемостью к среде и т. п. Ученые полагают, что жизнь возникла путем абиогенез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Органеллы дви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Органеллы движения, реснички, жгутики, ложноножк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(есть у всех организмов, кроме высших растений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органелл движения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еремещение клето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Формирование потоков жидкости у поверхности клето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61" name="Picture 4" descr="вакуо"/>
          <p:cNvPicPr/>
          <p:nvPr/>
        </p:nvPicPr>
        <p:blipFill>
          <a:blip r:embed="rId1"/>
          <a:stretch/>
        </p:blipFill>
        <p:spPr>
          <a:xfrm>
            <a:off x="5219640" y="2279520"/>
            <a:ext cx="2737080" cy="244188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</p:spTree>
  </p:cSld>
  <p:transition advTm="16000">
    <p:pull dir="rd"/>
  </p:transition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Микротрубочки и микрофила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Состав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елковые субъединицы, образующие длинные тонкие структуры, образующие внутренний скелет клетки, помогающий сохранять ее форм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микротрубочек и микрофиламентов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бразование цитоскелета, базальных телец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бразование центриолей, жгутиков, ресниче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беспечивает внутриклеточное движение (митохондрий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Пластиды - лейкоплас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есцветные пластиды.  Находятся в частях растений,  лишенных зеленой окраски. В тканях зародыша, конусах нарастания в  стебл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1)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Протеинопласты (накопление запасных белк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2)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Элайопласты (накапливают липиды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Олеопласты(синтезируют жиры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ahoma"/>
              </a:rPr>
              <a:t>Функции лейкопластов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Запасание питательных вещест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интез запасных продуктов в первую очередь крахмала, реже белков, жиров; запасание питательных веществ в виде крахмальных зерен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ейкопласты, накапливающие крахмал, называются амилопластами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Хлороплас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4173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Зеленые пластиды двумембранные структуры продолговатой формы, напоминающие двояковыпуклую линзу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Внутри заполнены стромой (тело хлоропласта состоит  из бесцветной белково-липоидной массы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Внутри стромы располагаются граны (образованы из мембранных структур телокоидов (пузырьки или пластинки)). В строме находятся: ДНК, РНК, рибосомы, крахмальные зерна, структуры липидной природы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68" name="Picture 4" descr="хлоропласты в клетках листа"/>
          <p:cNvPicPr/>
          <p:nvPr/>
        </p:nvPicPr>
        <p:blipFill>
          <a:blip r:embed="rId1"/>
          <a:stretch/>
        </p:blipFill>
        <p:spPr>
          <a:xfrm>
            <a:off x="5148360" y="1955880"/>
            <a:ext cx="3168720" cy="25207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p:transition advTm="16000">
    <p:pull dir="rd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Состав и функции хлороплас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100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Состав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75% воды, 50% белок, 33% липидов, 5%-10%хлорофил. 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1%-2%каратиноида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хлорофилл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” С55Н72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; “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” 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55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70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с”, “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”    обнаружены Компарет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Функции 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Ф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отосинтез;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Синтез углеводов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мембранах телокоидов идут фазы в строме темновой фазы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71" name="Picture 4" descr="хлоропласт"/>
          <p:cNvPicPr/>
          <p:nvPr/>
        </p:nvPicPr>
        <p:blipFill>
          <a:blip r:embed="rId1"/>
          <a:stretch/>
        </p:blipFill>
        <p:spPr>
          <a:xfrm>
            <a:off x="468360" y="2421000"/>
            <a:ext cx="3809880" cy="280836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</p:spTree>
  </p:cSld>
  <p:transition advTm="16000">
    <p:pull dir="rd"/>
  </p:transition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Хромоплас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расные, желтые, оранжевые пластиды) пигменты каратиноиды и ксантофилл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меются переходные формы от хлоропластов к этому типу хромопластов – хлорохромопласты, у которых сохраняется небольшое число мелких гран  и межгранные тилакоиды (плоские мешочки) и одновременно наблюдается образование большого числа крупных пластоголобу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Функции хромопластов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дает окраску плодам, листьями, лепесткам цветк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Запасание питательных вещест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8f8f8"/>
                </a:solidFill>
                <a:uFillTx/>
                <a:latin typeface="Tahoma"/>
              </a:rPr>
              <a:t>Все живые организмы состоят из клеток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8f8f8"/>
                </a:solidFill>
                <a:uFillTx/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8f8f8"/>
                </a:solidFill>
                <a:uFillTx/>
                <a:latin typeface="Tahoma"/>
              </a:rPr>
              <a:t>Клетка – это один из основных структурных, функциональных и воспроизводящих элементов живой матер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8f8f8"/>
                </a:solidFill>
                <a:uFillTx/>
                <a:latin typeface="Tahoma"/>
              </a:rPr>
              <a:t>Клетки всех одноклеточных и многоклеточных организмов сходны по своему строению, химическому составу, основным проявлениям жизнедеятельности и обмену веществ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8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3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8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Список использованных источ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иология» – Москва «Высшая школа» 1975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иология и Зоология – энциклопедия» СД диск, 2 редакция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           Биология «Человек», 9 класс -  Москва «Дрофа» 2001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ронцов Н.Н., Сухорукова Л.Н. «Эволюция органического мира» - Москва 1991 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ский А.А. «Как устроен микромир» – М.: Терра, 1995 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имся к экзамену по биологии – Москва 2000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ишков С.П. «Занимательная биология. » -  М.: Недра, 1997 г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линич Л.Я., справочник по биологии -  Москва 1995 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щая биология» Учеб. Для 10 – 11 кл. сред. шк / М.: Просвещение 91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щая биология», №3 изд. Москва, издательство МГУ, 1995 г. 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ум Ю. «Основы цитологии» – М.: Мир, 1975 г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улярная медицинская энциклопедия. Гл. ред. П58  Петровский Б.В. в 1          том Ченцов Ю.С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щур. – М.: «Советская Энциклопедия», 1993 г.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яты из интернет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andex.ru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Энгельс Ф.: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знь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есть способ существования белковых тел, и этот способ существования заключается по своему существу в постоянном обновлении их химических составных частей путем питания и выделени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Опарин А. И.: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знь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это особая, качественно отличная от неорганического мира форма движения материи, и организмам присущи особые, специфически биологические свойства и закономерности, не сводимые только к законам, царящим в неорганической природ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Волькенштейн М.В.: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Живые тела, существующие на Земле, представляют собой открытые, саморегулирующиеся и самовоспроизводящиеся системы, построенные из полимеров - белков и нуклеиновых кисло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Энгельгардт В.А.: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знь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- это, прежде всего, система систем, в которой отчетливо выражено не параллельное, а последовательное сочетание. Тем самым  создается предпосылка для организации этой последовательности по принципу иерархической соподчиненност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Дубинин Н.П.: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знь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- это непрерывный в пространстве и времени поток, в котором преобразуются вещество, энергия и информаци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advTm="16000">
    <p:pull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I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. Основные параметры жив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796000" y="1295280"/>
          <a:ext cx="2662200" cy="909720"/>
        </p:xfrm>
        <a:graphic>
          <a:graphicData uri="http://schemas.openxmlformats.org/drawingml/2006/table">
            <a:tbl>
              <a:tblPr/>
              <a:tblGrid>
                <a:gridCol w="2662200"/>
              </a:tblGrid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Биологическая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система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1"/>
          <p:cNvSpPr/>
          <p:nvPr/>
        </p:nvSpPr>
        <p:spPr>
          <a:xfrm>
            <a:off x="3016080" y="2473200"/>
            <a:ext cx="250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016080" y="2473200"/>
            <a:ext cx="250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016080" y="2473200"/>
            <a:ext cx="250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016080" y="2473200"/>
            <a:ext cx="2505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08000" y="1773360"/>
          <a:ext cx="3961080" cy="393228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обмен веществ,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поток энергии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раздражимость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гомеостаз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наследственность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размножение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репродукция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развитие (рост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516720" y="4508640"/>
          <a:ext cx="1941480" cy="1722240"/>
        </p:xfrm>
        <a:graphic>
          <a:graphicData uri="http://schemas.openxmlformats.org/drawingml/2006/table">
            <a:tbl>
              <a:tblPr/>
              <a:tblGrid>
                <a:gridCol w="194148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Единство</a:t>
                      </a: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частей                                                                                                                            и целого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85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1413000"/>
          <a:ext cx="1800360" cy="118908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Свойства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живых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организмов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105"/>
          <p:cNvSpPr/>
          <p:nvPr/>
        </p:nvSpPr>
        <p:spPr>
          <a:xfrm>
            <a:off x="324000" y="1413000"/>
            <a:ext cx="1800000" cy="12952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5940360" y="1484280"/>
            <a:ext cx="0" cy="4032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Line 120"/>
          <p:cNvSpPr/>
          <p:nvPr/>
        </p:nvSpPr>
        <p:spPr>
          <a:xfrm>
            <a:off x="4716360" y="551664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5219640" y="5013360"/>
            <a:ext cx="72072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22"/>
          <p:cNvSpPr/>
          <p:nvPr/>
        </p:nvSpPr>
        <p:spPr>
          <a:xfrm>
            <a:off x="4932360" y="4221000"/>
            <a:ext cx="1008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23"/>
          <p:cNvSpPr/>
          <p:nvPr/>
        </p:nvSpPr>
        <p:spPr>
          <a:xfrm>
            <a:off x="5435640" y="3789360"/>
            <a:ext cx="50472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124"/>
          <p:cNvSpPr/>
          <p:nvPr/>
        </p:nvSpPr>
        <p:spPr>
          <a:xfrm>
            <a:off x="4716360" y="328464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125"/>
          <p:cNvSpPr/>
          <p:nvPr/>
        </p:nvSpPr>
        <p:spPr>
          <a:xfrm>
            <a:off x="5148360" y="2852640"/>
            <a:ext cx="792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126"/>
          <p:cNvSpPr/>
          <p:nvPr/>
        </p:nvSpPr>
        <p:spPr>
          <a:xfrm>
            <a:off x="5148360" y="2060640"/>
            <a:ext cx="792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27"/>
          <p:cNvSpPr/>
          <p:nvPr/>
        </p:nvSpPr>
        <p:spPr>
          <a:xfrm>
            <a:off x="5940360" y="1484280"/>
            <a:ext cx="216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28"/>
          <p:cNvSpPr/>
          <p:nvPr/>
        </p:nvSpPr>
        <p:spPr>
          <a:xfrm>
            <a:off x="7524720" y="2133720"/>
            <a:ext cx="0" cy="2447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Line 129"/>
          <p:cNvSpPr/>
          <p:nvPr/>
        </p:nvSpPr>
        <p:spPr>
          <a:xfrm>
            <a:off x="2340000" y="1989000"/>
            <a:ext cx="0" cy="3456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Line 130"/>
          <p:cNvSpPr/>
          <p:nvPr/>
        </p:nvSpPr>
        <p:spPr>
          <a:xfrm>
            <a:off x="2050920" y="1989000"/>
            <a:ext cx="5763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Line 131"/>
          <p:cNvSpPr/>
          <p:nvPr/>
        </p:nvSpPr>
        <p:spPr>
          <a:xfrm>
            <a:off x="2340000" y="2852640"/>
            <a:ext cx="2872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Line 133"/>
          <p:cNvSpPr/>
          <p:nvPr/>
        </p:nvSpPr>
        <p:spPr>
          <a:xfrm>
            <a:off x="2340000" y="3284640"/>
            <a:ext cx="3603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34"/>
          <p:cNvSpPr/>
          <p:nvPr/>
        </p:nvSpPr>
        <p:spPr>
          <a:xfrm>
            <a:off x="2340000" y="3789360"/>
            <a:ext cx="216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35"/>
          <p:cNvSpPr/>
          <p:nvPr/>
        </p:nvSpPr>
        <p:spPr>
          <a:xfrm>
            <a:off x="2340000" y="4221000"/>
            <a:ext cx="2160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Line 136"/>
          <p:cNvSpPr/>
          <p:nvPr/>
        </p:nvSpPr>
        <p:spPr>
          <a:xfrm>
            <a:off x="2340000" y="5013360"/>
            <a:ext cx="2872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Line 137"/>
          <p:cNvSpPr/>
          <p:nvPr/>
        </p:nvSpPr>
        <p:spPr>
          <a:xfrm>
            <a:off x="2340000" y="5445000"/>
            <a:ext cx="3603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16000"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. Уровни, характеризующие жи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Изображение 2327"/>
          <p:cNvPicPr/>
          <p:nvPr/>
        </p:nvPicPr>
        <p:blipFill>
          <a:blip r:embed="rId1"/>
          <a:stretch/>
        </p:blipFill>
        <p:spPr>
          <a:xfrm>
            <a:off x="684360" y="2276640"/>
            <a:ext cx="1199880" cy="86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Изображение 2325"/>
          <p:cNvPicPr/>
          <p:nvPr/>
        </p:nvPicPr>
        <p:blipFill>
          <a:blip r:embed="rId2"/>
          <a:stretch/>
        </p:blipFill>
        <p:spPr>
          <a:xfrm>
            <a:off x="684360" y="3429000"/>
            <a:ext cx="693720" cy="65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>
            <a:lum contrast="30000"/>
          </a:blip>
          <a:srcRect l="0" t="0" r="59131" b="64151"/>
          <a:stretch/>
        </p:blipFill>
        <p:spPr>
          <a:xfrm>
            <a:off x="684360" y="44370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4"/>
          <a:stretch/>
        </p:blipFill>
        <p:spPr>
          <a:xfrm rot="20779200">
            <a:off x="826560" y="5300280"/>
            <a:ext cx="1152720" cy="5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85800" y="1295280"/>
          <a:ext cx="7772400" cy="4657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Название уровня 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Компоненты, составляющие уровень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опуляционно-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идовой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Совокупность организмов одного и того же вида, объединенных общим местом обитания, в котором формируются популяции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рганизменный</a:t>
                      </a: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Отдельная особь определенного вида, способная к развитию как живая система – от момента зарождения до прекращения существован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леточный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Отдельная клетк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лекулярный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Молекулы веществ – органических и неорганических, которые входят в состав и клеток, и организм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3"/>
          <p:cNvSpPr/>
          <p:nvPr/>
        </p:nvSpPr>
        <p:spPr>
          <a:xfrm>
            <a:off x="4356000" y="1341360"/>
            <a:ext cx="258840" cy="4535640"/>
          </a:xfrm>
          <a:prstGeom prst="upArrow">
            <a:avLst>
              <a:gd name="adj1" fmla="val 50000"/>
              <a:gd name="adj2" fmla="val 438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advTm="16000">
    <p:pull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V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. Клетка –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Безымянный"/>
          <p:cNvPicPr/>
          <p:nvPr/>
        </p:nvPicPr>
        <p:blipFill>
          <a:blip r:embed="rId1"/>
          <a:srcRect l="27615" t="29889" r="34728" b="28994"/>
          <a:stretch/>
        </p:blipFill>
        <p:spPr>
          <a:xfrm>
            <a:off x="6084720" y="115920"/>
            <a:ext cx="3059280" cy="24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685800" y="1295280"/>
          <a:ext cx="5973840" cy="4648320"/>
        </p:xfrm>
        <a:graphic>
          <a:graphicData uri="http://schemas.openxmlformats.org/drawingml/2006/table">
            <a:tbl>
              <a:tblPr/>
              <a:tblGrid>
                <a:gridCol w="5973840"/>
              </a:tblGrid>
              <a:tr h="464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019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Клетка – целостная структура, которая имеет сложное строение. Имеет основные части  такие как ядро, цитоплазме, и мембрана. А также органоиды, которые выполняют определенные функции для поддержания жизни – жила клетка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019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019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КЛЕТКА – наилучший живой объект на котором хорошо представлены системы характеризующие живое с его целостностью и дискретностью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6000">
    <p:pull dir="r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4:59:14Z</dcterms:created>
  <dc:creator>user</dc:creator>
  <dc:description/>
  <dc:language>en-US</dc:language>
  <cp:lastModifiedBy>ученик</cp:lastModifiedBy>
  <dcterms:modified xsi:type="dcterms:W3CDTF">2008-01-11T01:32:50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