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6.gif" ContentType="image/gif"/>
  <Override PartName="/ppt/media/image1.wmf" ContentType="image/x-wmf"/>
  <Override PartName="/ppt/media/image10.wmf" ContentType="image/x-wmf"/>
  <Override PartName="/ppt/media/image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AF5-DC6B-4665-A848-AB374F65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1EA-407F-440C-94D6-0123112B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6C0-691D-46A5-9264-B83AEFE9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4C4-0F07-491A-AFC8-4D023E60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9C33-F0A6-44E9-A9A2-F3812E03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A512-784C-433D-9B41-FCA7AA5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94A9-17EA-4968-8BC7-B01D2C2C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4665-6092-4538-B9EC-1546A4CF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51E9-190A-4C04-9D23-714B16CB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EAFF-C5AB-4105-BE00-CB94A555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6A37-6256-4863-946A-63B811CF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E21-F53E-4326-9B03-FF51531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6884-F201-4AB2-A0EA-08B7FC73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BA50-C887-4D95-A3D0-66B22FEC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1EC2-C736-4BAF-9BBE-977F75E1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53A2-6D6F-45B4-B4C5-389846A7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0E7E-BFCE-4A66-9A1E-B1A3A2A7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4A5-310F-427F-9177-BB1BE2AD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E60-6847-434D-A169-55356E2D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00C-B4CC-4535-882B-99E82D34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692-1D5E-4BD0-8836-D3C8C98B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E40-435E-4323-B011-2A87E573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C4B-2895-40D0-B013-A4020943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9D6-D27B-443E-A7AE-FC65669E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66D0-4903-41D3-8262-8F0AF069C18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2C0C-9BB4-41D9-858C-CF4311DCD90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6966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Роль классного руководителя во время подготовки к итоговой аттестаци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онтроль участия учеников в диагностических работах в форме ЕГЭ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76960" y="2276640"/>
            <a:ext cx="19429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8360" y="4148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Личное сопереживание классного руководителя каждому выпускнику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58920" y="4005360"/>
            <a:ext cx="1728720" cy="2128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2781360"/>
            <a:ext cx="378000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Классный руководит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920" y="907920"/>
            <a:ext cx="2448000" cy="6494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дминистраци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907920"/>
            <a:ext cx="2447640" cy="6494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Школьные М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907920"/>
            <a:ext cx="2448000" cy="720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чител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редметни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797360"/>
            <a:ext cx="244800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чащиеся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4724280"/>
            <a:ext cx="244800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4653000"/>
            <a:ext cx="244800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сихолог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2920" y="2781360"/>
            <a:ext cx="316872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Ответственны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за итоговую аттестацию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00000" y="1557360"/>
            <a:ext cx="0" cy="122400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1197000"/>
            <a:ext cx="142920" cy="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126828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162864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59640" y="3429000"/>
            <a:ext cx="73080" cy="122400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3429000"/>
            <a:ext cx="0" cy="136836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5084640"/>
            <a:ext cx="287280" cy="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5084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3068640"/>
            <a:ext cx="720720" cy="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ошаговая модель деятельности классного руководителя во время подготовки к итоговой аттестаци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2492280"/>
            <a:ext cx="65404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Знакомство с основной информацией об итоговой аттест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404640"/>
            <a:ext cx="720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516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знакомление учащихся с правилами поведения на экзаменах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92360" y="1916280"/>
          <a:ext cx="4643280" cy="388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46432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знакомление учащихся с правилами заполнения бланковой документаци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3332160" cy="4497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200400" cy="44974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оведение собраний для выпускников и их родителей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овместная работа с психологом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«Профилактика стресса во время экзамена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1800000" cy="1350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нформация об экзаменах на стенде или в классном уголк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24000" y="3429000"/>
          <a:ext cx="2592360" cy="1871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429000"/>
                    <a:ext cx="25923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4000" y="1628640"/>
          <a:ext cx="2592360" cy="1791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628640"/>
                    <a:ext cx="259236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916360" y="1628640"/>
          <a:ext cx="2879640" cy="18003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1628640"/>
                    <a:ext cx="28796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916360" y="3429000"/>
          <a:ext cx="2879640" cy="187164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3429000"/>
                    <a:ext cx="28796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рмирование базы данных выпускни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одготовка списков учащихся, сдающих экзамены по выбор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осознанный выбор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редметов ЕГЭ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6:05:47Z</dcterms:created>
  <dc:creator>Света</dc:creator>
  <dc:description/>
  <dc:language>en-US</dc:language>
  <cp:lastModifiedBy>Света</cp:lastModifiedBy>
  <dcterms:modified xsi:type="dcterms:W3CDTF">2013-03-29T06:43:27Z</dcterms:modified>
  <cp:revision>6</cp:revision>
  <dc:subject/>
  <dc:title>Роль классного руководителя во время подготовки к итоговой аттестации.</dc:title>
</cp:coreProperties>
</file>