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gif" ContentType="image/gif"/>
  <Override PartName="/ppt/media/image7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33E0-7C6F-49F7-8ADF-D74977E74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809C-E5C1-4DE8-B77C-22B4578A7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2CA3-0212-4003-9816-E01A8731C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6EF2-68EB-41C5-9CFF-3204EFDE4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BF3BD-2B1F-4BD1-8554-884919C03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A429B-9DF2-4E00-AF8C-A7361E3B4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A74A9-CD6C-4D2F-ABDF-1976A6360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A014F-6C62-4E8C-AAC8-6D602533C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81071-ABFE-4FFA-9312-5290E9A7F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1390A-D727-4ACB-A18E-97FD7323B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EB4F7-91B1-4E4C-9872-58A5AF41D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FCDC-DCEB-4B19-966B-FD6715250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7540C-E835-4C33-BCBA-988AE2D79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B5933-BA1B-44AF-BEA9-A66C71184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C7F66-D768-4B74-8109-E44687A89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75329-9F3F-48DC-982E-07C5ED122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EBAD5-AEB2-40BD-AFCF-60DD945AE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A645-06C0-47A0-AE42-2ACC8F2F8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8C72-E742-49DA-90C4-815765A35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E170-61D6-46C1-918C-A114ACA87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5848-A52C-43AC-A74A-E3889F445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8939-7668-47AE-B2D9-505E531AF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2ACD-3ED7-4FAE-812E-12EA438DF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D237-82C1-4100-A27A-13ADC1EDC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50000">
              <a:srgbClr val="ffffff"/>
            </a:gs>
            <a:gs pos="100000">
              <a:srgbClr val="ff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5C9DB-2078-4EFF-B18A-5CB1B4E6E96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50000">
              <a:srgbClr val="ffffff"/>
            </a:gs>
            <a:gs pos="100000">
              <a:srgbClr val="ff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75989-E96D-4D04-A7F8-1D0A460A9DB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50000">
              <a:srgbClr val="ffffff"/>
            </a:gs>
            <a:gs pos="100000">
              <a:srgbClr val="ff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2565000"/>
            <a:ext cx="5113440" cy="27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В жизни ученика, как и в жизни учителя, урок занимает важное место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0" name="Picture 4" descr="GLOBUS"/>
          <p:cNvPicPr/>
          <p:nvPr/>
        </p:nvPicPr>
        <p:blipFill>
          <a:blip r:embed="rId1"/>
          <a:stretch/>
        </p:blipFill>
        <p:spPr>
          <a:xfrm>
            <a:off x="5508720" y="2233440"/>
            <a:ext cx="3203640" cy="29671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50000">
              <a:srgbClr val="ffffff"/>
            </a:gs>
            <a:gs pos="100000">
              <a:srgbClr val="ff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11280" y="220464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еобладает проблемное изложение знаний.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9" name="Picture 5" descr="question2"/>
          <p:cNvPicPr/>
          <p:nvPr/>
        </p:nvPicPr>
        <p:blipFill>
          <a:blip r:embed="rId1"/>
          <a:stretch/>
        </p:blipFill>
        <p:spPr>
          <a:xfrm>
            <a:off x="4932360" y="4292640"/>
            <a:ext cx="3112920" cy="18478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50000">
              <a:srgbClr val="ffffff"/>
            </a:gs>
            <a:gs pos="100000">
              <a:srgbClr val="ff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95280" y="2276280"/>
            <a:ext cx="83520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ff"/>
                </a:solidFill>
                <a:latin typeface="Tahoma"/>
              </a:rPr>
              <a:t>«Скажи мне – и я забуду.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ff"/>
                </a:solidFill>
                <a:latin typeface="Tahoma"/>
              </a:rPr>
              <a:t>Покажи мне – и я запомню.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ff"/>
                </a:solidFill>
                <a:latin typeface="Tahoma"/>
              </a:rPr>
              <a:t>Вовлеки меня – и я                        научусь».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50000">
              <a:srgbClr val="ffffff"/>
            </a:gs>
            <a:gs pos="100000">
              <a:srgbClr val="ff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50720" y="620280"/>
            <a:ext cx="779292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8000"/>
                </a:solidFill>
                <a:latin typeface="Freestyle Script"/>
              </a:rPr>
              <a:t>Новый материал на уроке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71640" y="2421000"/>
            <a:ext cx="7772400" cy="29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Tahoma"/>
              </a:rPr>
              <a:t>А. объясняется учителем интересно и доступн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Tahoma"/>
              </a:rPr>
              <a:t>Б.  практически не объясняетс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Tahoma"/>
              </a:rPr>
              <a:t>В. изучаем новое самостоятельн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50000">
              <a:srgbClr val="ffffff"/>
            </a:gs>
            <a:gs pos="100000">
              <a:srgbClr val="ff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50720" y="333000"/>
            <a:ext cx="7792920" cy="112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Задание на дом 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71640" y="2421000"/>
            <a:ext cx="7772400" cy="29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А.  объясняется учителем на урок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Б.  дается после звонк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В.  по объему нормально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Г.  по объему слишком большо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50000">
              <a:srgbClr val="ffffff"/>
            </a:gs>
            <a:gs pos="100000">
              <a:srgbClr val="ff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95280" y="221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Качество подобранного материал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Четкая организация урок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Выбор оптимальных форм и методов обуч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Моторная плотность урок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Умение дать и умение взя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Дифференциация обуч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Профессионализ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971640" y="333360"/>
            <a:ext cx="8208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Какой урок, по-вашему мнению, можно считать эффективным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50000">
              <a:srgbClr val="ffffff"/>
            </a:gs>
            <a:gs pos="100000">
              <a:srgbClr val="ff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2987280" y="1628640"/>
            <a:ext cx="554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Отличны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Интересны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Хорош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Содержательны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Заставляющий работа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Нормальный, обычны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Скучны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Бесполезный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2" name="Picture 4" descr="Девочка1"/>
          <p:cNvPicPr/>
          <p:nvPr/>
        </p:nvPicPr>
        <p:blipFill>
          <a:blip r:embed="rId1"/>
          <a:stretch/>
        </p:blipFill>
        <p:spPr>
          <a:xfrm>
            <a:off x="6443640" y="404640"/>
            <a:ext cx="2073240" cy="2160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задумался"/>
          <p:cNvPicPr/>
          <p:nvPr/>
        </p:nvPicPr>
        <p:blipFill>
          <a:blip r:embed="rId2"/>
          <a:stretch/>
        </p:blipFill>
        <p:spPr>
          <a:xfrm>
            <a:off x="468360" y="4581360"/>
            <a:ext cx="1373040" cy="18003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50000">
              <a:srgbClr val="ffffff"/>
            </a:gs>
            <a:gs pos="100000">
              <a:srgbClr val="ff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84000" y="333360"/>
            <a:ext cx="59374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Что значит слово</a:t>
            </a: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 «эффективность»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92360" y="2492280"/>
            <a:ext cx="6045120" cy="15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Какой урок можно считать</a:t>
            </a: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 эффективным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190800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От чего зависит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эффективность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урока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50000">
              <a:srgbClr val="ffffff"/>
            </a:gs>
            <a:gs pos="100000">
              <a:srgbClr val="ff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20464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ff"/>
                </a:solidFill>
                <a:latin typeface="Tahoma"/>
              </a:rPr>
              <a:t>Эффективность любого урока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ff"/>
                </a:solidFill>
                <a:latin typeface="Tahoma"/>
              </a:rPr>
              <a:t>определяется не тем, что дает детям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ff"/>
                </a:solidFill>
                <a:latin typeface="Tahoma"/>
              </a:rPr>
              <a:t>учитель, а тем, что они взяли в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ff"/>
                </a:solidFill>
                <a:latin typeface="Tahoma"/>
              </a:rPr>
              <a:t>процессе обучения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50000">
              <a:srgbClr val="ffffff"/>
            </a:gs>
            <a:gs pos="100000">
              <a:srgbClr val="ff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25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Tahoma"/>
              </a:rPr>
              <a:t>Неумелое использование  оборудова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Tahoma"/>
              </a:rPr>
              <a:t>Различный темп работы ученик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Tahoma"/>
              </a:rPr>
              <a:t>Неумелое распределение времени урок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Tahoma"/>
              </a:rPr>
              <a:t>Непродуманность организационных момент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WordArt 5"/>
          <p:cNvSpPr txBox="1"/>
          <p:nvPr/>
        </p:nvSpPr>
        <p:spPr>
          <a:xfrm>
            <a:off x="1187280" y="404640"/>
            <a:ext cx="7452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50000">
                      <a:srgbClr val="ffff00"/>
                    </a:gs>
                    <a:gs pos="100000">
                      <a:srgbClr val="3333cc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ичины потери времени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50000">
                    <a:srgbClr val="ffff00"/>
                  </a:gs>
                  <a:gs pos="100000">
                    <a:srgbClr val="3333cc"/>
                  </a:gs>
                </a:gsLst>
                <a:lin ang="189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50000">
              <a:srgbClr val="ffffff"/>
            </a:gs>
            <a:gs pos="100000">
              <a:srgbClr val="ff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280" y="1988640"/>
            <a:ext cx="4248360" cy="396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Опрос учащихся 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лишь 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у классной 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доски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1" name="Picture 4" descr="учитель"/>
          <p:cNvPicPr/>
          <p:nvPr/>
        </p:nvPicPr>
        <p:blipFill>
          <a:blip r:embed="rId1"/>
          <a:stretch/>
        </p:blipFill>
        <p:spPr>
          <a:xfrm>
            <a:off x="5367240" y="1989000"/>
            <a:ext cx="3124440" cy="45831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50000">
              <a:srgbClr val="ffffff"/>
            </a:gs>
            <a:gs pos="100000">
              <a:srgbClr val="ff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51280" y="2276640"/>
            <a:ext cx="4788000" cy="27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Опрос учащихся преимущественно 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по вопросам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3" name="Picture 5" descr="училка"/>
          <p:cNvPicPr/>
          <p:nvPr/>
        </p:nvPicPr>
        <p:blipFill>
          <a:blip r:embed="rId1"/>
          <a:stretch/>
        </p:blipFill>
        <p:spPr>
          <a:xfrm>
            <a:off x="826920" y="2492280"/>
            <a:ext cx="2694240" cy="33847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50000">
              <a:srgbClr val="ffffff"/>
            </a:gs>
            <a:gs pos="100000">
              <a:srgbClr val="ff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1988640"/>
            <a:ext cx="4176720" cy="374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Знания учащихся оцениваются 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чаще всего 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в конце урока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5" name="Picture 4" descr="учитель"/>
          <p:cNvPicPr/>
          <p:nvPr/>
        </p:nvPicPr>
        <p:blipFill>
          <a:blip r:embed="rId1"/>
          <a:stretch/>
        </p:blipFill>
        <p:spPr>
          <a:xfrm>
            <a:off x="5367240" y="1989000"/>
            <a:ext cx="3124440" cy="45831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50000">
              <a:srgbClr val="ffffff"/>
            </a:gs>
            <a:gs pos="100000">
              <a:srgbClr val="ff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31640" y="1988640"/>
            <a:ext cx="532764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При оценке знаний 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учащихся особое 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внимание концентрируется 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на полноте сообщенной 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информации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7" name="Picture 4" descr="human139"/>
          <p:cNvPicPr/>
          <p:nvPr/>
        </p:nvPicPr>
        <p:blipFill>
          <a:blip r:embed="rId1"/>
          <a:stretch/>
        </p:blipFill>
        <p:spPr>
          <a:xfrm>
            <a:off x="5219640" y="4195800"/>
            <a:ext cx="3384720" cy="22575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1T09:03:49Z</dcterms:created>
  <dc:creator>Виктория</dc:creator>
  <dc:description/>
  <dc:language>en-US</dc:language>
  <cp:lastModifiedBy>Света</cp:lastModifiedBy>
  <dcterms:modified xsi:type="dcterms:W3CDTF">2012-01-05T11:23:39Z</dcterms:modified>
  <cp:revision>119</cp:revision>
  <dc:subject/>
  <dc:title>«Эффективность урока – стимул к успеху учителя и ученика»</dc:title>
</cp:coreProperties>
</file>