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52A-F0DB-451C-BFF1-52FE98A7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086-9BDC-4366-8E5D-E38C66EB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D92-2442-4EDD-8B57-311D2A9D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72A-3801-4343-9739-6D9BDE06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D583-EDEE-484E-88F3-5A5F1364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1FF7-302D-4126-A85B-FF14225E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4983-3B56-406B-89AF-EB581785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34B1-DA13-4AC0-A0E0-133A67C3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8628-0F6C-4DDB-831C-83531FD6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BA11-AAB4-4E3E-9104-D76F7480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B44F-7E6A-4C45-84F4-5DA542C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B4C-4E67-4A7E-83C3-E13E4334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CFD7-DB7A-47AB-A366-221EE740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05E9-2A0C-421F-A802-2F8E421B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6EC8-B02C-45C1-ABA9-77D133BC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7E2B-1EF5-4D20-A732-71230C47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4D48-9633-49B5-9775-347D61C4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029-8EB3-4EE7-8EDC-DCD7BB68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76A-D90E-41A5-8D8A-FB2FEBD4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6B7-D55C-454D-80E6-65F1ED67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457-B2A7-4BB4-8223-27C52AE0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283-3566-4402-87F3-3563267A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359-B18C-4ED6-B004-52EE3626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287-14CA-440F-A5A3-CD41C072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D9D6-7689-4783-ABA0-0FAB397650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5975-2B2C-43FC-A984-1BD3E31E77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24000" y="392040"/>
            <a:ext cx="7561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Дифференциация обучения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работа  с детьми, проявляющими способност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со слабоуспевающими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и неуспевающими  обучающимис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human139"/>
          <p:cNvPicPr/>
          <p:nvPr/>
        </p:nvPicPr>
        <p:blipFill>
          <a:blip r:embed="rId1"/>
          <a:stretch/>
        </p:blipFill>
        <p:spPr>
          <a:xfrm>
            <a:off x="3564000" y="3716280"/>
            <a:ext cx="3816360" cy="2544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ЕМЫ УЧЕБНОЙ МОТИВАЦИИ ШКОЛЬНИК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1600200"/>
          <a:ext cx="8353440" cy="4896000"/>
        </p:xfrm>
        <a:graphic>
          <a:graphicData uri="http://schemas.openxmlformats.org/drawingml/2006/table">
            <a:tbl>
              <a:tblPr/>
              <a:tblGrid>
                <a:gridCol w="2784240"/>
                <a:gridCol w="2784600"/>
                <a:gridCol w="2784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успеваемост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успеваем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успеваем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еожиданный вызов к доск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ыбор трудного или легкого варианта контрольной или самостоятельной рабо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нтересная проблема на урок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ка учеником своего ответа у доск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слабленный контроль учителя за работой ученика у дос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ыбор трудного или легкого варианта контрольной или самостоятельной рабо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дбор нетрудных, но увлекательных заданий, которые создадут в классе особый позитивный  настр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дбор нетрудных, но увлекательных заданий, которые создадут в классе особый позитивный настр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ы приемов для реализации личностно-ориентированного обуч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я, с учётом степеней трудности, должны подбираться учителем, но выбираться учащимися индивидуально, самостоятельно, по своим силам. В данном случае дифференциация будет осуществляться не от учителя, а от ученика. Такую дифференциацию можно осуществить как при опросе, так и при усвоении и закреплении знаний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0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амоопрос или самоконтроль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050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осуществления дифференцированного подхода при опросе применяется два переносных стенда, на которых расположены в 4 ряда ячейки-кармашки. Все ячейки пронумерованы. К примеру, верхний ряд от 1 до 13, второй сверху от 14 до 27 и т.д. В ячейки первого стенда кладутся задания. Обычно это определения какого-либо термина. Необходимо этот термин назвать. Ответ на это задание в основном рассчитан </a:t>
            </a:r>
            <a:r>
              <a:rPr b="1" lang="en-US" sz="2000" spc="-1" strike="noStrike" u="sng">
                <a:solidFill>
                  <a:srgbClr val="3366ff"/>
                </a:solidFill>
                <a:uFillTx/>
                <a:latin typeface="Arial"/>
              </a:rPr>
              <a:t>на узнаван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Задания второго ряда рассчитаны </a:t>
            </a:r>
            <a:r>
              <a:rPr b="1" lang="en-US" sz="2000" spc="-1" strike="noStrike" u="sng">
                <a:solidFill>
                  <a:srgbClr val="3366ff"/>
                </a:solidFill>
                <a:uFillTx/>
                <a:latin typeface="Arial"/>
              </a:rPr>
              <a:t>на воспроизведен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материала. Например, дать определение какого-либо понятия. В третьем ряду задания даются, к примеру, </a:t>
            </a:r>
            <a:r>
              <a:rPr b="1" lang="en-US" sz="2000" spc="-1" strike="noStrike" u="sng">
                <a:solidFill>
                  <a:srgbClr val="3366ff"/>
                </a:solidFill>
                <a:uFillTx/>
                <a:latin typeface="Arial"/>
              </a:rPr>
              <a:t>на нахождение соотношен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между какими-либо явлениями. Четвёртый ряд представлен заданиями </a:t>
            </a:r>
            <a:r>
              <a:rPr b="1" lang="en-US" sz="2000" spc="-1" strike="noStrike" u="sng">
                <a:solidFill>
                  <a:srgbClr val="3366ff"/>
                </a:solidFill>
                <a:uFillTx/>
                <a:latin typeface="Arial"/>
              </a:rPr>
              <a:t>проблемного характе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Нетрудно заметить, что задания I и II рядов рассчитаны в основном на работу памяти, задания III и IV рядов - работу мышления, на умение рассуждать, находить сходство и раз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549360"/>
            <a:ext cx="80503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вый ряд вопросов самый лёгкий. Второй - более трудный, третий - еще сложнее. Самый сложный ряд - четвертый. По данному принципу можно составлять задания по любому школьному предм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вет учащихся за каждое задание оценивается баллами. Ответ на любое задание нижнего ряда оценивается одним баллом, второго - двумя, третьего - тремя, четвертого - четырьмя баллами. Учащиеся имеют право самостоятельно набрать задания на то количество, на которое они хотят ответить. Обычно все хотят ответить на 5 баллов. Значит, нужно набрать заданий тоже на 5 баллов. Брать задания можно с любых рядов и в любой комбинации. Например, можно взять пять заданий, что в сумме даст 5 баллов, можно взять одно задание с верхнего и одно с нижнего рядов - это тоже даст 5 баллов. Комбинация может быть любой по усмотрению учащихся, по их возможнос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050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же учащийся не справился с заданием, то он может его обменять на более лёгкие задания нижележащих рядов. Эти задания в своей сумме должны дать количество баллов, соответствующих нерешенному зад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ость ответов учащиеся сверяют на доске самоконтроля, в которой в кармашках под такими же номерами даны ответы на задания. Если ответ правильный, учащийся ставит себе на листочке, где он выполнял задание, соответствующее количество баллов, если нет - разменивает на более лёгкие задания. В это время учитель может осуществлять другие формы актуализации зн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временно у стенда самоопроса может работать любое количество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подготовлены не для конкретной личности, а для общей массы учащихся. Дифференциацию заданий осуществляют сами учащиеся. Индивидуальный подход осуществляется не “в лоб”, не навязчиво, а незаметно для самого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812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050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нный подход снимает известную всем психологическую напряжённость у учащихся перед опросом - напряженность ожидания: вызовут или не вызовут? Исчезает страх перед вопросами учителя, перед возможностью получения отрицательной отметки. Данный подход позволяет ученику почувствовать себя равным со всеми, даёт возможность к самосовершенствованию. Кроме того, такой подход освобождает учителя от работы по подбору заданий, рассчитанных на конкретного ученика. Основной задачей преподавателя становится стимуляция учащихся, он должен следить, чтобы ученики не останавливались на достигнутом, а делали постоянные попытки продвижения впе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0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Каждый человек - единственный и неповторимый в своей индивидуальности. В процессе обучения и воспитания мы должны учитывать индивидуальность и неповторимость каждого уче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780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684360" y="907920"/>
            <a:ext cx="3816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аренные</a:t>
            </a:r>
            <a:endParaRPr b="0" lang="en-US" sz="1800" spc="1" strike="noStrike">
              <a:ln w="936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3924360" y="2492280"/>
            <a:ext cx="4681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2b2b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абоуспевающие</a:t>
            </a:r>
            <a:endParaRPr b="0" lang="en-US" sz="1800" spc="1" strike="noStrike">
              <a:ln w="9360">
                <a:solidFill>
                  <a:srgbClr val="b2b2b2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6" descr="human78"/>
          <p:cNvPicPr/>
          <p:nvPr/>
        </p:nvPicPr>
        <p:blipFill>
          <a:blip r:embed="rId5"/>
          <a:stretch/>
        </p:blipFill>
        <p:spPr>
          <a:xfrm>
            <a:off x="5003640" y="4149720"/>
            <a:ext cx="2800440" cy="242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0283635"/>
          <p:cNvPicPr/>
          <p:nvPr/>
        </p:nvPicPr>
        <p:blipFill>
          <a:blip r:embed="rId6"/>
          <a:stretch/>
        </p:blipFill>
        <p:spPr>
          <a:xfrm>
            <a:off x="1042920" y="2997360"/>
            <a:ext cx="2160720" cy="1771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"/>
          <p:cNvSpPr/>
          <p:nvPr/>
        </p:nvSpPr>
        <p:spPr>
          <a:xfrm>
            <a:off x="900000" y="4724280"/>
            <a:ext cx="82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omic Sans MS"/>
              </a:rPr>
              <a:t>воспитание интереса к изучаемому , стимулирование мыслительной деятельности, создание атмосферы творческой работ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619280" y="3645000"/>
            <a:ext cx="69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omic Sans MS"/>
              </a:rPr>
              <a:t>опора на положительное и создани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omic Sans MS"/>
              </a:rPr>
              <a:t>условий для развит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826920" y="333360"/>
            <a:ext cx="7345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33"/>
                </a:solidFill>
                <a:latin typeface="Comic Sans MS"/>
              </a:rPr>
              <a:t>внимательное изуч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54040" y="1011240"/>
            <a:ext cx="726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omic Sans MS"/>
              </a:rPr>
              <a:t>индивидуальных особенностей учащихс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951840" y="1803240"/>
            <a:ext cx="2312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omic Sans MS"/>
              </a:rPr>
              <a:t>склонност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4410360" y="2205000"/>
            <a:ext cx="193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omic Sans MS"/>
              </a:rPr>
              <a:t>интерес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455760" y="2924280"/>
            <a:ext cx="3533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omic Sans MS"/>
              </a:rPr>
              <a:t>состояния здоровь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Цели индивидуально-личностного подхода при обуч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личностного потенциала обучающего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умения учить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квидация пробелов в знаниях и оказание помощи слабоуспевающим ученика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овлетворение индивидуальных особенностей и потребностей школь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0" y="2362320"/>
          <a:ext cx="9000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2362320"/>
                    <a:ext cx="9000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79280" y="40464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Знать особенности нервной систем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Обязательными факторами, влияющими на успешность обучения, являются особенности нервной системы и такие ее показатели, как сила/слабость и подвижность/инертность нерв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Соблюдение психологических правил при работе со слабыми и инертными учениками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1600200"/>
          <a:ext cx="7772400" cy="4186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С учащимися со сла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нервной системо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С инертными ученикам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 ставьте слабого ученика в ситуацию неожиданного вопроса и быстрого ответа на него; дайте время на обдумывание и подготовк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 требуйте от них немедленных ответов и включения в работу. Их активность и выполнение нового вида заданий возрастает постепенно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Желательно, чтобы ответ был не в устной, а в письменной форм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чтите, что инертные ученики не могут проявлять высокую активность в выполнении задани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е давайте для усвоения в ограниченное время большой разнообразный материал; нужно разбить его на отдельные фрагмент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е требуйте быстрого изменения неудачных формулировок: ученику необходимо время на обдумывани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Соблюдение психологических правил при работе со слабыми и инертными учениками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2362320"/>
          <a:ext cx="7693200" cy="379404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С учащимися со слаб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нервной систем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С инертными уче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Не заставляйте отвечать по новому, только что усвоенному материалу, отложите опрос на следующий ур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Не следует проводить опрос в начале урок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равильный опрос и поощрение формируют уверенность ученика в себ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Избегайте ситуаций, когда требуется быстрый, умный ответ. Дайте ученику время на обдумывание и подготовк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Во время подготовки ответа дайте ему время для проверки и исправления написанн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В момент выполнения заданий не отвлекайте, не переключайте его внимание на что-то друго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Старайтесь не переключать внимание ученика, создавайте спокойную, не нервную обстанов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Желательно не заставлять инертного ученика отвечать новый материа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Требования к задания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олжны соответствовать познавательным возможностям, способностям, а так же состояниям и темпам обучения каждого конкретного ученика. Для этого разноуровневые задания должны предоставлять ребенку возможность свободного выбора линии поведения в процессе учения и создавать предпосылки для появления у каждого ребенка чувства успешности своей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7:12:02Z</dcterms:created>
  <dc:creator>1</dc:creator>
  <dc:description/>
  <dc:language>en-US</dc:language>
  <cp:lastModifiedBy>Света</cp:lastModifiedBy>
  <dcterms:modified xsi:type="dcterms:W3CDTF">2013-03-29T06:34:19Z</dcterms:modified>
  <cp:revision>15</cp:revision>
  <dc:subject/>
  <dc:title>Проведение уроков с учетом индивидуально-личностного подхода  </dc:title>
</cp:coreProperties>
</file>