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665-49F6-462F-BC10-6C4A2F35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CBD-1B8C-4E85-85E3-682E82C2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AD0-BAAA-4DA2-9596-2455704E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CC6B-FF98-4A70-88FC-36904AEC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4E1F-14A4-4ACD-B1F8-B3D20BD9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6B05-B0DC-4D6A-AAAB-0CF57CDF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ECA6-CDD1-4B3D-9B7B-7191F713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A64C-5A2D-4F76-818E-3DD8C68B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52A3-8A49-41A8-804F-220BA78A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4E97-BC81-4E7E-86A4-E646D160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AD39-6FCE-4D9B-8166-1673D111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701-AEB6-41DC-9208-CEEE3053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C69B-BE38-4F3F-9937-59FC96E3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CD29-4040-467E-A7C5-8684C492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A433-76AA-4DDA-83E8-6DAE35E7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AD5E-A915-422F-96DB-9CA98B8D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09AC-E708-4C76-80B5-45BDA1D8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F56-31F2-4C4A-8570-9B5246A4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EDA-A691-4ED6-A73C-051D9106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B037-5C66-44B1-8B4D-B59D9FEE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441-17D5-46A2-A382-ECA1409C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B45E-BCE4-439E-81A9-36B5294B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4523-6E33-4607-98EA-2829B665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B9E-20AD-4F87-996E-1CDE4B6F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2879-9A2A-4D1B-9DE5-893767F65F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28F0-27C2-4F19-BC6B-57343CD5A6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79640" y="1268280"/>
            <a:ext cx="640872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0033"/>
                </a:solidFill>
                <a:latin typeface="Times New Roman"/>
              </a:rPr>
              <a:t>Центр образования Московского района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47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ационная деятельность классного руководителя по повышению успеваемости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25000" y="609300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Правила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 педагогического взаимодейств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Проявлять педагогический такт(принимать ребенка таким какой он ест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Уметь слуш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Уметь по внешним признакам определить состояние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Владеть культурой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Управлять голос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Уметь управлять своим состоянием, чувст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Владеть приемами длительного   включения положительных эмо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Излучать тепло, любовь,      доброжела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Правила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 педагогического взаимодейств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400" y="169992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 Принимать ребенка - </a:t>
            </a:r>
            <a:r>
              <a:rPr b="1" lang="ru-RU" sz="2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чит проявлять к нему терпимость, стремиться понять его и помочь 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  Проявление уважения к личности и поддержание чувства собственного достоинства в кажд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. «Уважать- душевно признавать достоинства человека»(В.Дал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. Оосознание права личности быть непохожей на друг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3. Представление права на свободу выб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Правила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 педагогического взаимодейств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Оценка не личности ребенка, а его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Владение способностью чувствовать, понимать каждого ребенка смотреть на проблему его глазами, с его пози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 Учитывать индивидуально- психологические и личностные особенности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Правила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 педагогического взаимодейств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2349360"/>
            <a:ext cx="77724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Можно быть профессором в области своего предме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но если нет взаимодействия между педагогом и ученик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результатов образования не буд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Функции классного руководител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ти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гност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ационно-координиру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муникати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Функции и содержание работы </a:t>
            </a:r>
            <a:br>
              <a:rPr sz="3800"/>
            </a:br>
            <a:r>
              <a:rPr b="0" lang="en-US" sz="3800" spc="-1" strike="noStrike">
                <a:solidFill>
                  <a:srgbClr val="0099ff"/>
                </a:solidFill>
                <a:latin typeface="Times New Roman"/>
              </a:rPr>
              <a:t>Аналитическая функц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ая функция определяет следующее содержание работы классного руководителя по повышению успеваемости учащих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индивидуальных особенностей детей и подрост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и анализ состояния и условий семейного воспитания каждого воспитанн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и оценка уровня обученности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и анализ влияния коллектива на отдельных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и анализ  влияний окружающей среды на успеваемость учащихся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Функции и содержание работы </a:t>
            </a:r>
            <a:br>
              <a:rPr sz="3800"/>
            </a:br>
            <a:r>
              <a:rPr b="0" lang="en-US" sz="3800" spc="-1" strike="noStrike">
                <a:solidFill>
                  <a:srgbClr val="0099ff"/>
                </a:solidFill>
                <a:latin typeface="Times New Roman"/>
              </a:rPr>
              <a:t>Прогностическая функц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видение уровня успеваемости учащихся за временной перио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нозирование уровней индивидуального развития учащих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нозирование динамики успеваемости  коллекти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ение ближних и дальних перспектив по повышению успеваем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видение последствий складывающихся в детском коллективе отнош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жду воспитанник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жду педагогами и воспитанник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дагогами и родителями уча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Функции и содержание работы </a:t>
            </a:r>
            <a:br>
              <a:rPr sz="3800"/>
            </a:br>
            <a:r>
              <a:rPr b="0" lang="en-US" sz="3800" spc="-1" strike="noStrike">
                <a:solidFill>
                  <a:srgbClr val="0099ff"/>
                </a:solidFill>
                <a:latin typeface="Times New Roman"/>
              </a:rPr>
              <a:t>Организационно-координирующая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щь и сотрудничество в планировании работы по повышению успеваемости учащих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щь и сотрудничество в деятельности актива класс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ация взаимодействия с семьями учащих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мулирование учебной деятельности 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ординация деятельности учителей- предметников,  психолога, социального педагог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стие в создании оптимального психологического климата для плодотворной учебной раб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Функции и содержание работы </a:t>
            </a:r>
            <a:br>
              <a:rPr sz="3800"/>
            </a:br>
            <a:r>
              <a:rPr b="0" lang="en-US" sz="3800" spc="-1" strike="noStrike">
                <a:solidFill>
                  <a:srgbClr val="0099ff"/>
                </a:solidFill>
                <a:latin typeface="Times New Roman"/>
              </a:rPr>
              <a:t>Коммуникативная функц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206028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Педагогическое общение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это взаимодействие педагога и учащихся, обеспечивающее мотивацию, результативность, творческий характер и воспитательный эффект совместной коммуникатив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щь в установлении и регулировании межличностных отношений в детской и подростковой сред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оптимальных взаимоотношений: "учитель - ученик", "учитель - родители", "родители - ученик" и т.д.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щь учащимся в установлении отношений с учителями- предметника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рекция (совместно с психологом, социальным педагогом) поведения учащихся, имеющих проблемы в успевае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6438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Коммуникативная функц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Формы работы классного руководителя по повышению успеваемости учащихс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индивидуальные  (беседа, консультация и др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групповые (творческие группы, органы самоуправления и др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оллективные (соревнования, предметные недели, творческие рабо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Связи по должности классного руководителя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по повышению успеваемости учащихся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2327040"/>
            <a:ext cx="2808000" cy="29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лассный руководитель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19280" y="1599840"/>
            <a:ext cx="526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уппа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я- предмет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дминистрация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сихологическая служ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ый педаг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ственные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6:10:22Z</dcterms:created>
  <dc:creator>Света</dc:creator>
  <dc:description/>
  <dc:language>en-US</dc:language>
  <cp:lastModifiedBy>Света</cp:lastModifiedBy>
  <dcterms:modified xsi:type="dcterms:W3CDTF">2013-03-29T06:55:23Z</dcterms:modified>
  <cp:revision>7</cp:revision>
  <dc:subject/>
  <dc:title>Муниципальное общеобразовательное учреждение  средняя общеобразовательная школа №9 г. Шуя</dc:title>
</cp:coreProperties>
</file>