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9.gif" ContentType="image/gif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gif" ContentType="image/gif"/>
  <Override PartName="/ppt/media/image12.gif" ContentType="image/gif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  <p:sldId id="283" r:id="rId51"/>
    <p:sldId id="284" r:id="rId52"/>
    <p:sldId id="285" r:id="rId53"/>
    <p:sldId id="286" r:id="rId54"/>
    <p:sldId id="287" r:id="rId55"/>
    <p:sldId id="288" r:id="rId56"/>
    <p:sldId id="289" r:id="rId57"/>
    <p:sldId id="290" r:id="rId58"/>
    <p:sldId id="291" r:id="rId59"/>
    <p:sldId id="292" r:id="rId60"/>
    <p:sldId id="293" r:id="rId61"/>
    <p:sldId id="294" r:id="rId62"/>
    <p:sldId id="295" r:id="rId63"/>
    <p:sldId id="296" r:id="rId64"/>
    <p:sldId id="297" r:id="rId65"/>
    <p:sldId id="298" r:id="rId66"/>
    <p:sldId id="299" r:id="rId67"/>
    <p:sldId id="300" r:id="rId68"/>
    <p:sldId id="30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slide" Target="slides/slide28.xml"/><Relationship Id="rId52" Type="http://schemas.openxmlformats.org/officeDocument/2006/relationships/slide" Target="slides/slide29.xml"/><Relationship Id="rId53" Type="http://schemas.openxmlformats.org/officeDocument/2006/relationships/slide" Target="slides/slide30.xml"/><Relationship Id="rId54" Type="http://schemas.openxmlformats.org/officeDocument/2006/relationships/slide" Target="slides/slide31.xml"/><Relationship Id="rId55" Type="http://schemas.openxmlformats.org/officeDocument/2006/relationships/slide" Target="slides/slide32.xml"/><Relationship Id="rId56" Type="http://schemas.openxmlformats.org/officeDocument/2006/relationships/slide" Target="slides/slide33.xml"/><Relationship Id="rId57" Type="http://schemas.openxmlformats.org/officeDocument/2006/relationships/slide" Target="slides/slide34.xml"/><Relationship Id="rId58" Type="http://schemas.openxmlformats.org/officeDocument/2006/relationships/slide" Target="slides/slide35.xml"/><Relationship Id="rId59" Type="http://schemas.openxmlformats.org/officeDocument/2006/relationships/slide" Target="slides/slide36.xml"/><Relationship Id="rId60" Type="http://schemas.openxmlformats.org/officeDocument/2006/relationships/slide" Target="slides/slide37.xml"/><Relationship Id="rId61" Type="http://schemas.openxmlformats.org/officeDocument/2006/relationships/slide" Target="slides/slide38.xml"/><Relationship Id="rId62" Type="http://schemas.openxmlformats.org/officeDocument/2006/relationships/slide" Target="slides/slide39.xml"/><Relationship Id="rId63" Type="http://schemas.openxmlformats.org/officeDocument/2006/relationships/slide" Target="slides/slide40.xml"/><Relationship Id="rId64" Type="http://schemas.openxmlformats.org/officeDocument/2006/relationships/slide" Target="slides/slide41.xml"/><Relationship Id="rId65" Type="http://schemas.openxmlformats.org/officeDocument/2006/relationships/slide" Target="slides/slide42.xml"/><Relationship Id="rId66" Type="http://schemas.openxmlformats.org/officeDocument/2006/relationships/slide" Target="slides/slide43.xml"/><Relationship Id="rId67" Type="http://schemas.openxmlformats.org/officeDocument/2006/relationships/slide" Target="slides/slide44.xml"/><Relationship Id="rId68" Type="http://schemas.openxmlformats.org/officeDocument/2006/relationships/slide" Target="slides/slide45.xml"/><Relationship Id="rId69" Type="http://schemas.openxmlformats.org/officeDocument/2006/relationships/slide" Target="slides/slide4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ABC-9926-44B7-90F9-2F222ECA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2301-4E8E-4D9F-BF37-1CE99423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EC5F9-F076-498C-88DB-91E87191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1249E-3E1C-4670-83E9-9F63D269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BD9EF-5196-4948-8D11-3D33D5A5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0BF26-5E57-477A-8C9B-7C3E866C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EB10F-01F2-44F6-80DD-EE15520C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3B2FA-11DD-436B-8C3D-79BC4973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DA7CF-ABB0-4C3E-A270-DC39E1E8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1B9E7-B33B-466D-8A02-9D52C1B9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55179-E723-4D23-BB72-8B909CA0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64981-72F7-491B-9342-A63A694F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6EAF-A08D-489B-B30D-F635F9BE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4005A-DD67-4197-B6F8-2340C190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9E3B1-4071-4E07-89A5-2AA6207F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083A4-215C-4A85-A010-2ACFBFF8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775B8-9FD5-4E87-A80F-56B1480F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8211D-147C-4BC0-BA49-B4B1725B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D486F-196F-4096-B16D-760A648A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7E64F-8E54-4CD9-8AB2-13332E6B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3B1E1-6978-430C-9BD3-183FC0DE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71919-1F20-45FD-AA7A-306D020F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01F8F-363C-4C41-B295-D7EFACFE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099-B035-4AAF-BEF2-D236EB01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D2098-183B-4C43-9D89-66BEAA55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D4527-6907-4F8E-8324-5ADCCC9F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785B3-234A-413F-A1D4-35E34B5B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41EAC-C4EC-4738-ADF0-2BE7B80D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91091-E81D-42F2-B6AB-8C2EEFF0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11941-491A-4915-9A3B-A7D09E7F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F7F69-11AF-4D1B-89A6-58CC2586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4728D-C5C7-4D62-9598-AEE598F7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36A34-308E-40BC-BAD5-7B255546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3616E-EB8D-4584-865D-68AED2B8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43CC-365C-44B9-BD82-FAB3939A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BE05C-0402-4733-840F-D3172E7E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7E6D4-2976-4935-AF2C-9B44F8D0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D3B85-81AF-4DC2-BE8D-DF70C722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AAD6ED-8D3F-4D51-AA17-97F23590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C8C3BF-5C64-4E19-9300-1CEC4CD5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461E1B-B0B0-423D-BCA5-FA691FF8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FBDC66-8071-465C-B686-591A8BE8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23FBF3-489B-42D2-98C6-5594D01A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8B9274-C1BA-4019-9F07-913F4217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92E6B8-941E-4DCC-BB10-128A7271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F277-50D6-40BF-8EAF-F10AB005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31BD99-DB70-45DE-A3C5-CA4459A7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0F9594-5A1E-497A-AAED-705A3ED1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453F8F-CFFC-4254-A7B1-81B015F9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D526F1-1E3F-47ED-9DE9-3B25E980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6E40ED-FB62-4569-946B-B2A9FBDD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B934D4-4AA3-4E6C-9AC7-39E76827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FB056C-CD9B-4625-90B0-421869B3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9190B2-ACEE-4179-B795-867740CF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A28400-FE87-4D5E-8C1F-6546E8D1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24744A-7427-42EE-B1B3-ABF2BB10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F7E0-76AB-4C5C-A5A1-4456CFAB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1099D2-DB82-4409-862C-04C9BF46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A7ECC-3C69-46A9-8771-35D1030A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B6E3E0-1864-4EA8-85D3-FBB428DD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CC035-38C7-4203-92E8-9E4EF52A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8F9060-0E8D-4053-9E59-028B3CF3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B3445-2AD0-45CB-89DD-98BC34BA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2E424-110D-4F89-B1E6-12D68D44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C0BB08-492B-4BCD-9DC3-EA0698B1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9E3BE9-9D42-45F7-9B53-037CA174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D0EDB-EF70-431B-B882-CC2ADDC0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69B8-C48E-4EBC-98A7-BA4650D7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0D72A3-500E-4155-AF14-8C18D313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E151EC-B682-4B9D-8237-D2FFBBE0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2D06B6-CB4E-4231-B117-DA1A9B19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F82177-7765-4F5F-8245-4D69DB0D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69E361-5A03-4F1F-BE49-6110E1A2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DBACC3-6EE7-4207-B3BE-1961515A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E6DE78-A2DE-4F9A-8DA6-3693BA83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2A9F26-0F6B-4778-9B84-93E54A9A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6F05D-36F3-4B10-A644-C2E84F4B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F99036-1625-4627-810C-9DC8D6C5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9606-54EE-49AC-9EC3-7A35059D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D4A82D-4B2D-41DE-A25D-CAE6B6DC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5B37B1-31A5-45E2-9E82-C1F01D32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44BC9E-5ABA-4D30-B6A3-23316A38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ADD9D9-5A73-4E11-B64F-1CB6355B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528E1A-8A4A-481F-B2FC-870000F6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57C2CA-66A7-42C0-BB66-0098C955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6EBC94-5FE4-458A-8ABA-1D2E311C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75DC7D-D500-4437-B9F6-E6D70B54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FEEE9F-AC3B-4444-8398-412FF386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760320-44E8-492A-855E-B0152647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4020-5D56-4DEE-ADAD-675A2799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51AA13-4597-42E9-8985-32156333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C2B6BB-DB30-4B4C-961B-C46E3C8D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80B34A-84D1-4568-8A07-B6CD5A7C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D54D1A-8727-4967-B6B7-8CC3F4EE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BE8D49-80A5-4D69-AA5D-FCF59C2A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FDA694-E91E-46F2-BDCB-4E1AD2A4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202082-AF4E-4156-8CDF-BDBCF55A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60729A-9CEB-4494-B2E6-19C99901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54325F-11B6-4C55-B8E3-AFEDE5C5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C5BAEA-2888-4195-BC28-90AA8816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0A04-31CD-460E-A1CB-9543DA84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B3866F-C13A-448A-B6F1-7769FA4B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D73324-8F34-4ED7-805B-372DEF67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E6BC15-05FD-4A64-9A34-7995C476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E1346E-40EF-44FA-9752-563B7E95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C17710-E5DC-49FC-B79D-B0C252E8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3F56FB-FDA5-429B-9BB3-C327659C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A507F9-0A69-49E4-AE44-DCE4E0EE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99C3FE-2249-4C6C-B1A0-C3E17F11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4EE70D-1E3F-468F-B88A-E7950FB1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26F39E-570B-4EF9-B2BE-8C5EF82A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47E-74AE-4677-A1AB-886B9AD0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9301-86BE-4AA1-A930-1F808AE9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1375F7-C696-437B-B96C-2FFE4E51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087EE5-0B05-43A7-A4E6-60E65A1A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FFA733-DA64-41F1-AEDD-05B464A9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EDE2E4-B158-4DA8-B605-99217804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09D4B2-7D84-445B-9B92-B9E7561F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9E66CB-CDEE-4984-BD09-C254D774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669E0E-EC8E-4D15-95B1-626A5EDF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065D57-FB3F-4FF5-A99B-423F81E8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7534C4-9849-4C1D-9631-050CFE87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B9569C-91BB-4255-BE39-0DE928AE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04EC-2A45-4F14-9837-6EBE17D2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7C33A8-74DF-45D3-9BA3-FCD5FDF8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790D35-3B5E-421C-8377-1A6A666D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ABA07F-42ED-4085-8C0D-38C2970E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61C179-9AF4-4EDB-B92A-E20A9DF2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14C923-1E7F-44CB-A24A-EE1D603F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2B5964-75A1-4631-8813-005D0A90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076159-30C8-4109-81A4-191CBAF9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3124E2-7F4C-428F-93CE-A5614AD7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9B624A-5088-4478-BF1A-1ED52741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0A5087-9006-47BC-9956-360A67DB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FADA-52F9-44AF-A962-726DAB91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C05FA1-7009-4BDC-A3B3-3EB87BBA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CA036E-AE93-4A2C-B361-F0F9693E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42931D-17A7-45FD-9C0E-FEDEB810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D305E1-B13F-47CF-94E9-ACE20458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1A489A-5F93-4A3A-A3C2-3B32A98F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75C177-082C-45B4-98E8-4822286D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2BEF45-08BE-4C93-90D3-FEEC3467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6C7A83-9A0F-4B4F-988C-56055F68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D1C6DE-CAFE-4C0C-B6A3-993A8C67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E74D0F-A7DB-40F2-9686-979EF93F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07BA-3636-4199-A29E-CABD2AB0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FCE437-2082-46CB-A1E5-949DB5B9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0C32A2-67B5-4C4B-B903-F6BE46C3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454904-92E0-4E9F-8EAB-4385CC6A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5222AE-2487-4556-BC0C-E5FB7A41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F17472-06C4-40E5-B446-D8FE763E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FAFB40-A7EA-4CD4-A785-B67D19B3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D08FD1-8F7C-47BB-A4BC-9A8B8D84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A19E2A-9D20-44BB-8669-EBD9B8AE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0C2290-886C-4E45-ABD5-FF142880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B91793-8A2F-48F0-AA12-6353F347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C86B-BC0D-44CC-9093-447031C6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2E147D-FD61-42C1-8332-F36E91F8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50BDF1-FF3D-4C2D-9C39-39FD7788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18EDC1-08C4-4C4B-B6C7-BDE73BBE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45189D-CDF0-42DE-9EB2-2F8D5D46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8DF46D-BB57-4C9B-A08C-17B4AC01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B2BDB9-AC4F-4D3F-B7D6-3F8FB09B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9D3A6D-3CD4-478E-8D2E-5EF7BF4E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BCB9D8-43CF-4783-8235-5473B18A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8F6796-B741-4467-AC99-A7D652AC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C84E8F-62F4-4770-9A41-B4B48C4E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5D83B-895F-4331-A230-C4A9CB10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8742CC-B6F7-46E8-B14F-CD8C5E5D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DDA93A-6661-43BC-A9F7-B8617B63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ECFDF9-BF46-45FB-9128-AB4F995A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1AAE94-2443-4A5C-A48B-A1CDC72B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EA7F9B-F201-4AEA-829E-179C103F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012873-68FA-4951-B88B-D89EADB8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B51812-1CB7-488D-A0B4-642FF5AE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D0C23C-3BA1-41E3-91D0-746AE5F6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9062E9-BB60-4590-BA8E-573B387D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521AF6-A4ED-474D-A179-7BF39F65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51B49-A5A6-43F8-B259-60DA16D1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DF2AFD-8A5B-45A6-AEB0-0C6F71E6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025434-9BBA-47FF-9E68-8A1889CB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7F729E-577C-4CC0-A455-67491332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147D74-932C-4B59-B5CB-51496159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DBF039-253E-4F19-A068-E09AFF39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1C195-BA0B-4737-A19A-4191C7CE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5164A-4B27-4371-92A1-871B4BA3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C6D8B-4429-4C21-9740-3F08A562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3F86-4FD5-4BE9-9A6B-408A56CB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C79EA-37B7-498D-B886-6470C9F0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2C6DB-7A6E-4C5C-AA64-CB3BCA98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6E296-F5F3-4AD9-B35A-B88FCAEE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197BF-68D1-4FBB-8E39-2BD7FA3B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8F33C-D008-4895-96AE-4EB263ED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5F3B5-25B6-4280-97E1-27049178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4163D-3632-4D31-9113-8AD0A26A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FA9DC-B54A-4BBC-90BE-6F377246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3224D-05BF-4F1D-91ED-E5506DBB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1FCC5-C229-47E3-A590-1F166619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2A6-61DB-4CA5-9C3B-0D9234A3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32363-2B0F-4D5A-95F4-C96BF46C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3D352-CEB2-4D84-BA7E-F1B91AE7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2102B-7A5A-41DA-BF38-61C22B45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15101-AD33-4524-A24D-52F534F1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358A4-5ED0-4B47-97B4-23A134E3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BFCC6-A254-4149-BA6B-C949F500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45357-8537-4934-9ACF-3C2DD38C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0FCE1-E0A0-41CB-B3CF-B24453A7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C2CB8-A0C9-4A42-A1E8-13220828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A716B0-0C3C-4EB1-BF89-065A0B7E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D591-5DB9-4B35-A225-B1405A7B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CEB98-D462-43FC-AAA2-B3C5E24F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442278-1F35-4EA5-8085-6924FA07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567051-EB2A-4960-8EB0-FC94211D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3B7ADA-EBC6-48BA-B215-4563ABD1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E418A0-0DEF-4802-B4DF-DA12E477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4A7148-962A-4B0B-930E-D6EECAE9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2C759-757E-42D3-8F7B-71C64E76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C43178-8E81-4A21-A45A-DCC7CD74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50D39F-69DA-469C-B3E3-C9A882AC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D51EA-ABB2-4EC9-820B-589347A9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90D9-3D42-4324-A0B6-BA6F6915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822AEC-BD0D-449E-89BE-E332DAFE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CACB5-3342-4E8A-85B7-7A20C2FC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C529A-E0EF-4A53-A725-BC4833C9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7ED6E-8933-4ED7-8799-8322AD5C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51CF9-2BD5-4E14-857C-3027EE04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F5A2E-F770-4BCD-948F-BCD9F363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53AEF-E38B-441B-8B28-DD3228A1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63CFD-346E-4ED0-B262-02D49FA3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B3A97-AB8E-48EB-97C7-6628B126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14D94-5620-4CFA-AAE3-DEAEB845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D29-6E5C-4057-9F0E-F6F3D71B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D4790-8D64-42E6-9114-9B56AF85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E6CD8-4DCA-45C6-B1D9-B3AD9CD0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88879-944D-4C5B-AE83-34F03CBF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04952-5CA7-4811-A344-90AF762C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1CA30-BE0D-4624-A7E7-7307C2DF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20CCB-E3DB-4425-991F-94F9B7DB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30E63-33C7-43CA-B477-D7F5C024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7CE52-7CCC-4B98-A60C-6186ECA9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08F80-17B3-45E6-92C9-A1ADF15F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B4863-A52E-461D-A3DC-11F7C872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580-45A4-4BCF-93EA-1814B566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BC3EC-9864-49EE-970A-B0DA45EF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BFEE5-86EE-4BA7-8FA3-3E5FFF6F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175DB-F3B9-436A-A28F-CC9D368B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2F4F3-8F53-4050-95E8-06612174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D6EEB-807E-46F3-939E-F26F6F0F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E408B-3CC3-4AB1-A4B8-9BA23C41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56E6D-DCC4-4706-A0F2-C3E98140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37517-FD27-439D-BAEC-BFC7B0A1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2D5B0-3685-44A9-95AA-408077A1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965A5-48A3-4AF3-9C15-06F75478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E3D9-E1BF-4990-A94E-174C3339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709BF-4D82-4904-916F-2AFCFE8A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22068-91D0-42D9-BBB1-1834E772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08365-8EEC-40CA-B148-0FFEB906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0D834-7A6D-41CA-9D15-0F1B515D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7209B-4976-4838-8ABE-BED20A44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BC1FF-BEB3-4FDB-A262-1D0B22D8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5193D-4D88-47D5-9850-8D51F61F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0FF92-1C90-4B8B-BAEF-A2332934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9C789-A224-42E9-884E-D6033943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22776-3E6C-4D0D-A7AB-5AB023F5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808D-F895-4DDF-BB0F-64D6837F5E1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6F5F-0817-4CD3-927C-2D3DFC6A98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9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9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07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71B3-30AD-45E8-9A08-EF3972778E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784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6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88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5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97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906F-C37F-4475-91CA-841669BC0B1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84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84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85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3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24C9-7DEA-4125-BE46-A9C65565A7B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0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22B5-D82A-4CDC-BD60-56C5CE70474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6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E54A-9530-4ECF-939F-103C4ABA172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039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1036-BA1B-4662-AA5D-2102587A39E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083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8DAB-078D-4DA2-96A3-6C51BB7AD5B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2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094F-4FCE-400B-95F9-F74E70931E9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189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dt" idx="5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 type="ftr" idx="5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 type="sldNum" idx="5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4E5D-AADF-4146-9E6C-A5D08DA89E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9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5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BD92-C2F4-4728-9062-2AD2BEF5D74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23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23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252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 type="dt" idx="5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82CA-5A47-4AFF-9C9D-631453C16AF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30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1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32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444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2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6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81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8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4200-A233-4BF9-900F-8C638A00E04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4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35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6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37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549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6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6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93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594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80C1-002D-40CE-A298-DE18285238F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58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61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1F2C-7F6F-4912-98A0-B4E5A63BE87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BFC5-BEA5-4A3F-9427-F1E27A6C0D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4B26-17BA-42CC-9157-7BC08E38591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1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6DF8-4795-4F0E-8286-782113CDA30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9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7B2F-7658-4EC9-B23D-9CF3FF8B2DF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36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E118-4725-4C58-AB9A-E50EDECE90E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85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59FB-EEBB-469B-9238-9699441DB9F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2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4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4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4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24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4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24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4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4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4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4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4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4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4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4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4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26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e9f408"/>
                </a:solidFill>
                <a:latin typeface="Comic Sans MS"/>
              </a:rPr>
              <a:t>Конкурс знатоков.</a:t>
            </a:r>
            <a:endParaRPr b="0" lang="en-US" sz="8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Comic Sans MS"/>
              </a:rPr>
              <a:t>Игра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Comic Sans MS"/>
              </a:rPr>
              <a:t>«Брейн –ринг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вопрос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ы очень часто пользуемся словом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иломет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Мет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 переводе с французского языка означает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мер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означает в переводе с французского слово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ил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ло - тысяча. Действительно, 1 км – 1000 м, 1 кг - 1000 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5" name="" descr=""/>
          <p:cNvPicPr/>
          <p:nvPr/>
        </p:nvPicPr>
        <p:blipFill>
          <a:blip r:embed="rId1"/>
          <a:stretch/>
        </p:blipFill>
        <p:spPr>
          <a:xfrm>
            <a:off x="-3182760" y="3284640"/>
            <a:ext cx="3182760" cy="264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0435E-006 L 1.36702 -0.00393 E">
                                      <p:cBhvr>
                                        <p:cTn id="54" dur="3000" fill="hold"/>
                                        <p:tgtEl>
                                          <p:spTgt spid="1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вопрос!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вестно, что масса монеты                    в 1 коп. - 1 г, а масса монеты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2 коп. - 2 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дороже: килограмм 1-копеечных монет или килограмм 2-копеечных моне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инаково. 1 кг = 1000 г, 1 кг 1-копеечных монет стои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00 коп. = 10 руб. 1 кг 2-копеечных монет стоит тоже 10 руб., так как в 1 кг содержится 1000 : 2 = 500 ( 2-копеечных монет), и они стоя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500 = 1000 коп. = 10 ру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0" name="" descr=""/>
          <p:cNvPicPr/>
          <p:nvPr/>
        </p:nvPicPr>
        <p:blipFill>
          <a:blip r:embed="rId1"/>
          <a:stretch/>
        </p:blipFill>
        <p:spPr>
          <a:xfrm>
            <a:off x="-3182760" y="3284640"/>
            <a:ext cx="3182760" cy="264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0435E-006 L 1.36702 -0.00393 E">
                                      <p:cBhvr>
                                        <p:cTn id="60" dur="3000" fill="hold"/>
                                        <p:tgtEl>
                                          <p:spTgt spid="1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вопрос!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известной сказке «Поди туда - не знаю куда, принеси то - не знаю что» царь послал стрелка Андрея «за тридевять земель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идевять - сколько эт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идевять - это 27. Дело в том, что в Древней Руси считали по девяткам: тридевять - это 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3 = 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5" name="" descr=""/>
          <p:cNvPicPr/>
          <p:nvPr/>
        </p:nvPicPr>
        <p:blipFill>
          <a:blip r:embed="rId1"/>
          <a:stretch/>
        </p:blipFill>
        <p:spPr>
          <a:xfrm>
            <a:off x="161928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76" name="" descr=""/>
          <p:cNvPicPr/>
          <p:nvPr/>
        </p:nvPicPr>
        <p:blipFill>
          <a:blip r:embed="rId2"/>
          <a:stretch/>
        </p:blipFill>
        <p:spPr>
          <a:xfrm>
            <a:off x="-3182760" y="3284640"/>
            <a:ext cx="3182760" cy="264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075" fill="hold"/>
                                        <p:tgtEl>
                                          <p:spTgt spid="16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0435E-006 L 1.36702 -0.00393 E">
                                      <p:cBhvr>
                                        <p:cTn id="70" dur="3000" fill="hold"/>
                                        <p:tgtEl>
                                          <p:spTgt spid="1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вопрос!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каком месяце может быть 28 дней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любо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81" name="" descr=""/>
          <p:cNvPicPr/>
          <p:nvPr/>
        </p:nvPicPr>
        <p:blipFill>
          <a:blip r:embed="rId1"/>
          <a:stretch/>
        </p:blipFill>
        <p:spPr>
          <a:xfrm>
            <a:off x="-3182760" y="3284640"/>
            <a:ext cx="3182760" cy="264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0435E-006 L 1.36702 -0.00393 E">
                                      <p:cBhvr>
                                        <p:cTn id="76" dur="3000" fill="hold"/>
                                        <p:tgtEl>
                                          <p:spTgt spid="1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вопрос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е самое любимое число в сказках?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древних греков оно считалось счастливым, его считали магическим. Ну, а в далёкие - далёкие времена, когда люди с трудом учились считать, это число обозначало «всё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число 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6" name="" descr=""/>
          <p:cNvPicPr/>
          <p:nvPr/>
        </p:nvPicPr>
        <p:blipFill>
          <a:blip r:embed="rId1"/>
          <a:stretch/>
        </p:blipFill>
        <p:spPr>
          <a:xfrm>
            <a:off x="-3182760" y="3284640"/>
            <a:ext cx="3182760" cy="2647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0435E-006 L 1.36702 -0.00393 E">
                                      <p:cBhvr>
                                        <p:cTn id="82" dur="3000" fill="hold"/>
                                        <p:tgtEl>
                                          <p:spTgt spid="1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91520" cy="14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2100a"/>
                </a:solidFill>
                <a:latin typeface="Arial Black"/>
              </a:rPr>
              <a:t>Внимание вопрос!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76341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Древней Руси деньгами служили серебряные бруски - их называли </a:t>
            </a: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гривнами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Если вещь стоила меньше, чем весь брусок, то отрубали половину. Тоже деньги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называлась отрубленная часть серебряного бруска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100a"/>
                </a:solidFill>
                <a:latin typeface="Arial Black"/>
              </a:rPr>
              <a:t>Внимание вопрос!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ратино шёл в школу. Чем ближе он подходил к школе, там громче неподалёку, на берегу Средиземного моря, играла весёлая музыка. Буратино решил: школа никуда не уйдёт, я только взгляну, послушаю и бегом в школу. У входа кассирша продавала билеты. Денег у Буратино не было, и он продал свою красочную Азбу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сколько сольд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4 сольд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1" name="" descr=""/>
          <p:cNvPicPr/>
          <p:nvPr/>
        </p:nvPicPr>
        <p:blipFill>
          <a:blip r:embed="rId1"/>
          <a:stretch/>
        </p:blipFill>
        <p:spPr>
          <a:xfrm>
            <a:off x="-3182760" y="3284640"/>
            <a:ext cx="3182760" cy="264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0435E-006 L 1.36702 -0.00393 E">
                                      <p:cBhvr>
                                        <p:cTn id="88" dur="3000" fill="hold"/>
                                        <p:tgtEl>
                                          <p:spTgt spid="1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вопрос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языке древней Индии это число «сунья». Арабы перевели это слово на свой язык, и стало оно называться «сифр». Не правда ли, напоминает что-то. «Сифр» - цифра. А какое это числ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Сифр», то есть цифра обозначает число 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6" name="" descr=""/>
          <p:cNvPicPr/>
          <p:nvPr/>
        </p:nvPicPr>
        <p:blipFill>
          <a:blip r:embed="rId1"/>
          <a:stretch/>
        </p:blipFill>
        <p:spPr>
          <a:xfrm>
            <a:off x="-3182760" y="3284640"/>
            <a:ext cx="3182760" cy="264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0435E-006 L 1.36702 -0.00393 E">
                                      <p:cBhvr>
                                        <p:cTn id="94" dur="3000" fill="hold"/>
                                        <p:tgtEl>
                                          <p:spTgt spid="16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Прямоугольник 3"/>
          <p:cNvSpPr/>
          <p:nvPr/>
        </p:nvSpPr>
        <p:spPr>
          <a:xfrm>
            <a:off x="714240" y="285840"/>
            <a:ext cx="7786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324000" y="1268280"/>
            <a:ext cx="742788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складе было 5 цистерн с горючим, по 6 тонн в каждой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 2 цистерн горючее взяли для автопар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колько цистерн осталос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539640" y="40464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100a"/>
                </a:solidFill>
                <a:latin typeface="Arial"/>
              </a:rPr>
              <a:t>Внимание вопрос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: 5 цисте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2" name="" descr=""/>
          <p:cNvPicPr/>
          <p:nvPr/>
        </p:nvPicPr>
        <p:blipFill>
          <a:blip r:embed="rId1"/>
          <a:stretch/>
        </p:blipFill>
        <p:spPr>
          <a:xfrm>
            <a:off x="53964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03" name="" descr=""/>
          <p:cNvPicPr/>
          <p:nvPr/>
        </p:nvPicPr>
        <p:blipFill>
          <a:blip r:embed="rId2"/>
          <a:stretch/>
        </p:blipFill>
        <p:spPr>
          <a:xfrm>
            <a:off x="-3182760" y="3284640"/>
            <a:ext cx="3182760" cy="2647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4075" fill="hold"/>
                                        <p:tgtEl>
                                          <p:spTgt spid="17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0435E-006 L 1.36702 -0.00393 E">
                                      <p:cBhvr>
                                        <p:cTn id="104" dur="3000" fill="hold"/>
                                        <p:tgtEl>
                                          <p:spTgt spid="17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"/>
              </a:rPr>
              <a:t>Внимание вопрос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ин ученик спрашивает у другог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будет 5 умноженное на 4 плюс 3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: 5(4+3)=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8" name="" descr=""/>
          <p:cNvPicPr/>
          <p:nvPr/>
        </p:nvPicPr>
        <p:blipFill>
          <a:blip r:embed="rId1"/>
          <a:stretch/>
        </p:blipFill>
        <p:spPr>
          <a:xfrm>
            <a:off x="-3182760" y="3284640"/>
            <a:ext cx="3182760" cy="2647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0435E-006 L 1.36702 -0.00393 E">
                                      <p:cBhvr>
                                        <p:cTn id="110" dur="3000" fill="hold"/>
                                        <p:tgtEl>
                                          <p:spTgt spid="1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"/>
              </a:rPr>
              <a:t>Внимание вопрос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стница имеет 15 ступенек. На какую ступеньку нужно подняться, чтобы оказаться ровно посередине лестниц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: на восьм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3" name="" descr=""/>
          <p:cNvPicPr/>
          <p:nvPr/>
        </p:nvPicPr>
        <p:blipFill>
          <a:blip r:embed="rId1"/>
          <a:stretch/>
        </p:blipFill>
        <p:spPr>
          <a:xfrm>
            <a:off x="-3182760" y="3284640"/>
            <a:ext cx="3182760" cy="2647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0435E-006 L 1.36702 -0.00393 E">
                                      <p:cBhvr>
                                        <p:cTn id="116" dur="3000" fill="hold"/>
                                        <p:tgtEl>
                                          <p:spTgt spid="17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у часть серебряного бруска называли </a:t>
            </a: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рублём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 Отсюда и пошло название денежной единицы - </a:t>
            </a: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рубль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644" name="" descr=""/>
          <p:cNvPicPr/>
          <p:nvPr/>
        </p:nvPicPr>
        <p:blipFill>
          <a:blip r:embed="rId1"/>
          <a:stretch/>
        </p:blipFill>
        <p:spPr>
          <a:xfrm>
            <a:off x="-3182760" y="3284640"/>
            <a:ext cx="3182760" cy="264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0435E-006 L 1.36702 -0.00393 E">
                                      <p:cBhvr>
                                        <p:cTn id="26" dur="3000" fill="hold"/>
                                        <p:tgtEl>
                                          <p:spTgt spid="1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"/>
              </a:rPr>
              <a:t>Внимание вопрос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ова скорость  парусника, если за 10 мин он проплыл 3 км? (в м/с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6" name="" descr=""/>
          <p:cNvPicPr/>
          <p:nvPr/>
        </p:nvPicPr>
        <p:blipFill>
          <a:blip r:embed="rId1"/>
          <a:stretch/>
        </p:blipFill>
        <p:spPr>
          <a:xfrm flipH="1" rot="21552000">
            <a:off x="684000" y="3573360"/>
            <a:ext cx="2554200" cy="1886400"/>
          </a:xfrm>
          <a:prstGeom prst="rect">
            <a:avLst/>
          </a:prstGeom>
          <a:ln w="0">
            <a:noFill/>
          </a:ln>
        </p:spPr>
      </p:pic>
      <p:pic>
        <p:nvPicPr>
          <p:cNvPr id="1717" name="" descr=""/>
          <p:cNvPicPr/>
          <p:nvPr/>
        </p:nvPicPr>
        <p:blipFill>
          <a:blip r:embed="rId2"/>
          <a:stretch/>
        </p:blipFill>
        <p:spPr>
          <a:xfrm>
            <a:off x="5148360" y="5589720"/>
            <a:ext cx="1962000" cy="923760"/>
          </a:xfrm>
          <a:prstGeom prst="rect">
            <a:avLst/>
          </a:prstGeom>
          <a:ln w="0">
            <a:noFill/>
          </a:ln>
        </p:spPr>
      </p:pic>
      <p:pic>
        <p:nvPicPr>
          <p:cNvPr id="1718" name="" descr=""/>
          <p:cNvPicPr/>
          <p:nvPr/>
        </p:nvPicPr>
        <p:blipFill>
          <a:blip r:embed="rId3"/>
          <a:stretch/>
        </p:blipFill>
        <p:spPr>
          <a:xfrm>
            <a:off x="7380360" y="4076640"/>
            <a:ext cx="1170000" cy="576360"/>
          </a:xfrm>
          <a:prstGeom prst="rect">
            <a:avLst/>
          </a:prstGeom>
          <a:ln w="0">
            <a:noFill/>
          </a:ln>
        </p:spPr>
      </p:pic>
      <p:pic>
        <p:nvPicPr>
          <p:cNvPr id="1719" name="" descr=""/>
          <p:cNvPicPr/>
          <p:nvPr/>
        </p:nvPicPr>
        <p:blipFill>
          <a:blip r:embed="rId4"/>
          <a:stretch/>
        </p:blipFill>
        <p:spPr>
          <a:xfrm>
            <a:off x="1187280" y="5013360"/>
            <a:ext cx="1170000" cy="576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20449E-006 L 0.49826 -0.01157 E">
                                      <p:cBhvr>
                                        <p:cTn id="126" dur="5000" fill="hold"/>
                                        <p:tgtEl>
                                          <p:spTgt spid="17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0" dur="2000" fill="hold"/>
                                        <p:tgtEl>
                                          <p:spTgt spid="17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рость парусника 5 м/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2" name="" descr=""/>
          <p:cNvPicPr/>
          <p:nvPr/>
        </p:nvPicPr>
        <p:blipFill>
          <a:blip r:embed="rId1"/>
          <a:stretch/>
        </p:blipFill>
        <p:spPr>
          <a:xfrm>
            <a:off x="-3182760" y="3284640"/>
            <a:ext cx="3182760" cy="2647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0435E-006 L 1.36702 -0.00393 E">
                                      <p:cBhvr>
                                        <p:cTn id="136" dur="3000" fill="hold"/>
                                        <p:tgtEl>
                                          <p:spTgt spid="17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"/>
              </a:rPr>
              <a:t>Внимание вопрос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огонит ли заяц слонёнка , если скорость зайца 5м/с, а слонёнок за 5с проходит 15м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6" name="" descr=""/>
          <p:cNvPicPr/>
          <p:nvPr/>
        </p:nvPicPr>
        <p:blipFill>
          <a:blip r:embed="rId1"/>
          <a:stretch/>
        </p:blipFill>
        <p:spPr>
          <a:xfrm>
            <a:off x="108000" y="3789360"/>
            <a:ext cx="1371600" cy="1333440"/>
          </a:xfrm>
          <a:prstGeom prst="rect">
            <a:avLst/>
          </a:prstGeom>
          <a:ln w="0">
            <a:noFill/>
          </a:ln>
        </p:spPr>
      </p:pic>
      <p:pic>
        <p:nvPicPr>
          <p:cNvPr id="1727" name="" descr=""/>
          <p:cNvPicPr/>
          <p:nvPr/>
        </p:nvPicPr>
        <p:blipFill>
          <a:blip r:embed="rId2"/>
          <a:stretch/>
        </p:blipFill>
        <p:spPr>
          <a:xfrm>
            <a:off x="8277120" y="5157720"/>
            <a:ext cx="866880" cy="1047960"/>
          </a:xfrm>
          <a:prstGeom prst="rect">
            <a:avLst/>
          </a:prstGeom>
          <a:ln w="0">
            <a:noFill/>
          </a:ln>
        </p:spPr>
      </p:pic>
      <p:pic>
        <p:nvPicPr>
          <p:cNvPr id="1728" name="" descr=""/>
          <p:cNvPicPr/>
          <p:nvPr/>
        </p:nvPicPr>
        <p:blipFill>
          <a:blip r:embed="rId3"/>
          <a:stretch/>
        </p:blipFill>
        <p:spPr>
          <a:xfrm>
            <a:off x="9756720" y="5661000"/>
            <a:ext cx="1552680" cy="809640"/>
          </a:xfrm>
          <a:prstGeom prst="rect">
            <a:avLst/>
          </a:prstGeom>
          <a:ln w="0">
            <a:noFill/>
          </a:ln>
        </p:spPr>
      </p:pic>
      <p:sp>
        <p:nvSpPr>
          <p:cNvPr id="1729" name=""/>
          <p:cNvSpPr/>
          <p:nvPr/>
        </p:nvSpPr>
        <p:spPr>
          <a:xfrm>
            <a:off x="468360" y="5950080"/>
            <a:ext cx="287280" cy="907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70645E-006 L -1.20069 -0.01342 E">
                                      <p:cBhvr>
                                        <p:cTn id="150" dur="5000" fill="hold"/>
                                        <p:tgtEl>
                                          <p:spTgt spid="1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06269E-006 L -1.6165 -0.00648 E">
                                      <p:cBhvr>
                                        <p:cTn id="152" dur="5000" fill="hold"/>
                                        <p:tgtEl>
                                          <p:spTgt spid="1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гонит, так как скорость слонёнка 3 м/с, т.е.меньше скорости зай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2" name="" descr=""/>
          <p:cNvPicPr/>
          <p:nvPr/>
        </p:nvPicPr>
        <p:blipFill>
          <a:blip r:embed="rId1"/>
          <a:stretch/>
        </p:blipFill>
        <p:spPr>
          <a:xfrm>
            <a:off x="-3182760" y="3284640"/>
            <a:ext cx="3182760" cy="2647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0435E-006 L 1.36702 -0.00393 E">
                                      <p:cBhvr>
                                        <p:cTn id="158" dur="3000" fill="hold"/>
                                        <p:tgtEl>
                                          <p:spTgt spid="1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"/>
              </a:rPr>
              <a:t>Внимание вопрос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324000" y="1557360"/>
            <a:ext cx="856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генда рассказывает, как благодаря предложенной системе блоков ОН одним движением руки спустил на воду тяжёлый роскошный корабль «Сирокосия», построенный Гиероном в подарок египетскому царю Птолемею. Это и послужило поводом для его крылатых слов: «Дайте мне точку опоры, и я сдвину Землю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то эт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261800" y="5877000"/>
            <a:ext cx="15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рхимед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6" name="" descr=""/>
          <p:cNvPicPr/>
          <p:nvPr/>
        </p:nvPicPr>
        <p:blipFill>
          <a:blip r:embed="rId1"/>
          <a:stretch/>
        </p:blipFill>
        <p:spPr>
          <a:xfrm>
            <a:off x="-3182760" y="3284640"/>
            <a:ext cx="3182760" cy="26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0435E-006 L 1.36702 -0.00393 E">
                                      <p:cBhvr>
                                        <p:cTn id="175" dur="3000" fill="hold"/>
                                        <p:tgtEl>
                                          <p:spTgt spid="1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"/>
              </a:rPr>
              <a:t>Внимание вопрос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открыл законы падения тел и качания маятника, первый указал на существование явления инерции и применил телескоп для астрономических исследований. Открыл спутники Юпитера, солнечные пятна и фазы Венеры.  Кто эт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756000" y="576000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алилео Галилей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0" name="" descr=""/>
          <p:cNvPicPr/>
          <p:nvPr/>
        </p:nvPicPr>
        <p:blipFill>
          <a:blip r:embed="rId1"/>
          <a:stretch/>
        </p:blipFill>
        <p:spPr>
          <a:xfrm>
            <a:off x="-3182760" y="3284640"/>
            <a:ext cx="3182760" cy="26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0435E-006 L 1.36702 -0.00393 E">
                                      <p:cBhvr>
                                        <p:cTn id="197" dur="3000" fill="hold"/>
                                        <p:tgtEl>
                                          <p:spTgt spid="1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"/>
              </a:rPr>
              <a:t>Внимание вопрос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чему нельзя тушить горящий керосин, заливая его водой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398880" y="4752000"/>
            <a:ext cx="80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от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еросина меньше, чем у воды, и керосин всплывает навер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4" name="" descr=""/>
          <p:cNvPicPr/>
          <p:nvPr/>
        </p:nvPicPr>
        <p:blipFill>
          <a:blip r:embed="rId1"/>
          <a:stretch/>
        </p:blipFill>
        <p:spPr>
          <a:xfrm>
            <a:off x="-3182760" y="3284640"/>
            <a:ext cx="3182760" cy="2647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0435E-006 L 1.36702 -0.00393 E">
                                      <p:cBhvr>
                                        <p:cTn id="209" dur="3000" fill="hold"/>
                                        <p:tgtEl>
                                          <p:spTgt spid="1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"/>
              </a:rPr>
              <a:t>Внимание вопрос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но ли на Луне для передвижения космонавтов пользоваться  воздушными шарами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970200" y="4536000"/>
            <a:ext cx="49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т, т.к. на Луне нет атмосфер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8" name="" descr=""/>
          <p:cNvPicPr/>
          <p:nvPr/>
        </p:nvPicPr>
        <p:blipFill>
          <a:blip r:embed="rId1"/>
          <a:stretch/>
        </p:blipFill>
        <p:spPr>
          <a:xfrm>
            <a:off x="-3182760" y="3284640"/>
            <a:ext cx="3182760" cy="2647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0435E-006 L 1.36702 -0.00393 E">
                                      <p:cBhvr>
                                        <p:cTn id="221" dur="3000" fill="hold"/>
                                        <p:tgtEl>
                                          <p:spTgt spid="1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"/>
              </a:rPr>
              <a:t>Внимание вопрос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бы вы жили на ЭТОЙ планете, вас могла бы уже сейчас коснуться проблема монетизации льгот пенсионерам. Назовите эту планет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184400" y="4752000"/>
            <a:ext cx="22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2" name="" descr=""/>
          <p:cNvPicPr/>
          <p:nvPr/>
        </p:nvPicPr>
        <p:blipFill>
          <a:blip r:embed="rId1"/>
          <a:stretch/>
        </p:blipFill>
        <p:spPr>
          <a:xfrm>
            <a:off x="-3182760" y="3284640"/>
            <a:ext cx="3182760" cy="2647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0435E-006 L 1.36702 -0.00393 E">
                                      <p:cBhvr>
                                        <p:cTn id="233" dur="3000" fill="hold"/>
                                        <p:tgtEl>
                                          <p:spTgt spid="1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"/>
              </a:rPr>
              <a:t>Внимание вопрос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корится ли таяние льда в тёплой комнате, если накрыть его шуб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611280" y="422892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т, шуба не гре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а, обладая плохой теплопроводностью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медлит приток тепла ко льду и его тая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6" name="" descr=""/>
          <p:cNvPicPr/>
          <p:nvPr/>
        </p:nvPicPr>
        <p:blipFill>
          <a:blip r:embed="rId1"/>
          <a:stretch/>
        </p:blipFill>
        <p:spPr>
          <a:xfrm>
            <a:off x="-3182760" y="3284640"/>
            <a:ext cx="3182760" cy="2647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0435E-006 L 1.36702 -0.00393 E">
                                      <p:cBhvr>
                                        <p:cTn id="245" dur="3000" fill="hold"/>
                                        <p:tgtEl>
                                          <p:spTgt spid="1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100a"/>
                </a:solidFill>
                <a:latin typeface="Arial Black"/>
              </a:rPr>
              <a:t>Внимание вопрос!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время грозы мы нередко видим вспышку молнии, а затем через несколько секунд - раскаты гром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раскаты грома мы слышим позже, чем видим вспышку мол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"/>
              </a:rPr>
              <a:t>Внимание вопрос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лк и лиса соревновались в беге. Кто какое место занял, если известно, что волк пришёл одним из первых, а лиса была предпоследн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са – 1 место, волк- 2 ме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1" name="" descr=""/>
          <p:cNvPicPr/>
          <p:nvPr/>
        </p:nvPicPr>
        <p:blipFill>
          <a:blip r:embed="rId1"/>
          <a:stretch/>
        </p:blipFill>
        <p:spPr>
          <a:xfrm>
            <a:off x="-3182760" y="3284640"/>
            <a:ext cx="3182760" cy="2647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0435E-006 L 1.36702 -0.00393 E">
                                      <p:cBhvr>
                                        <p:cTn id="251" dur="3000" fill="hold"/>
                                        <p:tgtEl>
                                          <p:spTgt spid="1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"/>
              </a:rPr>
              <a:t>Внимание вопрос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дверных ручек в школ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два раза больше, чем двер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6" name="" descr=""/>
          <p:cNvPicPr/>
          <p:nvPr/>
        </p:nvPicPr>
        <p:blipFill>
          <a:blip r:embed="rId1"/>
          <a:stretch/>
        </p:blipFill>
        <p:spPr>
          <a:xfrm>
            <a:off x="-3182760" y="3284640"/>
            <a:ext cx="3182760" cy="2647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0435E-006 L 1.36702 -0.00393 E">
                                      <p:cBhvr>
                                        <p:cTn id="257" dur="3000" fill="hold"/>
                                        <p:tgtEl>
                                          <p:spTgt spid="1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"/>
              </a:rPr>
              <a:t>Внимание вопрос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древней Руси существовало число «ворон» («вран»). Сколько эт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миллионов (10 000 0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1" name="" descr=""/>
          <p:cNvPicPr/>
          <p:nvPr/>
        </p:nvPicPr>
        <p:blipFill>
          <a:blip r:embed="rId1"/>
          <a:stretch/>
        </p:blipFill>
        <p:spPr>
          <a:xfrm>
            <a:off x="-3182760" y="3284640"/>
            <a:ext cx="3182760" cy="2647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0435E-006 L 1.36702 -0.00393 E">
                                      <p:cBhvr>
                                        <p:cTn id="263" dur="3000" fill="hold"/>
                                        <p:tgtEl>
                                          <p:spTgt spid="1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нимание! Итоги конкурса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4" name="" descr=""/>
          <p:cNvPicPr/>
          <p:nvPr/>
        </p:nvPicPr>
        <p:blipFill>
          <a:blip r:embed="rId1"/>
          <a:stretch/>
        </p:blipFill>
        <p:spPr>
          <a:xfrm>
            <a:off x="46836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75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6192720" cy="4392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2007" fill="hold"/>
                                        <p:tgtEl>
                                          <p:spTgt spid="17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рость света во много раз больше скорости зву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9" name="" descr=""/>
          <p:cNvPicPr/>
          <p:nvPr/>
        </p:nvPicPr>
        <p:blipFill>
          <a:blip r:embed="rId1"/>
          <a:stretch/>
        </p:blipFill>
        <p:spPr>
          <a:xfrm>
            <a:off x="-3182760" y="3284640"/>
            <a:ext cx="3182760" cy="264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0435E-006 L 1.36702 -0.00393 E">
                                      <p:cBhvr>
                                        <p:cTn id="32" dur="3000" fill="hold"/>
                                        <p:tgtEl>
                                          <p:spTgt spid="1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2100a"/>
                </a:solidFill>
                <a:latin typeface="Arial Black"/>
              </a:rPr>
              <a:t>Внимание вопрос!</a:t>
            </a:r>
            <a:endParaRPr b="0" lang="en-US" sz="57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царе Иван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ыли выпущены монеты, на которых изображался всадник с копьём в ру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назывались эти монет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0" lang="en-US" sz="57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ие монеты назывались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опейкам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Отсюда и пошло название современной денежной единицы -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опейк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4" name="" descr=""/>
          <p:cNvPicPr/>
          <p:nvPr/>
        </p:nvPicPr>
        <p:blipFill>
          <a:blip r:embed="rId1"/>
          <a:stretch/>
        </p:blipFill>
        <p:spPr>
          <a:xfrm>
            <a:off x="161928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55" name="" descr=""/>
          <p:cNvPicPr/>
          <p:nvPr/>
        </p:nvPicPr>
        <p:blipFill>
          <a:blip r:embed="rId2"/>
          <a:stretch/>
        </p:blipFill>
        <p:spPr>
          <a:xfrm>
            <a:off x="-3182760" y="3284640"/>
            <a:ext cx="3182760" cy="264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4075" fill="hold"/>
                                        <p:tgtEl>
                                          <p:spTgt spid="1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0435E-006 L 1.36702 -0.00393 E">
                                      <p:cBhvr>
                                        <p:cTn id="42" dur="3000" fill="hold"/>
                                        <p:tgtEl>
                                          <p:spTgt spid="1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вопрос!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вестно, что 10 единиц составляют десяток, 10 десятков - сотню, 10 сотен – тысячу. Мы видим, что число 10 играет большую ро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чему именно число 10, а не друго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100a"/>
                </a:solidFill>
                <a:latin typeface="Arial Black"/>
              </a:rPr>
              <a:t>Внимание ответ!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ому что на наших руках 10 пальцев. Дело в том, что одним из первых «аппаратов» для счёта, который наиболее часто использовал древний человек, были ру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0" name="" descr=""/>
          <p:cNvPicPr/>
          <p:nvPr/>
        </p:nvPicPr>
        <p:blipFill>
          <a:blip r:embed="rId2"/>
          <a:stretch/>
        </p:blipFill>
        <p:spPr>
          <a:xfrm>
            <a:off x="-3182760" y="3284640"/>
            <a:ext cx="3182760" cy="264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0435E-006 L 1.36702 -0.00393 E">
                                      <p:cBhvr>
                                        <p:cTn id="48" dur="3000" fill="hold"/>
                                        <p:tgtEl>
                                          <p:spTgt spid="1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9T20:27:52Z</dcterms:created>
  <dc:creator>Дрюшка и Киска</dc:creator>
  <dc:description/>
  <dc:language>en-US</dc:language>
  <cp:lastModifiedBy>Admin</cp:lastModifiedBy>
  <dcterms:modified xsi:type="dcterms:W3CDTF">2009-11-06T15:41:34Z</dcterms:modified>
  <cp:revision>19</cp:revision>
  <dc:subject/>
  <dc:title>Конкурс знаток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