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B29-00D7-4D62-944B-0C335DC3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870-77A4-4B77-89AF-E07BB8C5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504-81A4-4142-8280-871861F2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3F9-3F5C-4CFA-8C54-0B7D363C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31B-9B95-423E-B40B-33397D9B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2E3-147D-4533-A9FD-C6C9FE3E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5F2-FE04-4790-9503-D44D6DA3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9EB-5E7C-4797-97CE-155A83E1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6D5-E6E5-4305-8D4E-406AB3A1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638-999A-4C75-AC2A-0E0057BB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ACF-3408-44CF-925B-B7262CF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FC8-FE8D-4F83-866A-2F06B176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C65A-FE71-4125-A41F-2E1D3FE833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47640" y="1413000"/>
          <a:ext cx="6096240" cy="4657680"/>
        </p:xfrm>
        <a:graphic>
          <a:graphicData uri="http://schemas.openxmlformats.org/drawingml/2006/table">
            <a:tbl>
              <a:tblPr/>
              <a:tblGrid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  <a:gridCol w="290520"/>
                <a:gridCol w="290520"/>
                <a:gridCol w="290520"/>
                <a:gridCol w="288720"/>
                <a:gridCol w="290520"/>
                <a:gridCol w="290520"/>
                <a:gridCol w="290520"/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</a:tblGrid>
              <a:tr h="5173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468360" y="18446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47640" y="1413000"/>
          <a:ext cx="6096240" cy="4657680"/>
        </p:xfrm>
        <a:graphic>
          <a:graphicData uri="http://schemas.openxmlformats.org/drawingml/2006/table">
            <a:tbl>
              <a:tblPr/>
              <a:tblGrid>
                <a:gridCol w="287640"/>
                <a:gridCol w="295200"/>
                <a:gridCol w="288720"/>
                <a:gridCol w="289080"/>
                <a:gridCol w="290520"/>
                <a:gridCol w="349200"/>
                <a:gridCol w="231840"/>
                <a:gridCol w="290520"/>
                <a:gridCol w="290520"/>
                <a:gridCol w="290520"/>
                <a:gridCol w="288720"/>
                <a:gridCol w="290520"/>
                <a:gridCol w="290520"/>
                <a:gridCol w="290520"/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</a:tblGrid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68360" y="18446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47640" y="1413000"/>
          <a:ext cx="6096240" cy="4657680"/>
        </p:xfrm>
        <a:graphic>
          <a:graphicData uri="http://schemas.openxmlformats.org/drawingml/2006/table">
            <a:tbl>
              <a:tblPr/>
              <a:tblGrid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  <a:gridCol w="290520"/>
                <a:gridCol w="290520"/>
                <a:gridCol w="290520"/>
                <a:gridCol w="288720"/>
                <a:gridCol w="290520"/>
                <a:gridCol w="290520"/>
                <a:gridCol w="290520"/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</a:tblGrid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68360" y="18446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47640" y="1413000"/>
          <a:ext cx="6096240" cy="4657680"/>
        </p:xfrm>
        <a:graphic>
          <a:graphicData uri="http://schemas.openxmlformats.org/drawingml/2006/table">
            <a:tbl>
              <a:tblPr/>
              <a:tblGrid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  <a:gridCol w="290520"/>
                <a:gridCol w="290520"/>
                <a:gridCol w="290520"/>
                <a:gridCol w="288720"/>
                <a:gridCol w="290520"/>
                <a:gridCol w="290520"/>
                <a:gridCol w="290520"/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</a:tblGrid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68360" y="18446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547640" y="1413000"/>
          <a:ext cx="6096240" cy="4657680"/>
        </p:xfrm>
        <a:graphic>
          <a:graphicData uri="http://schemas.openxmlformats.org/drawingml/2006/table">
            <a:tbl>
              <a:tblPr/>
              <a:tblGrid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  <a:gridCol w="290520"/>
                <a:gridCol w="290520"/>
                <a:gridCol w="290520"/>
                <a:gridCol w="288720"/>
                <a:gridCol w="290520"/>
                <a:gridCol w="290520"/>
                <a:gridCol w="290520"/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</a:tblGrid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68360" y="18446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47640" y="1413000"/>
          <a:ext cx="6096240" cy="4657680"/>
        </p:xfrm>
        <a:graphic>
          <a:graphicData uri="http://schemas.openxmlformats.org/drawingml/2006/table">
            <a:tbl>
              <a:tblPr/>
              <a:tblGrid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  <a:gridCol w="290520"/>
                <a:gridCol w="290520"/>
                <a:gridCol w="290520"/>
                <a:gridCol w="288720"/>
                <a:gridCol w="290520"/>
                <a:gridCol w="290520"/>
                <a:gridCol w="290520"/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</a:tblGrid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68360" y="18446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47640" y="1413000"/>
          <a:ext cx="6096240" cy="4657680"/>
        </p:xfrm>
        <a:graphic>
          <a:graphicData uri="http://schemas.openxmlformats.org/drawingml/2006/table">
            <a:tbl>
              <a:tblPr/>
              <a:tblGrid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  <a:gridCol w="290520"/>
                <a:gridCol w="290520"/>
                <a:gridCol w="290520"/>
                <a:gridCol w="288720"/>
                <a:gridCol w="290520"/>
                <a:gridCol w="290520"/>
                <a:gridCol w="290520"/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</a:tblGrid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18446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47640" y="1413000"/>
          <a:ext cx="6096240" cy="4657680"/>
        </p:xfrm>
        <a:graphic>
          <a:graphicData uri="http://schemas.openxmlformats.org/drawingml/2006/table">
            <a:tbl>
              <a:tblPr/>
              <a:tblGrid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  <a:gridCol w="290520"/>
                <a:gridCol w="290520"/>
                <a:gridCol w="290520"/>
                <a:gridCol w="288720"/>
                <a:gridCol w="290520"/>
                <a:gridCol w="290520"/>
                <a:gridCol w="290520"/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</a:tblGrid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68360" y="18446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47640" y="1413000"/>
          <a:ext cx="6096240" cy="4657680"/>
        </p:xfrm>
        <a:graphic>
          <a:graphicData uri="http://schemas.openxmlformats.org/drawingml/2006/table">
            <a:tbl>
              <a:tblPr/>
              <a:tblGrid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  <a:gridCol w="290520"/>
                <a:gridCol w="290520"/>
                <a:gridCol w="290520"/>
                <a:gridCol w="288720"/>
                <a:gridCol w="290520"/>
                <a:gridCol w="290520"/>
                <a:gridCol w="290520"/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</a:tblGrid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8360" y="18446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47640" y="1413000"/>
          <a:ext cx="6096240" cy="4657680"/>
        </p:xfrm>
        <a:graphic>
          <a:graphicData uri="http://schemas.openxmlformats.org/drawingml/2006/table">
            <a:tbl>
              <a:tblPr/>
              <a:tblGrid>
                <a:gridCol w="290520"/>
                <a:gridCol w="290520"/>
                <a:gridCol w="290520"/>
                <a:gridCol w="289080"/>
                <a:gridCol w="290520"/>
                <a:gridCol w="277920"/>
                <a:gridCol w="303120"/>
                <a:gridCol w="290520"/>
                <a:gridCol w="290520"/>
                <a:gridCol w="290520"/>
                <a:gridCol w="288720"/>
                <a:gridCol w="290520"/>
                <a:gridCol w="290520"/>
                <a:gridCol w="290520"/>
                <a:gridCol w="290520"/>
                <a:gridCol w="290520"/>
                <a:gridCol w="290520"/>
                <a:gridCol w="289080"/>
                <a:gridCol w="290520"/>
                <a:gridCol w="290520"/>
                <a:gridCol w="290520"/>
              </a:tblGrid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8360" y="18446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5:41:56Z</dcterms:created>
  <dc:creator>Ашот</dc:creator>
  <dc:description/>
  <dc:language>en-US</dc:language>
  <cp:lastModifiedBy>ALBERT</cp:lastModifiedBy>
  <dcterms:modified xsi:type="dcterms:W3CDTF">2013-01-08T15:10:39Z</dcterms:modified>
  <cp:revision>13</cp:revision>
  <dc:subject/>
  <dc:title>Слайд 1</dc:title>
</cp:coreProperties>
</file>