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BC4-297F-44BC-99CB-066F16A2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FCE2-D1DA-4F88-B8CE-F826451A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5AD9-D8A2-4E11-A6BA-A6E84A30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11C7-9F14-4294-B83D-0211B156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A6D9-C10A-4B08-9171-7745E791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F907-A456-4504-A6C1-E14D9083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798C-7440-48B7-A1BC-C0B7B4F5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7CE1-67D1-4299-9F64-40EE72FD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3F2E-FFCC-4830-82EA-4BA37E54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2451-13E2-46D1-B97F-157C95F3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1777-89C3-4F6A-8892-73595395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49DF-B195-4359-8DBA-D404BA34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E779-668F-4F8E-BF7B-F47D5EC5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C024-5661-4C68-A9E2-C68E12A7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A4EB-82D8-4C74-AE61-E578342A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E388-35BC-4136-8D16-F8B0C2DB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285F-F690-4A8F-BD16-387C9B89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131B-4F74-45FE-8C42-C4545A65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1879-9B64-4DB2-A591-101A3FD1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B362-F316-46A0-A96D-67D2E342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C6DD-7438-4A38-93D3-26D3CCFE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24D2-F43F-4C95-AB8B-A26273A1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E757-5F59-402A-84BD-72A87FD0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0B00-B8A7-4AD9-8B9F-755CD0F4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2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02E2-9528-46FB-8FC6-AC56990952B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0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6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2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1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3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4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10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15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2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D0AD-8104-4100-ABAD-1644B1AA791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vice.com/assets_c/2010/10/RELIlaser-thumb-550xauto-49520.jpe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swarez.ru/uploads/posts/2008-09/1220458463_lazer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ivergence.laser.free.fr/photos/essec2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47440"/>
          </a:xfrm>
          <a:prstGeom prst="rect">
            <a:avLst/>
          </a:prstGeom>
          <a:solidFill>
            <a:srgbClr val="82e4b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Лазе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Picture 7" descr="56"/>
          <p:cNvPicPr/>
          <p:nvPr/>
        </p:nvPicPr>
        <p:blipFill>
          <a:blip r:embed="rId1"/>
          <a:stretch/>
        </p:blipFill>
        <p:spPr>
          <a:xfrm>
            <a:off x="971640" y="1590840"/>
            <a:ext cx="7561080" cy="47178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3276720" y="1916280"/>
            <a:ext cx="496728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e1"/>
                </a:solidFill>
                <a:latin typeface="Times New Roman"/>
              </a:rPr>
              <a:t>Лазер – устройство, в котором энергия, например тепловая, химическая, электрическ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1"/>
                </a:solidFill>
                <a:latin typeface="Times New Roman"/>
              </a:rPr>
              <a:t>преобразуется в энергию электромагнитного излучения – лазерный лу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30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Индуцированное (вынужденное) излучение лазера возникает при переходе атомов из высшего энергетического состояния в низшее, но не самопроизвольно, а под влиянием внешнего воздействия.</a:t>
            </a:r>
            <a:br>
              <a:rPr sz="2400"/>
            </a:b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Возникшая при индуцированном излучении световая волна не отличается от волны, падающей на атом, ни частотой, ни фазой, ни поляризацией.</a:t>
            </a:r>
            <a:br>
              <a:rPr sz="38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8304_7110730828"/>
          <p:cNvPicPr/>
          <p:nvPr/>
        </p:nvPicPr>
        <p:blipFill>
          <a:blip r:embed="rId1"/>
          <a:stretch/>
        </p:blipFill>
        <p:spPr>
          <a:xfrm>
            <a:off x="1187280" y="3357720"/>
            <a:ext cx="73454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solidFill>
            <a:srgbClr val="82e4b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Свойства лазерного излучения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лый угол расхождения лазерного пу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ключительная монохромати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азеры - самое мощные источники с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Картинка 36 из 96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2997360"/>
            <a:ext cx="561672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47440"/>
          </a:xfrm>
          <a:prstGeom prst="rect">
            <a:avLst/>
          </a:prstGeom>
          <a:solidFill>
            <a:srgbClr val="82e4b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Принцип действия лазеро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11280" y="1599840"/>
            <a:ext cx="475272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508720" y="1599840"/>
            <a:ext cx="36352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Лабораторная работа №1"/>
          <p:cNvPicPr/>
          <p:nvPr/>
        </p:nvPicPr>
        <p:blipFill>
          <a:blip r:embed="rId1"/>
          <a:stretch/>
        </p:blipFill>
        <p:spPr>
          <a:xfrm>
            <a:off x="971640" y="2060640"/>
            <a:ext cx="4381560" cy="3097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Лабораторная работа №1"/>
          <p:cNvPicPr/>
          <p:nvPr/>
        </p:nvPicPr>
        <p:blipFill>
          <a:blip r:embed="rId2"/>
          <a:stretch/>
        </p:blipFill>
        <p:spPr>
          <a:xfrm>
            <a:off x="5364000" y="2133720"/>
            <a:ext cx="3591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Картинка 64 из 96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068640"/>
            <a:ext cx="7921440" cy="42768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solidFill>
            <a:srgbClr val="82e4b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именение лазер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азеры нашли применение в различных областях науки, техники и медицины, в военном деле, индустрии развлечений.  Очень перспективно применение лазерного излучения для космической связи, в светолокаторах, измеряющих большие </a:t>
            </a:r>
            <a:r>
              <a:rPr b="1" lang="ru-RU" sz="2400" spc="-1" strike="noStrike">
                <a:solidFill>
                  <a:srgbClr val="ffffe1"/>
                </a:solidFill>
                <a:latin typeface="Times New Roman"/>
              </a:rPr>
              <a:t>расстояния с высокой точностью; для передачи телевизионных и компьютерных сигналов по оптическому волокну. Лазеры используются при считывании информации с компакт-дисков, со штрих - кодов товаров. С помощью луча лазеров малой интенсивности можно проводить хирургические операции, например "приваривать" отслоившуюся от глазного дна сетчатку, делать сосудистые операции,  косметические опе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Картинка 179 из 96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7921800" cy="4735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47440"/>
          </a:xfrm>
          <a:prstGeom prst="rect">
            <a:avLst/>
          </a:prstGeom>
          <a:solidFill>
            <a:srgbClr val="82e4b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2d3103"/>
                </a:solidFill>
                <a:latin typeface="Times New Roman"/>
              </a:rPr>
              <a:t>Применение лазер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1"/>
                </a:solidFill>
                <a:latin typeface="Times New Roman"/>
              </a:rPr>
              <a:t>Излучение мощных лазеров сваривает и разрезает металлические листы. Перспективно использование мощного лазерного излучения для осуществления управляемой термоядерной реакции.</a:t>
            </a:r>
            <a:br>
              <a:rPr sz="2400"/>
            </a:br>
            <a:r>
              <a:rPr b="1" lang="ru-RU" sz="2400" spc="-1" strike="noStrike">
                <a:solidFill>
                  <a:srgbClr val="ffffe1"/>
                </a:solidFill>
                <a:latin typeface="Times New Roman"/>
              </a:rPr>
              <a:t>Лазеры применяю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кже для</a:t>
            </a:r>
            <a:r>
              <a:rPr b="1" lang="ru-RU" sz="2400" spc="-1" strike="noStrike">
                <a:solidFill>
                  <a:srgbClr val="ffffe1"/>
                </a:solidFill>
                <a:latin typeface="Times New Roman"/>
              </a:rPr>
              <a:t> топографической съемки, потом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луч лазера</a:t>
            </a:r>
            <a:r>
              <a:rPr b="1" lang="ru-RU" sz="2400" spc="-1" strike="noStrike">
                <a:solidFill>
                  <a:srgbClr val="ffffe1"/>
                </a:solidFill>
                <a:latin typeface="Times New Roman"/>
              </a:rPr>
              <a:t> задает идеальную прямую линию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правление</a:t>
            </a:r>
            <a:r>
              <a:rPr b="1" lang="ru-RU" sz="2400" spc="-1" strike="noStrike">
                <a:solidFill>
                  <a:srgbClr val="ffffe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ннеля</a:t>
            </a:r>
            <a:r>
              <a:rPr b="1" lang="ru-RU" sz="2400" spc="-1" strike="noStrike">
                <a:solidFill>
                  <a:srgbClr val="ffffe1"/>
                </a:solidFill>
                <a:latin typeface="Times New Roman"/>
              </a:rPr>
              <a:t> под проливом Ла-Манш задавалось лазерным лучом. С помощью лазерного излучения получаются голографические трехмерные объемные изображения.</a:t>
            </a:r>
            <a:br>
              <a:rPr sz="2400"/>
            </a:br>
            <a:r>
              <a:rPr b="1" lang="ru-RU" sz="2400" spc="-1" strike="noStrike">
                <a:solidFill>
                  <a:srgbClr val="ffffe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13:04:32Z</dcterms:created>
  <dc:creator>Natalia</dc:creator>
  <dc:description/>
  <dc:language>en-US</dc:language>
  <cp:lastModifiedBy>Natalia</cp:lastModifiedBy>
  <dcterms:modified xsi:type="dcterms:W3CDTF">2013-03-06T13:15:21Z</dcterms:modified>
  <cp:revision>4</cp:revision>
  <dc:subject/>
  <dc:title>Лазер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