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01D6-C3B2-4AE1-BDE5-D147C09A0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D3B7-44E0-4459-B863-074B329D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C4B4-3756-45DD-95D4-B2A522C86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5CE3-9B2E-41A2-9AED-A513CBA88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24CB-5B0B-4277-AC49-69C570F0F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4FDE-6EA5-4EE2-BECC-066B6393E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4B6C-6FBA-4F04-B0DB-676FC234C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E291-6CDA-4196-ACC8-388D7A35A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CF8A-65F4-4AF6-8AEF-774953A6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0B02-5585-49B2-8B3F-04C67BA4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91B3-F59C-4FC9-9C18-FD2105D4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DEAD-3F79-4139-B6AF-2395D2EF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26E91-A25D-46F5-9E94-8C187CD6B2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1071720" y="2000160"/>
            <a:ext cx="7358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ЛА ТО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0" y="642960"/>
            <a:ext cx="914400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3"/>
          <p:cNvSpPr/>
          <p:nvPr/>
        </p:nvSpPr>
        <p:spPr>
          <a:xfrm>
            <a:off x="0" y="0"/>
            <a:ext cx="9144000" cy="33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пределите силу тока в следующей ситуа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ние №5. 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 0,5 часа работы пылесоса через его электромотор прошло 900 Кл электрического заря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19"/>
          <p:cNvSpPr/>
          <p:nvPr/>
        </p:nvSpPr>
        <p:spPr>
          <a:xfrm>
            <a:off x="0" y="3143160"/>
            <a:ext cx="8929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ние №6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рез водный раствор медного купороса за 2  часа прошло 72 Кулона электрического заряда. На отрицательном электроде выделилось при этом 13,6 г ме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0" y="642960"/>
            <a:ext cx="914400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"/>
          <p:cNvSpPr/>
          <p:nvPr/>
        </p:nvSpPr>
        <p:spPr>
          <a:xfrm>
            <a:off x="0" y="30744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 выпол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ить проводник по которому проходит электрический т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ь электрический заряд, проходящий через этот провод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ь время, за которое электрический заряд проходит через провод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читать силу тока в проводни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0" y="642960"/>
            <a:ext cx="914400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3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шение заданий №4, 5,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95880" y="1428840"/>
          <a:ext cx="3048120" cy="3390840"/>
        </p:xfrm>
        <a:graphic>
          <a:graphicData uri="http://schemas.openxmlformats.org/drawingml/2006/table">
            <a:tbl>
              <a:tblPr/>
              <a:tblGrid>
                <a:gridCol w="3048120"/>
              </a:tblGrid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итуация 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9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ный раствор медного купоро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6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 К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часа = 3600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:3600 = 0,002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0" y="1428840"/>
          <a:ext cx="3048120" cy="3389400"/>
        </p:xfrm>
        <a:graphic>
          <a:graphicData uri="http://schemas.openxmlformats.org/drawingml/2006/table">
            <a:tbl>
              <a:tblPr/>
              <a:tblGrid>
                <a:gridCol w="3048120"/>
              </a:tblGrid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итуация 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9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од телевиз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61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0 К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8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мин = 600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9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0:600 = 1,2 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3071880" y="1428840"/>
          <a:ext cx="3047760" cy="3389400"/>
        </p:xfrm>
        <a:graphic>
          <a:graphicData uri="http://schemas.openxmlformats.org/drawingml/2006/table">
            <a:tbl>
              <a:tblPr/>
              <a:tblGrid>
                <a:gridCol w="3047760"/>
              </a:tblGrid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итуация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9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ектромотор пылесо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6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 К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 часа = 1800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:1800 = 0,5 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2"/>
          <p:cNvSpPr/>
          <p:nvPr/>
        </p:nvSpPr>
        <p:spPr>
          <a:xfrm>
            <a:off x="1000080" y="785880"/>
            <a:ext cx="7215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Сила</a:t>
            </a: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тока </a:t>
            </a: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I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равна отношению электрического заряда</a:t>
            </a: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 q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, прошедшего через поперечное сечение проводника, ко времени его прохождения </a:t>
            </a: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Baskerville Old Fac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2" descr=""/>
          <p:cNvPicPr/>
          <p:nvPr/>
        </p:nvPicPr>
        <p:blipFill>
          <a:blip r:embed="rId1">
            <a:grayscl/>
          </a:blip>
          <a:srcRect l="29108" t="51709" r="64756" b="38697"/>
          <a:stretch/>
        </p:blipFill>
        <p:spPr>
          <a:xfrm>
            <a:off x="3714840" y="3786120"/>
            <a:ext cx="22860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0" y="65664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 силу тока в следующих ситуациях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0" y="642960"/>
            <a:ext cx="914400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"/>
          <p:cNvSpPr/>
          <p:nvPr/>
        </p:nvSpPr>
        <p:spPr>
          <a:xfrm>
            <a:off x="0" y="58860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 силу тока в следующих ситуац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За 10 секунд через катушку гальванометра проходит 1 Кл электрического заряд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0" y="642960"/>
            <a:ext cx="914400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"/>
          <p:cNvSpPr/>
          <p:nvPr/>
        </p:nvSpPr>
        <p:spPr>
          <a:xfrm>
            <a:off x="0" y="30744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 выпол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ить проводник по которому проходит электрический т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ь электрический заряд, проходящий через этот провод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ь время, за которое электрический заряд проходит через провод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читать силу тока в проводни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0" y="642960"/>
            <a:ext cx="914400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3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пределите силу тока в следующей ситуа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ние №1. 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 10 секунд через катушку гальванометра проходит 1 Кл электрич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6"/>
          <p:cNvSpPr/>
          <p:nvPr/>
        </p:nvSpPr>
        <p:spPr>
          <a:xfrm>
            <a:off x="0" y="2071800"/>
            <a:ext cx="5357880" cy="82548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Выделить проводник по которому проходит электрический 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8"/>
          <p:cNvSpPr/>
          <p:nvPr/>
        </p:nvSpPr>
        <p:spPr>
          <a:xfrm>
            <a:off x="5606280" y="2071800"/>
            <a:ext cx="3532320" cy="4597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катушка гальваноме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2"/>
          <p:cNvSpPr/>
          <p:nvPr/>
        </p:nvSpPr>
        <p:spPr>
          <a:xfrm>
            <a:off x="0" y="3000240"/>
            <a:ext cx="5357880" cy="82548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Определить электрический заряд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проходящий через этот провод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3"/>
          <p:cNvSpPr/>
          <p:nvPr/>
        </p:nvSpPr>
        <p:spPr>
          <a:xfrm>
            <a:off x="6863760" y="3143160"/>
            <a:ext cx="1018800" cy="4597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1К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4"/>
          <p:cNvSpPr/>
          <p:nvPr/>
        </p:nvSpPr>
        <p:spPr>
          <a:xfrm>
            <a:off x="0" y="3929040"/>
            <a:ext cx="5429160" cy="119124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Определите время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, за которое электрический заряд проходит через провод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5"/>
          <p:cNvSpPr/>
          <p:nvPr/>
        </p:nvSpPr>
        <p:spPr>
          <a:xfrm>
            <a:off x="6863760" y="4000680"/>
            <a:ext cx="1028160" cy="4597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10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7"/>
          <p:cNvSpPr/>
          <p:nvPr/>
        </p:nvSpPr>
        <p:spPr>
          <a:xfrm>
            <a:off x="0" y="5429160"/>
            <a:ext cx="5357880" cy="82548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Рассчитайте значение периода по формул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8"/>
          <p:cNvSpPr/>
          <p:nvPr/>
        </p:nvSpPr>
        <p:spPr>
          <a:xfrm>
            <a:off x="6906600" y="5500800"/>
            <a:ext cx="2055240" cy="4597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1/10 = 0,1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20"/>
          <p:cNvSpPr/>
          <p:nvPr/>
        </p:nvSpPr>
        <p:spPr>
          <a:xfrm>
            <a:off x="511920" y="1500120"/>
            <a:ext cx="2855520" cy="45972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пособ выпол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21"/>
          <p:cNvSpPr/>
          <p:nvPr/>
        </p:nvSpPr>
        <p:spPr>
          <a:xfrm>
            <a:off x="5660640" y="1428840"/>
            <a:ext cx="3202920" cy="45972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ешение ситуации №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5" descr=""/>
          <p:cNvPicPr/>
          <p:nvPr/>
        </p:nvPicPr>
        <p:blipFill>
          <a:blip r:embed="rId1"/>
          <a:stretch/>
        </p:blipFill>
        <p:spPr>
          <a:xfrm>
            <a:off x="2139840" y="5851440"/>
            <a:ext cx="1011240" cy="798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" descr=""/>
          <p:cNvPicPr/>
          <p:nvPr/>
        </p:nvPicPr>
        <p:blipFill>
          <a:blip r:embed="rId2"/>
          <a:srcRect l="48930" t="53083" r="43006" b="39555"/>
          <a:stretch/>
        </p:blipFill>
        <p:spPr>
          <a:xfrm>
            <a:off x="0" y="0"/>
            <a:ext cx="473040" cy="32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0" y="642960"/>
            <a:ext cx="914400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3"/>
          <p:cNvSpPr/>
          <p:nvPr/>
        </p:nvSpPr>
        <p:spPr>
          <a:xfrm>
            <a:off x="0" y="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пределите силу тока в следующей ситуа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ние №2. </a:t>
            </a:r>
            <a:r>
              <a:rPr b="1" i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Через электрическую лампу за 10 мин проходит 300 Кл электрического заря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6"/>
          <p:cNvSpPr/>
          <p:nvPr/>
        </p:nvSpPr>
        <p:spPr>
          <a:xfrm>
            <a:off x="0" y="2071800"/>
            <a:ext cx="5357880" cy="82548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Выделить проводник по которому проходит электрический 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8"/>
          <p:cNvSpPr/>
          <p:nvPr/>
        </p:nvSpPr>
        <p:spPr>
          <a:xfrm>
            <a:off x="5798520" y="2214720"/>
            <a:ext cx="3056760" cy="4597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Нить электролам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2"/>
          <p:cNvSpPr/>
          <p:nvPr/>
        </p:nvSpPr>
        <p:spPr>
          <a:xfrm>
            <a:off x="0" y="3000240"/>
            <a:ext cx="5357880" cy="82548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Определить электрический заряд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проходящий через этот провод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13"/>
          <p:cNvSpPr/>
          <p:nvPr/>
        </p:nvSpPr>
        <p:spPr>
          <a:xfrm>
            <a:off x="6293880" y="3143160"/>
            <a:ext cx="1323720" cy="4597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300К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14"/>
          <p:cNvSpPr/>
          <p:nvPr/>
        </p:nvSpPr>
        <p:spPr>
          <a:xfrm>
            <a:off x="0" y="3929040"/>
            <a:ext cx="5429160" cy="119124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Определите время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, за которое электрический заряд проходит через провод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5"/>
          <p:cNvSpPr/>
          <p:nvPr/>
        </p:nvSpPr>
        <p:spPr>
          <a:xfrm>
            <a:off x="6298920" y="4071960"/>
            <a:ext cx="2329560" cy="4597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10 мин = 600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7"/>
          <p:cNvSpPr/>
          <p:nvPr/>
        </p:nvSpPr>
        <p:spPr>
          <a:xfrm>
            <a:off x="0" y="5429160"/>
            <a:ext cx="5357880" cy="82548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Рассчитайте значение периода по формул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8"/>
          <p:cNvSpPr/>
          <p:nvPr/>
        </p:nvSpPr>
        <p:spPr>
          <a:xfrm>
            <a:off x="6298560" y="5500800"/>
            <a:ext cx="2360160" cy="4597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300/600=0,5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20"/>
          <p:cNvSpPr/>
          <p:nvPr/>
        </p:nvSpPr>
        <p:spPr>
          <a:xfrm>
            <a:off x="511920" y="1500120"/>
            <a:ext cx="2855520" cy="45972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пособ выпол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21"/>
          <p:cNvSpPr/>
          <p:nvPr/>
        </p:nvSpPr>
        <p:spPr>
          <a:xfrm>
            <a:off x="5660640" y="1428840"/>
            <a:ext cx="3202920" cy="45972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ешение ситуации №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5" descr=""/>
          <p:cNvPicPr/>
          <p:nvPr/>
        </p:nvPicPr>
        <p:blipFill>
          <a:blip r:embed="rId1"/>
          <a:stretch/>
        </p:blipFill>
        <p:spPr>
          <a:xfrm>
            <a:off x="2139840" y="5851440"/>
            <a:ext cx="1011240" cy="7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0" y="642960"/>
            <a:ext cx="914400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3"/>
          <p:cNvSpPr/>
          <p:nvPr/>
        </p:nvSpPr>
        <p:spPr>
          <a:xfrm>
            <a:off x="0" y="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пределите силу тока в следующей ситуа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ние №3.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лектроскоп заряжен положительно. Его заряд составляет 16</a:t>
            </a:r>
            <a:r>
              <a:rPr b="1" i="1" lang="ru-RU" sz="24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-19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л. На шарик электроскопа положили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таллическую палоч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6"/>
          <p:cNvSpPr/>
          <p:nvPr/>
        </p:nvSpPr>
        <p:spPr>
          <a:xfrm>
            <a:off x="0" y="2071800"/>
            <a:ext cx="5357880" cy="82548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Выделить проводник по которому проходит электрический 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8"/>
          <p:cNvSpPr/>
          <p:nvPr/>
        </p:nvSpPr>
        <p:spPr>
          <a:xfrm>
            <a:off x="5643720" y="2071800"/>
            <a:ext cx="3500280" cy="82548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Шарик электроскопа и металлическая пал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12"/>
          <p:cNvSpPr/>
          <p:nvPr/>
        </p:nvSpPr>
        <p:spPr>
          <a:xfrm>
            <a:off x="0" y="3000240"/>
            <a:ext cx="5357880" cy="82548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Определить электрический заряд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проходящий через этот провод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13"/>
          <p:cNvSpPr/>
          <p:nvPr/>
        </p:nvSpPr>
        <p:spPr>
          <a:xfrm>
            <a:off x="6715080" y="3000240"/>
            <a:ext cx="1440000" cy="4597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9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14"/>
          <p:cNvSpPr/>
          <p:nvPr/>
        </p:nvSpPr>
        <p:spPr>
          <a:xfrm>
            <a:off x="0" y="3929040"/>
            <a:ext cx="5429160" cy="119124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Определите время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, за которое электрический заряд проходит через провод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15"/>
          <p:cNvSpPr/>
          <p:nvPr/>
        </p:nvSpPr>
        <p:spPr>
          <a:xfrm>
            <a:off x="6861600" y="4000680"/>
            <a:ext cx="646920" cy="4597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17"/>
          <p:cNvSpPr/>
          <p:nvPr/>
        </p:nvSpPr>
        <p:spPr>
          <a:xfrm>
            <a:off x="0" y="5429160"/>
            <a:ext cx="5357880" cy="82548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Рассчитайте значение периода по формул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18"/>
          <p:cNvSpPr/>
          <p:nvPr/>
        </p:nvSpPr>
        <p:spPr>
          <a:xfrm>
            <a:off x="6861600" y="5500800"/>
            <a:ext cx="646920" cy="4597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20"/>
          <p:cNvSpPr/>
          <p:nvPr/>
        </p:nvSpPr>
        <p:spPr>
          <a:xfrm>
            <a:off x="511920" y="1643040"/>
            <a:ext cx="2855520" cy="45972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пособ выпол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21"/>
          <p:cNvSpPr/>
          <p:nvPr/>
        </p:nvSpPr>
        <p:spPr>
          <a:xfrm>
            <a:off x="5660640" y="1571760"/>
            <a:ext cx="3202920" cy="45972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ешение ситуации №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5" descr=""/>
          <p:cNvPicPr/>
          <p:nvPr/>
        </p:nvPicPr>
        <p:blipFill>
          <a:blip r:embed="rId1"/>
          <a:stretch/>
        </p:blipFill>
        <p:spPr>
          <a:xfrm>
            <a:off x="2139840" y="5851440"/>
            <a:ext cx="1011240" cy="7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0" y="642960"/>
            <a:ext cx="914400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6"/>
          <p:cNvSpPr/>
          <p:nvPr/>
        </p:nvSpPr>
        <p:spPr>
          <a:xfrm>
            <a:off x="0" y="2071800"/>
            <a:ext cx="5357880" cy="82548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Выделить проводник по которому проходит электрический 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8"/>
          <p:cNvSpPr/>
          <p:nvPr/>
        </p:nvSpPr>
        <p:spPr>
          <a:xfrm>
            <a:off x="5643720" y="2071800"/>
            <a:ext cx="3500280" cy="4597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Провод телевиз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2"/>
          <p:cNvSpPr/>
          <p:nvPr/>
        </p:nvSpPr>
        <p:spPr>
          <a:xfrm>
            <a:off x="0" y="3000240"/>
            <a:ext cx="5357880" cy="82548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Определить электрический заряд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проходящий через этот провод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13"/>
          <p:cNvSpPr/>
          <p:nvPr/>
        </p:nvSpPr>
        <p:spPr>
          <a:xfrm>
            <a:off x="5643720" y="3000240"/>
            <a:ext cx="1439640" cy="4597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720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4"/>
          <p:cNvSpPr/>
          <p:nvPr/>
        </p:nvSpPr>
        <p:spPr>
          <a:xfrm>
            <a:off x="0" y="3929040"/>
            <a:ext cx="5429160" cy="119124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Определите время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, за которое электрический заряд проходит через провод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5"/>
          <p:cNvSpPr/>
          <p:nvPr/>
        </p:nvSpPr>
        <p:spPr>
          <a:xfrm>
            <a:off x="5655960" y="4000680"/>
            <a:ext cx="2405880" cy="4597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10 мин = 600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17"/>
          <p:cNvSpPr/>
          <p:nvPr/>
        </p:nvSpPr>
        <p:spPr>
          <a:xfrm>
            <a:off x="0" y="5429160"/>
            <a:ext cx="5357880" cy="82548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Рассчитайте значение периода по формул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18"/>
          <p:cNvSpPr/>
          <p:nvPr/>
        </p:nvSpPr>
        <p:spPr>
          <a:xfrm>
            <a:off x="5727960" y="5500800"/>
            <a:ext cx="2512440" cy="4597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720/600 = 1,2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20"/>
          <p:cNvSpPr/>
          <p:nvPr/>
        </p:nvSpPr>
        <p:spPr>
          <a:xfrm>
            <a:off x="516960" y="1643040"/>
            <a:ext cx="2971080" cy="45972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 выпол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21"/>
          <p:cNvSpPr/>
          <p:nvPr/>
        </p:nvSpPr>
        <p:spPr>
          <a:xfrm>
            <a:off x="5655960" y="1571760"/>
            <a:ext cx="3283560" cy="45972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ситуации №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5" descr=""/>
          <p:cNvPicPr/>
          <p:nvPr/>
        </p:nvPicPr>
        <p:blipFill>
          <a:blip r:embed="rId1"/>
          <a:stretch/>
        </p:blipFill>
        <p:spPr>
          <a:xfrm>
            <a:off x="2139840" y="5851440"/>
            <a:ext cx="1011240" cy="79848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19"/>
          <p:cNvSpPr/>
          <p:nvPr/>
        </p:nvSpPr>
        <p:spPr>
          <a:xfrm>
            <a:off x="0" y="0"/>
            <a:ext cx="9144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пределите силу тока в следующей ситуа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ние №4.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 время передачи «Спокойной ночи малыши»(10  мин) через включенный в розетку провод телевизора проходит 720 Кл электрического заря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p9</cp:lastModifiedBy>
  <dcterms:modified xsi:type="dcterms:W3CDTF">2010-01-28T08:03:48Z</dcterms:modified>
  <cp:revision>37</cp:revision>
  <dc:subject/>
  <dc:title>Слайд 1</dc:title>
</cp:coreProperties>
</file>